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6E6A4-52B3-4CDB-A03A-A8CA05CA79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B8A0D-9626-4A88-9AAB-74917DCB8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7DF12-3C78-434C-B0DD-79B87AA76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06064-BD88-4F35-8131-8E5233B06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B75CC-7C62-48CD-8E68-4BD2BC393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24ED8-CB6B-4DBD-BE78-3B630B69C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852AC-3C20-40D1-B6E9-C36E1C5B59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7B2E3-D6B4-4B2E-ACC1-89B477D64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3CAD9-F9A4-4E08-8871-855225E97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A6C9A-C218-4E6A-9BAC-14BD56F64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6373B-BFA3-4191-A264-E79A8B5B2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814CE-5A57-40F3-83E2-77ED19C2F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3C9-EF71-4C98-989E-F7A01053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211-863C-4B82-9345-FE179C1C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803-EEAD-4F23-932C-C457CB25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526-A1DB-470A-B218-38438DDB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8D1-F631-4F04-8233-0133B29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83E-AAE4-4073-8B8C-FAC42B71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AB6-B39E-4B38-8F7B-4E1516E5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588-23CB-4FE9-A154-4B62F1B1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A9D-5105-4445-9840-9B498A0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56B-F8B2-4468-AD2A-48E567F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97D-2966-4890-8BDD-030844D4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E46-D216-4201-9189-A36311D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1E007-423B-448B-BA18-5AB8A494EA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3E9C9-031E-497D-B390-D8B05502D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noxrepo.org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1.png"/><Relationship Id="rId48" Type="http://schemas.openxmlformats.org/officeDocument/2006/relationships/image" Target="../media/image11.png"/><Relationship Id="rId4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9360" y="2084040"/>
            <a:ext cx="7859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OpenFlow </a:t>
            </a:r>
            <a:br>
              <a:rPr sz="4800"/>
            </a:b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and </a:t>
            </a:r>
            <a:br>
              <a:rPr sz="4800"/>
            </a:b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Software Defined Networ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06120" y="2541240"/>
            <a:ext cx="734364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nly test network large enough to evaluate future Internet technologies at scale, is the Internet it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8"/>
          <p:cNvSpPr/>
          <p:nvPr/>
        </p:nvSpPr>
        <p:spPr>
          <a:xfrm>
            <a:off x="6207120" y="2617920"/>
            <a:ext cx="0" cy="1454040"/>
          </a:xfrm>
          <a:prstGeom prst="line">
            <a:avLst/>
          </a:prstGeom>
          <a:ln w="88920">
            <a:solidFill>
              <a:srgbClr val="ff7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917800" y="3159000"/>
            <a:ext cx="316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spAutoFit/>
          </a:bodyPr>
          <a:p>
            <a:pPr marL="414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Gill Sans"/>
              </a:rPr>
              <a:t>OpenFlow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"/>
          <p:cNvSpPr/>
          <p:nvPr/>
        </p:nvSpPr>
        <p:spPr>
          <a:xfrm>
            <a:off x="1828800" y="4071960"/>
            <a:ext cx="5364000" cy="1368360"/>
          </a:xfrm>
          <a:prstGeom prst="roundRect">
            <a:avLst>
              <a:gd name="adj" fmla="val 6486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996920" y="4846680"/>
            <a:ext cx="5008680" cy="476280"/>
          </a:xfrm>
          <a:prstGeom prst="roundRect">
            <a:avLst>
              <a:gd name="adj" fmla="val 8472"/>
            </a:avLst>
          </a:prstGeom>
          <a:solidFill>
            <a:srgbClr val="c8d2d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49"/>
                </a:solidFill>
                <a:latin typeface="Arial"/>
                <a:ea typeface="Gill Sans"/>
              </a:rPr>
              <a:t>Data Path (Hard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1996920" y="4184640"/>
            <a:ext cx="3489480" cy="468360"/>
          </a:xfrm>
          <a:prstGeom prst="roundRect">
            <a:avLst>
              <a:gd name="adj" fmla="val 6894"/>
            </a:avLst>
          </a:prstGeom>
          <a:solidFill>
            <a:srgbClr val="c8d2d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49"/>
                </a:solidFill>
                <a:latin typeface="Arial"/>
                <a:ea typeface="Gill Sans"/>
              </a:rPr>
              <a:t>Control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1944720" y="4751280"/>
            <a:ext cx="5138640" cy="7920"/>
          </a:xfrm>
          <a:prstGeom prst="line">
            <a:avLst/>
          </a:prstGeom>
          <a:ln w="38160">
            <a:solidFill>
              <a:srgbClr val="0019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5638680" y="4184640"/>
            <a:ext cx="1366920" cy="468360"/>
          </a:xfrm>
          <a:prstGeom prst="roundRect">
            <a:avLst>
              <a:gd name="adj" fmla="val 6894"/>
            </a:avLst>
          </a:prstGeom>
          <a:solidFill>
            <a:srgbClr val="c8d2d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49"/>
                </a:solidFill>
                <a:latin typeface="Arial"/>
                <a:ea typeface="Gill Sans"/>
              </a:rPr>
              <a:t>Open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1"/>
          <p:cNvGrpSpPr/>
          <p:nvPr/>
        </p:nvGrpSpPr>
        <p:grpSpPr>
          <a:xfrm>
            <a:off x="2917800" y="1270080"/>
            <a:ext cx="3794040" cy="1347840"/>
            <a:chOff x="2917800" y="1270080"/>
            <a:chExt cx="3794040" cy="1347840"/>
          </a:xfrm>
        </p:grpSpPr>
        <p:sp>
          <p:nvSpPr>
            <p:cNvPr id="109" name="Vinkel 31"/>
            <p:cNvSpPr/>
            <p:nvPr/>
          </p:nvSpPr>
          <p:spPr>
            <a:xfrm>
              <a:off x="2917800" y="1862280"/>
              <a:ext cx="3794040" cy="7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troller</a:t>
              </a:r>
              <a:br>
                <a:rPr sz="3200"/>
              </a:br>
              <a:r>
                <a:rPr b="1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(Server Softwar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Vinkel 50"/>
            <p:cNvSpPr/>
            <p:nvPr/>
          </p:nvSpPr>
          <p:spPr>
            <a:xfrm>
              <a:off x="4452840" y="1270080"/>
              <a:ext cx="63504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Vinkel 50"/>
            <p:cNvSpPr/>
            <p:nvPr/>
          </p:nvSpPr>
          <p:spPr>
            <a:xfrm>
              <a:off x="5219640" y="1270080"/>
              <a:ext cx="63504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Vinkel 50"/>
            <p:cNvSpPr/>
            <p:nvPr/>
          </p:nvSpPr>
          <p:spPr>
            <a:xfrm>
              <a:off x="5986440" y="1270080"/>
              <a:ext cx="63504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Group 57" descr=""/>
          <p:cNvPicPr/>
          <p:nvPr/>
        </p:nvPicPr>
        <p:blipFill>
          <a:blip r:embed="rId1"/>
          <a:stretch/>
        </p:blipFill>
        <p:spPr>
          <a:xfrm>
            <a:off x="1773360" y="4029120"/>
            <a:ext cx="5522760" cy="28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cing traff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4"/>
          <p:cNvSpPr/>
          <p:nvPr/>
        </p:nvSpPr>
        <p:spPr>
          <a:xfrm flipV="1">
            <a:off x="649440" y="2109600"/>
            <a:ext cx="7359480" cy="28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5"/>
          <p:cNvSpPr/>
          <p:nvPr/>
        </p:nvSpPr>
        <p:spPr>
          <a:xfrm flipV="1">
            <a:off x="649440" y="5729040"/>
            <a:ext cx="7359480" cy="28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663120" y="347976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etwork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4" descr=""/>
          <p:cNvPicPr/>
          <p:nvPr/>
        </p:nvPicPr>
        <p:blipFill>
          <a:blip r:embed="rId1"/>
          <a:stretch/>
        </p:blipFill>
        <p:spPr>
          <a:xfrm>
            <a:off x="4260960" y="2109960"/>
            <a:ext cx="3803400" cy="17856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25"/>
          <p:cNvGrpSpPr/>
          <p:nvPr/>
        </p:nvGrpSpPr>
        <p:grpSpPr>
          <a:xfrm>
            <a:off x="4314960" y="3809880"/>
            <a:ext cx="3693960" cy="1919520"/>
            <a:chOff x="4314960" y="3809880"/>
            <a:chExt cx="3693960" cy="1919520"/>
          </a:xfrm>
        </p:grpSpPr>
        <p:grpSp>
          <p:nvGrpSpPr>
            <p:cNvPr id="120" name="Group 25"/>
            <p:cNvGrpSpPr/>
            <p:nvPr/>
          </p:nvGrpSpPr>
          <p:grpSpPr>
            <a:xfrm>
              <a:off x="4314960" y="3809880"/>
              <a:ext cx="3693960" cy="1919520"/>
              <a:chOff x="4314960" y="3809880"/>
              <a:chExt cx="3693960" cy="1919520"/>
            </a:xfrm>
          </p:grpSpPr>
          <p:sp>
            <p:nvSpPr>
              <p:cNvPr id="121" name="Rectangle 19"/>
              <p:cNvSpPr/>
              <p:nvPr/>
            </p:nvSpPr>
            <p:spPr>
              <a:xfrm>
                <a:off x="4314960" y="3809880"/>
                <a:ext cx="3693960" cy="1919520"/>
              </a:xfrm>
              <a:prstGeom prst="rect">
                <a:avLst/>
              </a:prstGeom>
              <a:solidFill>
                <a:srgbClr val="d99694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12"/>
              <p:cNvSpPr/>
              <p:nvPr/>
            </p:nvSpPr>
            <p:spPr>
              <a:xfrm>
                <a:off x="4370400" y="4286160"/>
                <a:ext cx="148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raff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26"/>
            <p:cNvGrpSpPr/>
            <p:nvPr/>
          </p:nvGrpSpPr>
          <p:grpSpPr>
            <a:xfrm>
              <a:off x="5910480" y="3903480"/>
              <a:ext cx="2098440" cy="1720080"/>
              <a:chOff x="5910480" y="3903480"/>
              <a:chExt cx="2098440" cy="1720080"/>
            </a:xfrm>
          </p:grpSpPr>
          <p:sp>
            <p:nvSpPr>
              <p:cNvPr id="124" name="Straight Connector 14"/>
              <p:cNvSpPr/>
              <p:nvPr/>
            </p:nvSpPr>
            <p:spPr>
              <a:xfrm>
                <a:off x="5910480" y="4286160"/>
                <a:ext cx="2098440" cy="1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traight Connector 16"/>
              <p:cNvSpPr/>
              <p:nvPr/>
            </p:nvSpPr>
            <p:spPr>
              <a:xfrm>
                <a:off x="5910480" y="4761000"/>
                <a:ext cx="2098440" cy="1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Straight Connector 17"/>
              <p:cNvSpPr/>
              <p:nvPr/>
            </p:nvSpPr>
            <p:spPr>
              <a:xfrm>
                <a:off x="5910480" y="5235840"/>
                <a:ext cx="2098440" cy="1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Box 20"/>
              <p:cNvSpPr/>
              <p:nvPr/>
            </p:nvSpPr>
            <p:spPr>
              <a:xfrm>
                <a:off x="6147720" y="3903480"/>
                <a:ext cx="165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periment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Box 21"/>
              <p:cNvSpPr/>
              <p:nvPr/>
            </p:nvSpPr>
            <p:spPr>
              <a:xfrm>
                <a:off x="6156000" y="4315680"/>
                <a:ext cx="165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periment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22"/>
              <p:cNvSpPr/>
              <p:nvPr/>
            </p:nvSpPr>
            <p:spPr>
              <a:xfrm>
                <a:off x="6156360" y="47854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23"/>
              <p:cNvSpPr/>
              <p:nvPr/>
            </p:nvSpPr>
            <p:spPr>
              <a:xfrm>
                <a:off x="6171480" y="5255280"/>
                <a:ext cx="156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periment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Flow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0" descr=""/>
          <p:cNvPicPr/>
          <p:nvPr/>
        </p:nvPicPr>
        <p:blipFill>
          <a:blip r:embed="rId1"/>
          <a:stretch/>
        </p:blipFill>
        <p:spPr>
          <a:xfrm>
            <a:off x="1071720" y="254808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33" name="Line 16"/>
          <p:cNvSpPr/>
          <p:nvPr/>
        </p:nvSpPr>
        <p:spPr>
          <a:xfrm flipV="1">
            <a:off x="4181400" y="3504960"/>
            <a:ext cx="1752840" cy="10666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4105440" y="4876920"/>
            <a:ext cx="990360" cy="12952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5477040" y="4876560"/>
            <a:ext cx="1295280" cy="114300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5934240" y="3657600"/>
            <a:ext cx="761760" cy="99072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486320" y="4952880"/>
            <a:ext cx="1905120" cy="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23"/>
          <p:cNvCxnSpPr/>
          <p:nvPr/>
        </p:nvCxnSpPr>
        <p:spPr>
          <a:xfrm>
            <a:off x="2342880" y="3161880"/>
            <a:ext cx="1762920" cy="125820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cxnSp>
        <p:nvCxnSpPr>
          <p:cNvPr id="139" name="AutoShape 24"/>
          <p:cNvCxnSpPr/>
          <p:nvPr/>
        </p:nvCxnSpPr>
        <p:spPr>
          <a:xfrm>
            <a:off x="2342880" y="3161880"/>
            <a:ext cx="3896280" cy="163908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cxnSp>
        <p:nvCxnSpPr>
          <p:cNvPr id="140" name="AutoShape 25"/>
          <p:cNvCxnSpPr/>
          <p:nvPr/>
        </p:nvCxnSpPr>
        <p:spPr>
          <a:xfrm>
            <a:off x="2343240" y="3161880"/>
            <a:ext cx="2905560" cy="26712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cxnSp>
        <p:nvCxnSpPr>
          <p:cNvPr id="141" name="AutoShape 26"/>
          <p:cNvCxnSpPr/>
          <p:nvPr/>
        </p:nvCxnSpPr>
        <p:spPr>
          <a:xfrm>
            <a:off x="2342880" y="3162240"/>
            <a:ext cx="2220120" cy="316296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sp>
        <p:nvSpPr>
          <p:cNvPr id="142" name="Text Box 30"/>
          <p:cNvSpPr/>
          <p:nvPr/>
        </p:nvSpPr>
        <p:spPr>
          <a:xfrm>
            <a:off x="1809720" y="2147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1"/>
          <p:cNvGrpSpPr/>
          <p:nvPr/>
        </p:nvGrpSpPr>
        <p:grpSpPr>
          <a:xfrm>
            <a:off x="1368000" y="1614600"/>
            <a:ext cx="2487960" cy="976320"/>
            <a:chOff x="1368000" y="1614600"/>
            <a:chExt cx="2487960" cy="976320"/>
          </a:xfrm>
        </p:grpSpPr>
        <p:sp>
          <p:nvSpPr>
            <p:cNvPr id="144" name="Freeform 31"/>
            <p:cNvSpPr/>
            <p:nvPr/>
          </p:nvSpPr>
          <p:spPr>
            <a:xfrm>
              <a:off x="1657080" y="1981440"/>
              <a:ext cx="685800" cy="6094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2"/>
            <p:cNvSpPr/>
            <p:nvPr/>
          </p:nvSpPr>
          <p:spPr>
            <a:xfrm>
              <a:off x="1368000" y="1614600"/>
              <a:ext cx="248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arch Experi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: 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Separate Control from Datapa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724200" y="4267080"/>
            <a:ext cx="1371600" cy="76212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105440" y="5943600"/>
            <a:ext cx="1371600" cy="76212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791240" y="3048120"/>
            <a:ext cx="1371600" cy="76176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5934240" y="4648320"/>
            <a:ext cx="1371600" cy="76176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0" descr=""/>
          <p:cNvPicPr/>
          <p:nvPr/>
        </p:nvPicPr>
        <p:blipFill>
          <a:blip r:embed="rId1"/>
          <a:stretch/>
        </p:blipFill>
        <p:spPr>
          <a:xfrm>
            <a:off x="1071720" y="254808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52" name="Line 16"/>
          <p:cNvSpPr/>
          <p:nvPr/>
        </p:nvSpPr>
        <p:spPr>
          <a:xfrm flipV="1">
            <a:off x="4181400" y="3504960"/>
            <a:ext cx="1752840" cy="10666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4105440" y="4876920"/>
            <a:ext cx="990360" cy="12952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5477040" y="4876560"/>
            <a:ext cx="1295280" cy="114300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934240" y="3657600"/>
            <a:ext cx="761760" cy="99072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4486320" y="4952880"/>
            <a:ext cx="1905120" cy="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23"/>
          <p:cNvCxnSpPr/>
          <p:nvPr/>
        </p:nvCxnSpPr>
        <p:spPr>
          <a:xfrm>
            <a:off x="2342880" y="3161880"/>
            <a:ext cx="1762920" cy="125820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cxnSp>
        <p:nvCxnSpPr>
          <p:cNvPr id="158" name="AutoShape 24"/>
          <p:cNvCxnSpPr/>
          <p:nvPr/>
        </p:nvCxnSpPr>
        <p:spPr>
          <a:xfrm>
            <a:off x="2342880" y="3161880"/>
            <a:ext cx="3896280" cy="163908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cxnSp>
        <p:nvCxnSpPr>
          <p:cNvPr id="159" name="AutoShape 25"/>
          <p:cNvCxnSpPr/>
          <p:nvPr/>
        </p:nvCxnSpPr>
        <p:spPr>
          <a:xfrm>
            <a:off x="2343240" y="3161880"/>
            <a:ext cx="2905560" cy="26712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cxnSp>
        <p:nvCxnSpPr>
          <p:cNvPr id="160" name="AutoShape 26"/>
          <p:cNvCxnSpPr/>
          <p:nvPr/>
        </p:nvCxnSpPr>
        <p:spPr>
          <a:xfrm>
            <a:off x="2342880" y="3162240"/>
            <a:ext cx="2220120" cy="3162960"/>
          </a:xfrm>
          <a:prstGeom prst="straightConnector1">
            <a:avLst/>
          </a:prstGeom>
          <a:ln cap="rnd" w="38160">
            <a:solidFill>
              <a:srgbClr val="ff6633"/>
            </a:solidFill>
            <a:custDash>
              <a:ds d="100000" sp="1000"/>
            </a:custDash>
            <a:miter/>
          </a:ln>
        </p:spPr>
      </p:cxnSp>
      <p:sp>
        <p:nvSpPr>
          <p:cNvPr id="161" name="Text Box 30"/>
          <p:cNvSpPr/>
          <p:nvPr/>
        </p:nvSpPr>
        <p:spPr>
          <a:xfrm>
            <a:off x="1809720" y="2147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Cache flow decisions in datap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724200" y="4267080"/>
            <a:ext cx="1371600" cy="76212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4105440" y="5943600"/>
            <a:ext cx="1371600" cy="76212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4791240" y="3048120"/>
            <a:ext cx="1371600" cy="76176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934240" y="4648320"/>
            <a:ext cx="1371600" cy="76176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2456640" y="167652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 to port 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5"/>
          <p:cNvSpPr/>
          <p:nvPr/>
        </p:nvSpPr>
        <p:spPr>
          <a:xfrm>
            <a:off x="2454840" y="22860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eader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 to 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2471040" y="1981080"/>
            <a:ext cx="59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eader 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verwrite header with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 to ports 5,6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7"/>
          <p:cNvSpPr/>
          <p:nvPr/>
        </p:nvSpPr>
        <p:spPr>
          <a:xfrm>
            <a:off x="2306520" y="2690640"/>
            <a:ext cx="2732040" cy="62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lg" type="triangle" w="lg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5068800" y="2743200"/>
            <a:ext cx="838440" cy="1143000"/>
          </a:xfrm>
          <a:prstGeom prst="rect">
            <a:avLst/>
          </a:prstGeom>
          <a:gradFill rotWithShape="0">
            <a:gsLst>
              <a:gs pos="0">
                <a:srgbClr val="e6b9b8"/>
              </a:gs>
              <a:gs pos="100000">
                <a:srgbClr val="95373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 Primitives</a:t>
            </a:r>
            <a:br>
              <a:rPr sz="4400"/>
            </a:b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&lt;</a:t>
            </a:r>
            <a:r>
              <a:rPr b="0" i="1" lang="en-US" sz="3600" spc="-1" strike="noStrike">
                <a:solidFill>
                  <a:srgbClr val="1f497d"/>
                </a:solidFill>
                <a:latin typeface="Calibri"/>
              </a:rPr>
              <a:t>Match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3600" spc="-1" strike="noStrike">
                <a:solidFill>
                  <a:srgbClr val="1f497d"/>
                </a:solidFill>
                <a:latin typeface="Calibri"/>
              </a:rPr>
              <a:t>Action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03480" indent="-303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Mat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itrary bits in head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0160" indent="-23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ch on any header, or new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70160" indent="-23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any flow granu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0160" indent="-23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ward to port(s), drop, send to contro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70160" indent="-23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write header with mask, push or p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70160" indent="-23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ward at specific bit-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70160" indent="-23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70160" indent="-234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4F3A1-D679-4439-8934-1AAE983C5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27000" y="2349360"/>
            <a:ext cx="2800440" cy="57636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727440" y="2349360"/>
            <a:ext cx="4265640" cy="576360"/>
          </a:xfrm>
          <a:prstGeom prst="rect">
            <a:avLst/>
          </a:prstGeom>
          <a:solidFill>
            <a:srgbClr val="ccc1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959400" y="294336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ch: 1000x01xx010100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Forwarding Abs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ounded Rectangle 3"/>
          <p:cNvSpPr/>
          <p:nvPr/>
        </p:nvSpPr>
        <p:spPr>
          <a:xfrm>
            <a:off x="1943280" y="1666800"/>
            <a:ext cx="5224320" cy="1492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 set of prim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ing instruction s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4"/>
          <p:cNvSpPr/>
          <p:nvPr/>
        </p:nvSpPr>
        <p:spPr>
          <a:xfrm>
            <a:off x="1943280" y="3379680"/>
            <a:ext cx="5224320" cy="1490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rotocol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ackward 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5"/>
          <p:cNvSpPr/>
          <p:nvPr/>
        </p:nvSpPr>
        <p:spPr>
          <a:xfrm>
            <a:off x="1943280" y="5091120"/>
            <a:ext cx="5224320" cy="1490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witches, routers, WiFi APs, basestations, TDM/W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cing an OpenFlow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s to use sl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ounded Rectangle 3"/>
          <p:cNvSpPr/>
          <p:nvPr/>
        </p:nvSpPr>
        <p:spPr>
          <a:xfrm>
            <a:off x="1943280" y="1866960"/>
            <a:ext cx="5224320" cy="1490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lice by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lice by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943280" y="3776760"/>
            <a:ext cx="5224320" cy="23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ome-grow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ownload new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9160" y="16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story of Open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OpenFl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cing OpenFlow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Defined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y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lowvisor-gui-screen-shot.png"/>
          <p:cNvPicPr/>
          <p:nvPr/>
        </p:nvPicPr>
        <p:blipFill>
          <a:blip r:embed="rId1"/>
          <a:stretch/>
        </p:blipFill>
        <p:spPr>
          <a:xfrm>
            <a:off x="0" y="71136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Exampl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ee openflow.org/Resea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demo video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ader interest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volvabl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465120" y="3922560"/>
            <a:ext cx="1525680" cy="1309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ounded Rectangle 2"/>
          <p:cNvGrpSpPr/>
          <p:nvPr/>
        </p:nvGrpSpPr>
        <p:grpSpPr>
          <a:xfrm>
            <a:off x="506520" y="4687920"/>
            <a:ext cx="1450800" cy="530280"/>
            <a:chOff x="506520" y="4687920"/>
            <a:chExt cx="1450800" cy="530280"/>
          </a:xfrm>
        </p:grpSpPr>
        <p:pic>
          <p:nvPicPr>
            <p:cNvPr id="192" name="Rounded Rectangle 2" descr=""/>
            <p:cNvPicPr/>
            <p:nvPr/>
          </p:nvPicPr>
          <p:blipFill>
            <a:blip r:embed="rId1"/>
            <a:stretch/>
          </p:blipFill>
          <p:spPr>
            <a:xfrm>
              <a:off x="506520" y="4687920"/>
              <a:ext cx="1450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85720" y="4743360"/>
              <a:ext cx="12985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alibri"/>
                </a:rPr>
                <a:t>Specialized Packet Forwarding Hardw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54"/>
          <p:cNvGrpSpPr/>
          <p:nvPr/>
        </p:nvGrpSpPr>
        <p:grpSpPr>
          <a:xfrm>
            <a:off x="565200" y="3986280"/>
            <a:ext cx="1339920" cy="344520"/>
            <a:chOff x="565200" y="3986280"/>
            <a:chExt cx="1339920" cy="344520"/>
          </a:xfrm>
        </p:grpSpPr>
        <p:grpSp>
          <p:nvGrpSpPr>
            <p:cNvPr id="195" name="Rounded Rectangle 4"/>
            <p:cNvGrpSpPr/>
            <p:nvPr/>
          </p:nvGrpSpPr>
          <p:grpSpPr>
            <a:xfrm>
              <a:off x="565200" y="3986280"/>
              <a:ext cx="596880" cy="344520"/>
              <a:chOff x="565200" y="3986280"/>
              <a:chExt cx="596880" cy="344520"/>
            </a:xfrm>
          </p:grpSpPr>
          <p:pic>
            <p:nvPicPr>
              <p:cNvPr id="196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200" y="3986280"/>
                <a:ext cx="5968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635400" y="4025880"/>
                <a:ext cx="46188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Rounded Rectangle 6"/>
            <p:cNvGrpSpPr/>
            <p:nvPr/>
          </p:nvGrpSpPr>
          <p:grpSpPr>
            <a:xfrm>
              <a:off x="1342080" y="3986280"/>
              <a:ext cx="563040" cy="344520"/>
              <a:chOff x="1342080" y="3986280"/>
              <a:chExt cx="563040" cy="344520"/>
            </a:xfrm>
          </p:grpSpPr>
          <p:pic>
            <p:nvPicPr>
              <p:cNvPr id="199" name="Rounded Rectangl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2080" y="3986280"/>
                <a:ext cx="56304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1409400" y="4025880"/>
                <a:ext cx="43236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Straight Connector 7"/>
            <p:cNvSpPr/>
            <p:nvPr/>
          </p:nvSpPr>
          <p:spPr>
            <a:xfrm>
              <a:off x="1112400" y="4143960"/>
              <a:ext cx="281520" cy="1080"/>
            </a:xfrm>
            <a:prstGeom prst="line">
              <a:avLst/>
            </a:prstGeom>
            <a:ln w="25560">
              <a:solidFill>
                <a:srgbClr val="4f81bd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1"/>
          <p:cNvSpPr/>
          <p:nvPr/>
        </p:nvSpPr>
        <p:spPr>
          <a:xfrm>
            <a:off x="2887560" y="2647800"/>
            <a:ext cx="1525680" cy="1308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Rounded Rectangle 12"/>
          <p:cNvGrpSpPr/>
          <p:nvPr/>
        </p:nvGrpSpPr>
        <p:grpSpPr>
          <a:xfrm>
            <a:off x="2932200" y="3413160"/>
            <a:ext cx="1444680" cy="530280"/>
            <a:chOff x="2932200" y="3413160"/>
            <a:chExt cx="1444680" cy="530280"/>
          </a:xfrm>
        </p:grpSpPr>
        <p:pic>
          <p:nvPicPr>
            <p:cNvPr id="204" name="Rounded Rectangle 12" descr=""/>
            <p:cNvPicPr/>
            <p:nvPr/>
          </p:nvPicPr>
          <p:blipFill>
            <a:blip r:embed="rId4"/>
            <a:stretch/>
          </p:blipFill>
          <p:spPr>
            <a:xfrm>
              <a:off x="2932200" y="3413160"/>
              <a:ext cx="14446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008160" y="3468600"/>
              <a:ext cx="1298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alibri"/>
                </a:rPr>
                <a:t>Specialized Packet Forwarding Hardw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9"/>
          <p:cNvSpPr/>
          <p:nvPr/>
        </p:nvSpPr>
        <p:spPr>
          <a:xfrm>
            <a:off x="6616800" y="3243240"/>
            <a:ext cx="1525320" cy="1308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Rounded Rectangle 20"/>
          <p:cNvGrpSpPr/>
          <p:nvPr/>
        </p:nvGrpSpPr>
        <p:grpSpPr>
          <a:xfrm>
            <a:off x="6656400" y="4005360"/>
            <a:ext cx="1450800" cy="536400"/>
            <a:chOff x="6656400" y="4005360"/>
            <a:chExt cx="1450800" cy="536400"/>
          </a:xfrm>
        </p:grpSpPr>
        <p:pic>
          <p:nvPicPr>
            <p:cNvPr id="208" name="Rounded Rectangle 20" descr=""/>
            <p:cNvPicPr/>
            <p:nvPr/>
          </p:nvPicPr>
          <p:blipFill>
            <a:blip r:embed="rId5"/>
            <a:stretch/>
          </p:blipFill>
          <p:spPr>
            <a:xfrm>
              <a:off x="6656400" y="4005360"/>
              <a:ext cx="1450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737400" y="4064040"/>
              <a:ext cx="12985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alibri"/>
                </a:rPr>
                <a:t>Specialized Packet Forwarding Hardw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27"/>
          <p:cNvSpPr/>
          <p:nvPr/>
        </p:nvSpPr>
        <p:spPr>
          <a:xfrm>
            <a:off x="2292480" y="5338800"/>
            <a:ext cx="1525320" cy="1309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ounded Rectangle 28"/>
          <p:cNvGrpSpPr/>
          <p:nvPr/>
        </p:nvGrpSpPr>
        <p:grpSpPr>
          <a:xfrm>
            <a:off x="2335320" y="6102360"/>
            <a:ext cx="1450800" cy="530280"/>
            <a:chOff x="2335320" y="6102360"/>
            <a:chExt cx="1450800" cy="530280"/>
          </a:xfrm>
        </p:grpSpPr>
        <p:pic>
          <p:nvPicPr>
            <p:cNvPr id="212" name="Rounded Rectangle 28" descr=""/>
            <p:cNvPicPr/>
            <p:nvPr/>
          </p:nvPicPr>
          <p:blipFill>
            <a:blip r:embed="rId6"/>
            <a:stretch/>
          </p:blipFill>
          <p:spPr>
            <a:xfrm>
              <a:off x="2335320" y="6102360"/>
              <a:ext cx="1450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413080" y="6159600"/>
              <a:ext cx="12985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alibri"/>
                </a:rPr>
                <a:t>Specialized Packet Forwarding Hardw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35"/>
          <p:cNvSpPr/>
          <p:nvPr/>
        </p:nvSpPr>
        <p:spPr>
          <a:xfrm>
            <a:off x="4421160" y="4464000"/>
            <a:ext cx="1525680" cy="1308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Rounded Rectangle 36"/>
          <p:cNvGrpSpPr/>
          <p:nvPr/>
        </p:nvGrpSpPr>
        <p:grpSpPr>
          <a:xfrm>
            <a:off x="4462560" y="5230800"/>
            <a:ext cx="1450800" cy="530280"/>
            <a:chOff x="4462560" y="5230800"/>
            <a:chExt cx="1450800" cy="530280"/>
          </a:xfrm>
        </p:grpSpPr>
        <p:pic>
          <p:nvPicPr>
            <p:cNvPr id="216" name="Rounded Rectangle 36" descr=""/>
            <p:cNvPicPr/>
            <p:nvPr/>
          </p:nvPicPr>
          <p:blipFill>
            <a:blip r:embed="rId7"/>
            <a:stretch/>
          </p:blipFill>
          <p:spPr>
            <a:xfrm>
              <a:off x="4462560" y="5230800"/>
              <a:ext cx="1450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41760" y="5284800"/>
              <a:ext cx="1298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alibri"/>
                </a:rPr>
                <a:t>Specialized Packet Forwarding Hardw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ounded Rectangle 3"/>
          <p:cNvGrpSpPr/>
          <p:nvPr/>
        </p:nvGrpSpPr>
        <p:grpSpPr>
          <a:xfrm>
            <a:off x="506520" y="4322880"/>
            <a:ext cx="1450800" cy="461880"/>
            <a:chOff x="506520" y="4322880"/>
            <a:chExt cx="1450800" cy="461880"/>
          </a:xfrm>
        </p:grpSpPr>
        <p:pic>
          <p:nvPicPr>
            <p:cNvPr id="219" name="Rounded Rectangle 3" descr=""/>
            <p:cNvPicPr/>
            <p:nvPr/>
          </p:nvPicPr>
          <p:blipFill>
            <a:blip r:embed="rId8"/>
            <a:stretch/>
          </p:blipFill>
          <p:spPr>
            <a:xfrm>
              <a:off x="506520" y="4322880"/>
              <a:ext cx="145080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82480" y="4373640"/>
              <a:ext cx="1305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Opera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ounded Rectangle 13"/>
          <p:cNvGrpSpPr/>
          <p:nvPr/>
        </p:nvGrpSpPr>
        <p:grpSpPr>
          <a:xfrm>
            <a:off x="2932200" y="3048120"/>
            <a:ext cx="1444680" cy="463320"/>
            <a:chOff x="2932200" y="3048120"/>
            <a:chExt cx="1444680" cy="463320"/>
          </a:xfrm>
        </p:grpSpPr>
        <p:pic>
          <p:nvPicPr>
            <p:cNvPr id="222" name="Rounded Rectangle 13" descr=""/>
            <p:cNvPicPr/>
            <p:nvPr/>
          </p:nvPicPr>
          <p:blipFill>
            <a:blip r:embed="rId9"/>
            <a:stretch/>
          </p:blipFill>
          <p:spPr>
            <a:xfrm>
              <a:off x="2932200" y="3048120"/>
              <a:ext cx="14446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005280" y="3097080"/>
              <a:ext cx="13046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Opera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ounded Rectangle 21"/>
          <p:cNvGrpSpPr/>
          <p:nvPr/>
        </p:nvGrpSpPr>
        <p:grpSpPr>
          <a:xfrm>
            <a:off x="6656400" y="3638520"/>
            <a:ext cx="1450800" cy="463680"/>
            <a:chOff x="6656400" y="3638520"/>
            <a:chExt cx="1450800" cy="463680"/>
          </a:xfrm>
        </p:grpSpPr>
        <p:pic>
          <p:nvPicPr>
            <p:cNvPr id="225" name="Rounded Rectangle 21" descr=""/>
            <p:cNvPicPr/>
            <p:nvPr/>
          </p:nvPicPr>
          <p:blipFill>
            <a:blip r:embed="rId10"/>
            <a:stretch/>
          </p:blipFill>
          <p:spPr>
            <a:xfrm>
              <a:off x="6656400" y="3638520"/>
              <a:ext cx="14508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734160" y="3693960"/>
              <a:ext cx="1305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Opera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Rounded Rectangle 29"/>
          <p:cNvGrpSpPr/>
          <p:nvPr/>
        </p:nvGrpSpPr>
        <p:grpSpPr>
          <a:xfrm>
            <a:off x="2335320" y="5735520"/>
            <a:ext cx="1450800" cy="463680"/>
            <a:chOff x="2335320" y="5735520"/>
            <a:chExt cx="1450800" cy="463680"/>
          </a:xfrm>
        </p:grpSpPr>
        <p:pic>
          <p:nvPicPr>
            <p:cNvPr id="228" name="Rounded Rectangle 29" descr=""/>
            <p:cNvPicPr/>
            <p:nvPr/>
          </p:nvPicPr>
          <p:blipFill>
            <a:blip r:embed="rId11"/>
            <a:stretch/>
          </p:blipFill>
          <p:spPr>
            <a:xfrm>
              <a:off x="2335320" y="5735520"/>
              <a:ext cx="14508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409840" y="5789520"/>
              <a:ext cx="1305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Opera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Rounded Rectangle 37"/>
          <p:cNvGrpSpPr/>
          <p:nvPr/>
        </p:nvGrpSpPr>
        <p:grpSpPr>
          <a:xfrm>
            <a:off x="4462560" y="4857840"/>
            <a:ext cx="1450800" cy="469800"/>
            <a:chOff x="4462560" y="4857840"/>
            <a:chExt cx="1450800" cy="469800"/>
          </a:xfrm>
        </p:grpSpPr>
        <p:pic>
          <p:nvPicPr>
            <p:cNvPr id="231" name="Rounded Rectangle 37" descr=""/>
            <p:cNvPicPr/>
            <p:nvPr/>
          </p:nvPicPr>
          <p:blipFill>
            <a:blip r:embed="rId12"/>
            <a:stretch/>
          </p:blipFill>
          <p:spPr>
            <a:xfrm>
              <a:off x="4462560" y="4857840"/>
              <a:ext cx="14508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538520" y="4913280"/>
              <a:ext cx="1305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Opera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Straight Connector 43"/>
          <p:cNvSpPr/>
          <p:nvPr/>
        </p:nvSpPr>
        <p:spPr>
          <a:xfrm flipV="1">
            <a:off x="1990800" y="3956040"/>
            <a:ext cx="1658880" cy="620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45"/>
          <p:cNvSpPr/>
          <p:nvPr/>
        </p:nvSpPr>
        <p:spPr>
          <a:xfrm>
            <a:off x="4413240" y="3301920"/>
            <a:ext cx="770040" cy="1162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7"/>
          <p:cNvSpPr/>
          <p:nvPr/>
        </p:nvSpPr>
        <p:spPr>
          <a:xfrm flipV="1">
            <a:off x="3053520" y="5117760"/>
            <a:ext cx="1366920" cy="220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49"/>
          <p:cNvSpPr/>
          <p:nvPr/>
        </p:nvSpPr>
        <p:spPr>
          <a:xfrm>
            <a:off x="1226520" y="5232240"/>
            <a:ext cx="1065240" cy="762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51"/>
          <p:cNvSpPr/>
          <p:nvPr/>
        </p:nvSpPr>
        <p:spPr>
          <a:xfrm flipV="1">
            <a:off x="5946840" y="4551480"/>
            <a:ext cx="1433520" cy="566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Rounded Rectangle 53"/>
          <p:cNvGrpSpPr/>
          <p:nvPr/>
        </p:nvGrpSpPr>
        <p:grpSpPr>
          <a:xfrm>
            <a:off x="762120" y="1944720"/>
            <a:ext cx="6772320" cy="523800"/>
            <a:chOff x="762120" y="1944720"/>
            <a:chExt cx="6772320" cy="523800"/>
          </a:xfrm>
        </p:grpSpPr>
        <p:pic>
          <p:nvPicPr>
            <p:cNvPr id="239" name="Rounded Rectangle 53" descr=""/>
            <p:cNvPicPr/>
            <p:nvPr/>
          </p:nvPicPr>
          <p:blipFill>
            <a:blip r:embed="rId13"/>
            <a:stretch/>
          </p:blipFill>
          <p:spPr>
            <a:xfrm>
              <a:off x="762120" y="1944720"/>
              <a:ext cx="6772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41320" y="2000160"/>
              <a:ext cx="66232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Network 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2"/>
          <p:cNvGrpSpPr/>
          <p:nvPr/>
        </p:nvGrpSpPr>
        <p:grpSpPr>
          <a:xfrm>
            <a:off x="2682720" y="1387440"/>
            <a:ext cx="2941920" cy="495360"/>
            <a:chOff x="2682720" y="1387440"/>
            <a:chExt cx="2941920" cy="495360"/>
          </a:xfrm>
        </p:grpSpPr>
        <p:grpSp>
          <p:nvGrpSpPr>
            <p:cNvPr id="242" name="Rounded Rectangle 59"/>
            <p:cNvGrpSpPr/>
            <p:nvPr/>
          </p:nvGrpSpPr>
          <p:grpSpPr>
            <a:xfrm>
              <a:off x="2682720" y="1387440"/>
              <a:ext cx="1200240" cy="495360"/>
              <a:chOff x="2682720" y="1387440"/>
              <a:chExt cx="1200240" cy="495360"/>
            </a:xfrm>
          </p:grpSpPr>
          <p:pic>
            <p:nvPicPr>
              <p:cNvPr id="243" name="Rounded Rectangle 5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682720" y="1387440"/>
                <a:ext cx="1200240" cy="4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759400" y="1437840"/>
                <a:ext cx="10494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Rounded Rectangle 61"/>
            <p:cNvGrpSpPr/>
            <p:nvPr/>
          </p:nvGrpSpPr>
          <p:grpSpPr>
            <a:xfrm>
              <a:off x="4359600" y="1387440"/>
              <a:ext cx="1265040" cy="495360"/>
              <a:chOff x="4359600" y="1387440"/>
              <a:chExt cx="1265040" cy="495360"/>
            </a:xfrm>
          </p:grpSpPr>
          <p:pic>
            <p:nvPicPr>
              <p:cNvPr id="246" name="Rounded Rectangle 6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59600" y="1387440"/>
                <a:ext cx="1265040" cy="4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4437000" y="1434960"/>
                <a:ext cx="11152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54"/>
          <p:cNvGrpSpPr/>
          <p:nvPr/>
        </p:nvGrpSpPr>
        <p:grpSpPr>
          <a:xfrm>
            <a:off x="2979720" y="2709720"/>
            <a:ext cx="1339920" cy="344520"/>
            <a:chOff x="2979720" y="2709720"/>
            <a:chExt cx="1339920" cy="344520"/>
          </a:xfrm>
        </p:grpSpPr>
        <p:grpSp>
          <p:nvGrpSpPr>
            <p:cNvPr id="249" name="Rounded Rectangle 55"/>
            <p:cNvGrpSpPr/>
            <p:nvPr/>
          </p:nvGrpSpPr>
          <p:grpSpPr>
            <a:xfrm>
              <a:off x="2979720" y="2709720"/>
              <a:ext cx="596880" cy="344520"/>
              <a:chOff x="2979720" y="2709720"/>
              <a:chExt cx="596880" cy="344520"/>
            </a:xfrm>
          </p:grpSpPr>
          <p:pic>
            <p:nvPicPr>
              <p:cNvPr id="250" name="Rounded Rectangle 5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79720" y="2709720"/>
                <a:ext cx="5968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3050280" y="2748240"/>
                <a:ext cx="461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Rounded Rectangle 56"/>
            <p:cNvGrpSpPr/>
            <p:nvPr/>
          </p:nvGrpSpPr>
          <p:grpSpPr>
            <a:xfrm>
              <a:off x="3756600" y="2709720"/>
              <a:ext cx="563040" cy="344520"/>
              <a:chOff x="3756600" y="2709720"/>
              <a:chExt cx="563040" cy="344520"/>
            </a:xfrm>
          </p:grpSpPr>
          <p:pic>
            <p:nvPicPr>
              <p:cNvPr id="253" name="Rounded Rectangle 56" descr=""/>
              <p:cNvPicPr/>
              <p:nvPr/>
            </p:nvPicPr>
            <p:blipFill>
              <a:blip r:embed="rId17"/>
              <a:stretch/>
            </p:blipFill>
            <p:spPr>
              <a:xfrm>
                <a:off x="3756600" y="2709720"/>
                <a:ext cx="56304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3824280" y="2748240"/>
                <a:ext cx="43236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Straight Connector 57"/>
            <p:cNvSpPr/>
            <p:nvPr/>
          </p:nvSpPr>
          <p:spPr>
            <a:xfrm>
              <a:off x="3527640" y="2867760"/>
              <a:ext cx="281520" cy="1080"/>
            </a:xfrm>
            <a:prstGeom prst="line">
              <a:avLst/>
            </a:prstGeom>
            <a:ln w="25560">
              <a:solidFill>
                <a:srgbClr val="4f81bd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54"/>
          <p:cNvGrpSpPr/>
          <p:nvPr/>
        </p:nvGrpSpPr>
        <p:grpSpPr>
          <a:xfrm>
            <a:off x="4513320" y="4524480"/>
            <a:ext cx="1339920" cy="344520"/>
            <a:chOff x="4513320" y="4524480"/>
            <a:chExt cx="1339920" cy="344520"/>
          </a:xfrm>
        </p:grpSpPr>
        <p:grpSp>
          <p:nvGrpSpPr>
            <p:cNvPr id="257" name="Rounded Rectangle 62"/>
            <p:cNvGrpSpPr/>
            <p:nvPr/>
          </p:nvGrpSpPr>
          <p:grpSpPr>
            <a:xfrm>
              <a:off x="4513320" y="4524480"/>
              <a:ext cx="591120" cy="344520"/>
              <a:chOff x="4513320" y="4524480"/>
              <a:chExt cx="591120" cy="344520"/>
            </a:xfrm>
          </p:grpSpPr>
          <p:pic>
            <p:nvPicPr>
              <p:cNvPr id="258" name="Rounded Rectangle 62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13320" y="4524480"/>
                <a:ext cx="59112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4581360" y="4565520"/>
                <a:ext cx="46152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Rounded Rectangle 63"/>
            <p:cNvGrpSpPr/>
            <p:nvPr/>
          </p:nvGrpSpPr>
          <p:grpSpPr>
            <a:xfrm>
              <a:off x="5284800" y="4524480"/>
              <a:ext cx="568440" cy="344520"/>
              <a:chOff x="5284800" y="4524480"/>
              <a:chExt cx="568440" cy="344520"/>
            </a:xfrm>
          </p:grpSpPr>
          <p:pic>
            <p:nvPicPr>
              <p:cNvPr id="261" name="Rounded Rectangle 6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284800" y="4524480"/>
                <a:ext cx="56844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355720" y="4565520"/>
                <a:ext cx="43236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Straight Connector 64"/>
            <p:cNvSpPr/>
            <p:nvPr/>
          </p:nvSpPr>
          <p:spPr>
            <a:xfrm>
              <a:off x="5058720" y="4683240"/>
              <a:ext cx="281520" cy="1080"/>
            </a:xfrm>
            <a:prstGeom prst="line">
              <a:avLst/>
            </a:prstGeom>
            <a:ln w="25560">
              <a:solidFill>
                <a:srgbClr val="4f81bd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2384280" y="5396040"/>
            <a:ext cx="1339920" cy="344520"/>
            <a:chOff x="2384280" y="5396040"/>
            <a:chExt cx="1339920" cy="344520"/>
          </a:xfrm>
        </p:grpSpPr>
        <p:grpSp>
          <p:nvGrpSpPr>
            <p:cNvPr id="265" name="Rounded Rectangle 66"/>
            <p:cNvGrpSpPr/>
            <p:nvPr/>
          </p:nvGrpSpPr>
          <p:grpSpPr>
            <a:xfrm>
              <a:off x="2384280" y="5396040"/>
              <a:ext cx="593640" cy="344520"/>
              <a:chOff x="2384280" y="5396040"/>
              <a:chExt cx="593640" cy="344520"/>
            </a:xfrm>
          </p:grpSpPr>
          <p:pic>
            <p:nvPicPr>
              <p:cNvPr id="266" name="Rounded Rectangle 66" descr=""/>
              <p:cNvPicPr/>
              <p:nvPr/>
            </p:nvPicPr>
            <p:blipFill>
              <a:blip r:embed="rId20"/>
              <a:stretch/>
            </p:blipFill>
            <p:spPr>
              <a:xfrm>
                <a:off x="2384280" y="5396040"/>
                <a:ext cx="59364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2451600" y="5436720"/>
                <a:ext cx="46368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Rounded Rectangle 67"/>
            <p:cNvGrpSpPr/>
            <p:nvPr/>
          </p:nvGrpSpPr>
          <p:grpSpPr>
            <a:xfrm>
              <a:off x="3159000" y="5396040"/>
              <a:ext cx="565200" cy="344520"/>
              <a:chOff x="3159000" y="5396040"/>
              <a:chExt cx="565200" cy="344520"/>
            </a:xfrm>
          </p:grpSpPr>
          <p:pic>
            <p:nvPicPr>
              <p:cNvPr id="269" name="Rounded Rectangle 67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59000" y="5396040"/>
                <a:ext cx="56520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228840" y="5436720"/>
                <a:ext cx="434160" cy="2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Straight Connector 68"/>
            <p:cNvSpPr/>
            <p:nvPr/>
          </p:nvSpPr>
          <p:spPr>
            <a:xfrm>
              <a:off x="2930760" y="5554800"/>
              <a:ext cx="282600" cy="1080"/>
            </a:xfrm>
            <a:prstGeom prst="line">
              <a:avLst/>
            </a:prstGeom>
            <a:ln w="25560">
              <a:solidFill>
                <a:srgbClr val="4f81bd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4"/>
          <p:cNvGrpSpPr/>
          <p:nvPr/>
        </p:nvGrpSpPr>
        <p:grpSpPr>
          <a:xfrm>
            <a:off x="6716880" y="3294000"/>
            <a:ext cx="1339560" cy="344520"/>
            <a:chOff x="6716880" y="3294000"/>
            <a:chExt cx="1339560" cy="344520"/>
          </a:xfrm>
        </p:grpSpPr>
        <p:grpSp>
          <p:nvGrpSpPr>
            <p:cNvPr id="273" name="Rounded Rectangle 70"/>
            <p:cNvGrpSpPr/>
            <p:nvPr/>
          </p:nvGrpSpPr>
          <p:grpSpPr>
            <a:xfrm>
              <a:off x="6716880" y="3294000"/>
              <a:ext cx="596520" cy="344520"/>
              <a:chOff x="6716880" y="3294000"/>
              <a:chExt cx="596520" cy="344520"/>
            </a:xfrm>
          </p:grpSpPr>
          <p:pic>
            <p:nvPicPr>
              <p:cNvPr id="274" name="Rounded Rectangle 70" descr=""/>
              <p:cNvPicPr/>
              <p:nvPr/>
            </p:nvPicPr>
            <p:blipFill>
              <a:blip r:embed="rId22"/>
              <a:stretch/>
            </p:blipFill>
            <p:spPr>
              <a:xfrm>
                <a:off x="6716880" y="3294000"/>
                <a:ext cx="59652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6787440" y="3331800"/>
                <a:ext cx="4615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Rounded Rectangle 71"/>
            <p:cNvGrpSpPr/>
            <p:nvPr/>
          </p:nvGrpSpPr>
          <p:grpSpPr>
            <a:xfrm>
              <a:off x="7493760" y="3294000"/>
              <a:ext cx="562680" cy="344520"/>
              <a:chOff x="7493760" y="3294000"/>
              <a:chExt cx="562680" cy="344520"/>
            </a:xfrm>
          </p:grpSpPr>
          <p:pic>
            <p:nvPicPr>
              <p:cNvPr id="277" name="Rounded Rectangle 7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93760" y="3294000"/>
                <a:ext cx="562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7561440" y="3331800"/>
                <a:ext cx="43200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Calibri"/>
                  </a:rPr>
                  <a:t>Featu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Straight Connector 72"/>
            <p:cNvSpPr/>
            <p:nvPr/>
          </p:nvSpPr>
          <p:spPr>
            <a:xfrm>
              <a:off x="7264440" y="3450960"/>
              <a:ext cx="281160" cy="1080"/>
            </a:xfrm>
            <a:prstGeom prst="line">
              <a:avLst/>
            </a:prstGeom>
            <a:ln w="25560">
              <a:solidFill>
                <a:srgbClr val="4f81bd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ructured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0228E-007 -3.80842E-006 L 1.70228E-007 -0.32323 E">
                                      <p:cBhvr>
                                        <p:cTn id="13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5581E-006 -2.11013E-006 L 0.00087 -0.1372 E">
                                      <p:cBhvr>
                                        <p:cTn id="135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5492E-006 1.12911E-006 L 0.00296 -0.2242 E">
                                      <p:cBhvr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914E-007 2.59139E-007 L -0.00087 -0.52753 E">
                                      <p:cBhvr>
                                        <p:cTn id="139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884E-006 -4.38223E-006 L 0.00018 -0.40189 E">
                                      <p:cBhvr>
                                        <p:cTn id="141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0228E-007 -1.4484E-006 L 0.00017 -0.34775 E">
                                      <p:cBhvr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0066E-008 -4.47015E-006 L 0.00087 -0.16149 E">
                                      <p:cBhvr>
                                        <p:cTn id="168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3907E-006 4.63211E-006 L 0.00086 -0.40422 E">
                                      <p:cBhvr>
                                        <p:cTn id="173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4124E-006 1.06432E-007 L -1.84124E-006 -0.55298 E">
                                      <p:cBhvr>
                                        <p:cTn id="178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5492E-006 -2.36002E-007 L -3.45492E-006 -0.24664 E">
                                      <p:cBhvr>
                                        <p:cTn id="183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Rounded Rectangle 4"/>
          <p:cNvGrpSpPr/>
          <p:nvPr/>
        </p:nvGrpSpPr>
        <p:grpSpPr>
          <a:xfrm>
            <a:off x="2389320" y="1822320"/>
            <a:ext cx="1225440" cy="603360"/>
            <a:chOff x="2389320" y="1822320"/>
            <a:chExt cx="1225440" cy="603360"/>
          </a:xfrm>
        </p:grpSpPr>
        <p:pic>
          <p:nvPicPr>
            <p:cNvPr id="28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2389320" y="1822320"/>
              <a:ext cx="12254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468520" y="1884240"/>
              <a:ext cx="1071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Straight Connector 43"/>
          <p:cNvSpPr/>
          <p:nvPr/>
        </p:nvSpPr>
        <p:spPr>
          <a:xfrm flipV="1">
            <a:off x="1982880" y="4429080"/>
            <a:ext cx="1666800" cy="1276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45"/>
          <p:cNvSpPr/>
          <p:nvPr/>
        </p:nvSpPr>
        <p:spPr>
          <a:xfrm>
            <a:off x="3860640" y="4297320"/>
            <a:ext cx="1322640" cy="839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47"/>
          <p:cNvSpPr/>
          <p:nvPr/>
        </p:nvSpPr>
        <p:spPr>
          <a:xfrm flipV="1">
            <a:off x="3965400" y="5705640"/>
            <a:ext cx="1536840" cy="844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49"/>
          <p:cNvSpPr/>
          <p:nvPr/>
        </p:nvSpPr>
        <p:spPr>
          <a:xfrm>
            <a:off x="1351080" y="6248520"/>
            <a:ext cx="1674720" cy="301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51"/>
          <p:cNvSpPr/>
          <p:nvPr/>
        </p:nvSpPr>
        <p:spPr>
          <a:xfrm flipV="1">
            <a:off x="5946840" y="4857840"/>
            <a:ext cx="1433520" cy="566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Rounded Rectangle 66"/>
          <p:cNvGrpSpPr/>
          <p:nvPr/>
        </p:nvGrpSpPr>
        <p:grpSpPr>
          <a:xfrm>
            <a:off x="4352760" y="1822320"/>
            <a:ext cx="1322640" cy="603360"/>
            <a:chOff x="4352760" y="1822320"/>
            <a:chExt cx="1322640" cy="603360"/>
          </a:xfrm>
        </p:grpSpPr>
        <p:pic>
          <p:nvPicPr>
            <p:cNvPr id="290" name="Rounded Rectangle 66" descr=""/>
            <p:cNvPicPr/>
            <p:nvPr/>
          </p:nvPicPr>
          <p:blipFill>
            <a:blip r:embed="rId2"/>
            <a:stretch/>
          </p:blipFill>
          <p:spPr>
            <a:xfrm>
              <a:off x="4352760" y="1822320"/>
              <a:ext cx="13226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437000" y="1881360"/>
              <a:ext cx="11638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Straight Connector 69"/>
          <p:cNvSpPr/>
          <p:nvPr/>
        </p:nvSpPr>
        <p:spPr>
          <a:xfrm>
            <a:off x="934920" y="2868480"/>
            <a:ext cx="0" cy="277668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70"/>
          <p:cNvSpPr/>
          <p:nvPr/>
        </p:nvSpPr>
        <p:spPr>
          <a:xfrm flipH="1">
            <a:off x="3330720" y="2868480"/>
            <a:ext cx="1440" cy="98928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72"/>
          <p:cNvSpPr/>
          <p:nvPr/>
        </p:nvSpPr>
        <p:spPr>
          <a:xfrm flipH="1">
            <a:off x="5501880" y="2868480"/>
            <a:ext cx="1800" cy="226872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74"/>
          <p:cNvSpPr/>
          <p:nvPr/>
        </p:nvSpPr>
        <p:spPr>
          <a:xfrm flipH="1">
            <a:off x="7378200" y="2870280"/>
            <a:ext cx="1800" cy="142704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Rounded Rectangle 78"/>
          <p:cNvGrpSpPr/>
          <p:nvPr/>
        </p:nvGrpSpPr>
        <p:grpSpPr>
          <a:xfrm>
            <a:off x="762120" y="2414520"/>
            <a:ext cx="6772320" cy="530280"/>
            <a:chOff x="762120" y="2414520"/>
            <a:chExt cx="6772320" cy="530280"/>
          </a:xfrm>
        </p:grpSpPr>
        <p:pic>
          <p:nvPicPr>
            <p:cNvPr id="297" name="Rounded Rectangle 78" descr=""/>
            <p:cNvPicPr/>
            <p:nvPr/>
          </p:nvPicPr>
          <p:blipFill>
            <a:blip r:embed="rId3"/>
            <a:stretch/>
          </p:blipFill>
          <p:spPr>
            <a:xfrm>
              <a:off x="762120" y="2414520"/>
              <a:ext cx="67723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41320" y="2473200"/>
              <a:ext cx="66232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Network 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19"/>
          <p:cNvGrpSpPr/>
          <p:nvPr/>
        </p:nvGrpSpPr>
        <p:grpSpPr>
          <a:xfrm>
            <a:off x="3649680" y="2870280"/>
            <a:ext cx="4521240" cy="987480"/>
            <a:chOff x="3649680" y="2870280"/>
            <a:chExt cx="4521240" cy="987480"/>
          </a:xfrm>
        </p:grpSpPr>
        <p:sp>
          <p:nvSpPr>
            <p:cNvPr id="300" name="Right Brace 100"/>
            <p:cNvSpPr/>
            <p:nvPr/>
          </p:nvSpPr>
          <p:spPr>
            <a:xfrm>
              <a:off x="3649680" y="2870280"/>
              <a:ext cx="218880" cy="987480"/>
            </a:xfrm>
            <a:custGeom>
              <a:avLst/>
              <a:gdLst>
                <a:gd name="textAreaLeft" fmla="*/ 0 w 218880"/>
                <a:gd name="textAreaRight" fmla="*/ 78840 w 218880"/>
                <a:gd name="textAreaTop" fmla="*/ 31680 h 987480"/>
                <a:gd name="textAreaBottom" fmla="*/ 955800 h 9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8"/>
                    <a:pt x="10800" y="2215"/>
                  </a:cubicBezTo>
                  <a:lnTo>
                    <a:pt x="10800" y="8585"/>
                  </a:lnTo>
                  <a:cubicBezTo>
                    <a:pt x="10800" y="9693"/>
                    <a:pt x="16200" y="10800"/>
                    <a:pt x="21600" y="10800"/>
                  </a:cubicBezTo>
                  <a:cubicBezTo>
                    <a:pt x="16200" y="10800"/>
                    <a:pt x="10800" y="11908"/>
                    <a:pt x="10800" y="13015"/>
                  </a:cubicBezTo>
                  <a:lnTo>
                    <a:pt x="10800" y="19385"/>
                  </a:lnTo>
                  <a:cubicBezTo>
                    <a:pt x="10800" y="20493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6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1"/>
            <p:cNvSpPr/>
            <p:nvPr/>
          </p:nvSpPr>
          <p:spPr>
            <a:xfrm>
              <a:off x="3860640" y="3071880"/>
              <a:ext cx="4310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. Open interface to packet 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21"/>
          <p:cNvGrpSpPr/>
          <p:nvPr/>
        </p:nvGrpSpPr>
        <p:grpSpPr>
          <a:xfrm>
            <a:off x="367200" y="1428840"/>
            <a:ext cx="5468400" cy="977760"/>
            <a:chOff x="367200" y="1428840"/>
            <a:chExt cx="5468400" cy="977760"/>
          </a:xfrm>
        </p:grpSpPr>
        <p:sp>
          <p:nvSpPr>
            <p:cNvPr id="303" name="Straight Connector 108"/>
            <p:cNvSpPr/>
            <p:nvPr/>
          </p:nvSpPr>
          <p:spPr>
            <a:xfrm>
              <a:off x="2227320" y="2405160"/>
              <a:ext cx="360828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09"/>
            <p:cNvSpPr/>
            <p:nvPr/>
          </p:nvSpPr>
          <p:spPr>
            <a:xfrm>
              <a:off x="367200" y="142884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. Well-defined open 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112"/>
            <p:cNvSpPr/>
            <p:nvPr/>
          </p:nvSpPr>
          <p:spPr>
            <a:xfrm flipH="1" flipV="1">
              <a:off x="1614240" y="1798560"/>
              <a:ext cx="612720" cy="606240"/>
            </a:xfrm>
            <a:prstGeom prst="line">
              <a:avLst/>
            </a:prstGeom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20"/>
          <p:cNvGrpSpPr/>
          <p:nvPr/>
        </p:nvGrpSpPr>
        <p:grpSpPr>
          <a:xfrm>
            <a:off x="5996160" y="1233360"/>
            <a:ext cx="3470040" cy="1194120"/>
            <a:chOff x="5996160" y="1233360"/>
            <a:chExt cx="3470040" cy="1194120"/>
          </a:xfrm>
        </p:grpSpPr>
        <p:sp>
          <p:nvSpPr>
            <p:cNvPr id="307" name="TextBox 103"/>
            <p:cNvSpPr/>
            <p:nvPr/>
          </p:nvSpPr>
          <p:spPr>
            <a:xfrm>
              <a:off x="5996160" y="1233360"/>
              <a:ext cx="347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. At least one Network O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bably many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pen- and closed-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Straight Arrow Connector 118"/>
            <p:cNvCxnSpPr/>
            <p:nvPr/>
          </p:nvCxnSpPr>
          <p:spPr>
            <a:xfrm flipH="1">
              <a:off x="6587640" y="2155680"/>
              <a:ext cx="792720" cy="27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ftware-Defined Net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611280" y="5486400"/>
            <a:ext cx="1371600" cy="76212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wa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2800440" y="6059520"/>
            <a:ext cx="1371600" cy="76212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wa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646360" y="3857760"/>
            <a:ext cx="1371600" cy="76176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wa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4818240" y="5105520"/>
            <a:ext cx="1371600" cy="76176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wa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6799320" y="4238640"/>
            <a:ext cx="1371600" cy="762120"/>
          </a:xfrm>
          <a:prstGeom prst="can">
            <a:avLst>
              <a:gd name="adj" fmla="val 43620"/>
            </a:avLst>
          </a:prstGeom>
          <a:solidFill>
            <a:srgbClr val="1f497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wa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 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X (C++/Python)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xrepo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estro (Rice Univers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ios (N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con (Java)  coming so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in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IX [OSDI 2010, Google, Nicira, NEC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6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ntly made transition to 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lions of mobile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ecurely extract payments and hold users accoun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sucks at both, yet hard to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537480" y="5800680"/>
            <a:ext cx="80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OpenFlow provides a way for the cellular industry to solve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eal problem plagu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co Opera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49200" y="167112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IP traffic growing 40-50% per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-customer monthly bill remains unchan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CAPEX and OPEX need to reduce 40-50% per Gb/s per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n practice, reduces by ~20% per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based on the same equipment as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666000" y="5800680"/>
            <a:ext cx="77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OpenFlow allows telcos to reduce CAPEX, OPEX and to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add new differentiating features to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New Data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320"/>
          <p:cNvGrpSpPr/>
          <p:nvPr/>
        </p:nvGrpSpPr>
        <p:grpSpPr>
          <a:xfrm>
            <a:off x="2438280" y="1359000"/>
            <a:ext cx="4191120" cy="2286000"/>
            <a:chOff x="2438280" y="1359000"/>
            <a:chExt cx="4191120" cy="2286000"/>
          </a:xfrm>
        </p:grpSpPr>
        <p:sp>
          <p:nvSpPr>
            <p:cNvPr id="325" name="Rectangle 4"/>
            <p:cNvSpPr/>
            <p:nvPr/>
          </p:nvSpPr>
          <p:spPr>
            <a:xfrm>
              <a:off x="2438280" y="1359000"/>
              <a:ext cx="4191120" cy="2279880"/>
            </a:xfrm>
            <a:prstGeom prst="rect">
              <a:avLst/>
            </a:prstGeom>
            <a:solidFill>
              <a:srgbClr val="f2f2f2">
                <a:alpha val="54000"/>
              </a:srgbClr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65"/>
            <p:cNvGrpSpPr/>
            <p:nvPr/>
          </p:nvGrpSpPr>
          <p:grpSpPr>
            <a:xfrm>
              <a:off x="3080160" y="2350440"/>
              <a:ext cx="431640" cy="327600"/>
              <a:chOff x="3080160" y="2350440"/>
              <a:chExt cx="431640" cy="327600"/>
            </a:xfrm>
          </p:grpSpPr>
          <p:sp>
            <p:nvSpPr>
              <p:cNvPr id="327" name="Cube 65"/>
              <p:cNvSpPr/>
              <p:nvPr/>
            </p:nvSpPr>
            <p:spPr>
              <a:xfrm>
                <a:off x="3080160" y="2350440"/>
                <a:ext cx="431640" cy="32760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167"/>
              <p:cNvGrpSpPr/>
              <p:nvPr/>
            </p:nvGrpSpPr>
            <p:grpSpPr>
              <a:xfrm>
                <a:off x="3102840" y="2382120"/>
                <a:ext cx="355320" cy="286200"/>
                <a:chOff x="3102840" y="2382120"/>
                <a:chExt cx="355320" cy="286200"/>
              </a:xfrm>
            </p:grpSpPr>
            <p:cxnSp>
              <p:nvCxnSpPr>
                <p:cNvPr id="329" name="Straight Arrow Connector 67"/>
                <p:cNvCxnSpPr>
                  <a:stCxn id="330" idx="7"/>
                </p:cNvCxnSpPr>
                <p:nvPr/>
              </p:nvCxnSpPr>
              <p:spPr>
                <a:xfrm flipV="1">
                  <a:off x="3350880" y="2384280"/>
                  <a:ext cx="77760" cy="73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31" name="Straight Arrow Connector 68"/>
                <p:cNvCxnSpPr/>
                <p:nvPr/>
              </p:nvCxnSpPr>
              <p:spPr>
                <a:xfrm flipH="1" flipV="1">
                  <a:off x="3132360" y="2384280"/>
                  <a:ext cx="77760" cy="73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32" name="Straight Arrow Connector 69"/>
                <p:cNvCxnSpPr/>
                <p:nvPr/>
              </p:nvCxnSpPr>
              <p:spPr>
                <a:xfrm flipH="1">
                  <a:off x="3132360" y="2542680"/>
                  <a:ext cx="77760" cy="73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33" name="Straight Arrow Connector 70"/>
                <p:cNvCxnSpPr/>
                <p:nvPr/>
              </p:nvCxnSpPr>
              <p:spPr>
                <a:xfrm>
                  <a:off x="3350880" y="2549880"/>
                  <a:ext cx="77760" cy="73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34" name="Straight Arrow Connector 71"/>
                <p:cNvCxnSpPr>
                  <a:stCxn id="330" idx="6"/>
                </p:cNvCxnSpPr>
                <p:nvPr/>
              </p:nvCxnSpPr>
              <p:spPr>
                <a:xfrm>
                  <a:off x="3369960" y="2504160"/>
                  <a:ext cx="8856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35" name="Straight Arrow Connector 72"/>
                <p:cNvCxnSpPr/>
                <p:nvPr/>
              </p:nvCxnSpPr>
              <p:spPr>
                <a:xfrm flipH="1">
                  <a:off x="3102840" y="2500560"/>
                  <a:ext cx="8856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36" name="Straight Arrow Connector 73"/>
                <p:cNvCxnSpPr/>
                <p:nvPr/>
              </p:nvCxnSpPr>
              <p:spPr>
                <a:xfrm flipH="1" flipV="1">
                  <a:off x="3300120" y="2382120"/>
                  <a:ext cx="1800" cy="55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37" name="Straight Arrow Connector 74"/>
                <p:cNvCxnSpPr/>
                <p:nvPr/>
              </p:nvCxnSpPr>
              <p:spPr>
                <a:xfrm flipH="1">
                  <a:off x="3301560" y="2573640"/>
                  <a:ext cx="1080" cy="950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330" name="Oval 75"/>
                <p:cNvSpPr/>
                <p:nvPr/>
              </p:nvSpPr>
              <p:spPr>
                <a:xfrm>
                  <a:off x="3191040" y="2437200"/>
                  <a:ext cx="178560" cy="13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Group 153"/>
            <p:cNvGrpSpPr/>
            <p:nvPr/>
          </p:nvGrpSpPr>
          <p:grpSpPr>
            <a:xfrm>
              <a:off x="2966760" y="2412720"/>
              <a:ext cx="431640" cy="327600"/>
              <a:chOff x="2966760" y="2412720"/>
              <a:chExt cx="431640" cy="327600"/>
            </a:xfrm>
          </p:grpSpPr>
          <p:sp>
            <p:nvSpPr>
              <p:cNvPr id="339" name="Cube 54"/>
              <p:cNvSpPr/>
              <p:nvPr/>
            </p:nvSpPr>
            <p:spPr>
              <a:xfrm>
                <a:off x="2966760" y="2412720"/>
                <a:ext cx="431640" cy="32760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Group 155"/>
              <p:cNvGrpSpPr/>
              <p:nvPr/>
            </p:nvGrpSpPr>
            <p:grpSpPr>
              <a:xfrm>
                <a:off x="2989080" y="2445120"/>
                <a:ext cx="355320" cy="285840"/>
                <a:chOff x="2989080" y="2445120"/>
                <a:chExt cx="355320" cy="285840"/>
              </a:xfrm>
            </p:grpSpPr>
            <p:cxnSp>
              <p:nvCxnSpPr>
                <p:cNvPr id="341" name="Straight Arrow Connector 56"/>
                <p:cNvCxnSpPr>
                  <a:stCxn id="342" idx="7"/>
                </p:cNvCxnSpPr>
                <p:nvPr/>
              </p:nvCxnSpPr>
              <p:spPr>
                <a:xfrm flipV="1">
                  <a:off x="3219120" y="248112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43" name="Straight Arrow Connector 57"/>
                <p:cNvCxnSpPr/>
                <p:nvPr/>
              </p:nvCxnSpPr>
              <p:spPr>
                <a:xfrm flipH="1" flipV="1">
                  <a:off x="3023640" y="248112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44" name="Straight Arrow Connector 58"/>
                <p:cNvCxnSpPr/>
                <p:nvPr/>
              </p:nvCxnSpPr>
              <p:spPr>
                <a:xfrm flipH="1">
                  <a:off x="3023640" y="262044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45" name="Straight Arrow Connector 59"/>
                <p:cNvCxnSpPr/>
                <p:nvPr/>
              </p:nvCxnSpPr>
              <p:spPr>
                <a:xfrm>
                  <a:off x="3219120" y="262692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46" name="Straight Arrow Connector 60"/>
                <p:cNvCxnSpPr>
                  <a:stCxn id="342" idx="6"/>
                </p:cNvCxnSpPr>
                <p:nvPr/>
              </p:nvCxnSpPr>
              <p:spPr>
                <a:xfrm>
                  <a:off x="3241080" y="2586960"/>
                  <a:ext cx="10368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47" name="Straight Arrow Connector 61"/>
                <p:cNvCxnSpPr/>
                <p:nvPr/>
              </p:nvCxnSpPr>
              <p:spPr>
                <a:xfrm flipH="1">
                  <a:off x="2989080" y="2583720"/>
                  <a:ext cx="10368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48" name="Straight Arrow Connector 62"/>
                <p:cNvCxnSpPr/>
                <p:nvPr/>
              </p:nvCxnSpPr>
              <p:spPr>
                <a:xfrm flipH="1" flipV="1">
                  <a:off x="3160080" y="2445120"/>
                  <a:ext cx="216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49" name="Straight Arrow Connector 63"/>
                <p:cNvCxnSpPr/>
                <p:nvPr/>
              </p:nvCxnSpPr>
              <p:spPr>
                <a:xfrm flipH="1">
                  <a:off x="3161160" y="2647800"/>
                  <a:ext cx="108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342" name="Oval 64"/>
                <p:cNvSpPr/>
                <p:nvPr/>
              </p:nvSpPr>
              <p:spPr>
                <a:xfrm>
                  <a:off x="3092400" y="2528280"/>
                  <a:ext cx="14868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141"/>
            <p:cNvGrpSpPr/>
            <p:nvPr/>
          </p:nvGrpSpPr>
          <p:grpSpPr>
            <a:xfrm>
              <a:off x="2853360" y="2475000"/>
              <a:ext cx="431640" cy="327600"/>
              <a:chOff x="2853360" y="2475000"/>
              <a:chExt cx="431640" cy="327600"/>
            </a:xfrm>
          </p:grpSpPr>
          <p:sp>
            <p:nvSpPr>
              <p:cNvPr id="351" name="Cube 43"/>
              <p:cNvSpPr/>
              <p:nvPr/>
            </p:nvSpPr>
            <p:spPr>
              <a:xfrm>
                <a:off x="2853360" y="2475000"/>
                <a:ext cx="431640" cy="32760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143"/>
              <p:cNvGrpSpPr/>
              <p:nvPr/>
            </p:nvGrpSpPr>
            <p:grpSpPr>
              <a:xfrm>
                <a:off x="2874960" y="2507760"/>
                <a:ext cx="354960" cy="285840"/>
                <a:chOff x="2874960" y="2507760"/>
                <a:chExt cx="354960" cy="285840"/>
              </a:xfrm>
            </p:grpSpPr>
            <p:cxnSp>
              <p:nvCxnSpPr>
                <p:cNvPr id="353" name="Straight Arrow Connector 45"/>
                <p:cNvCxnSpPr>
                  <a:stCxn id="354" idx="7"/>
                </p:cNvCxnSpPr>
                <p:nvPr/>
              </p:nvCxnSpPr>
              <p:spPr>
                <a:xfrm flipV="1">
                  <a:off x="3071520" y="2543760"/>
                  <a:ext cx="777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55" name="Straight Arrow Connector 46"/>
                <p:cNvCxnSpPr/>
                <p:nvPr/>
              </p:nvCxnSpPr>
              <p:spPr>
                <a:xfrm flipH="1" flipV="1">
                  <a:off x="2904480" y="2543760"/>
                  <a:ext cx="777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56" name="Straight Arrow Connector 47"/>
                <p:cNvCxnSpPr/>
                <p:nvPr/>
              </p:nvCxnSpPr>
              <p:spPr>
                <a:xfrm flipH="1">
                  <a:off x="2904480" y="2683080"/>
                  <a:ext cx="777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57" name="Straight Arrow Connector 48"/>
                <p:cNvCxnSpPr/>
                <p:nvPr/>
              </p:nvCxnSpPr>
              <p:spPr>
                <a:xfrm>
                  <a:off x="3071520" y="2689560"/>
                  <a:ext cx="777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58" name="Straight Arrow Connector 49"/>
                <p:cNvCxnSpPr>
                  <a:stCxn id="354" idx="6"/>
                </p:cNvCxnSpPr>
                <p:nvPr/>
              </p:nvCxnSpPr>
              <p:spPr>
                <a:xfrm>
                  <a:off x="3090240" y="2649600"/>
                  <a:ext cx="14004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59" name="Straight Arrow Connector 50"/>
                <p:cNvCxnSpPr/>
                <p:nvPr/>
              </p:nvCxnSpPr>
              <p:spPr>
                <a:xfrm flipH="1">
                  <a:off x="2874960" y="2646360"/>
                  <a:ext cx="8856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60" name="Straight Arrow Connector 51"/>
                <p:cNvCxnSpPr/>
                <p:nvPr/>
              </p:nvCxnSpPr>
              <p:spPr>
                <a:xfrm flipH="1" flipV="1">
                  <a:off x="3020760" y="2507760"/>
                  <a:ext cx="180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61" name="Straight Arrow Connector 52"/>
                <p:cNvCxnSpPr/>
                <p:nvPr/>
              </p:nvCxnSpPr>
              <p:spPr>
                <a:xfrm flipH="1">
                  <a:off x="3022200" y="2710440"/>
                  <a:ext cx="108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354" name="Oval 53"/>
                <p:cNvSpPr/>
                <p:nvPr/>
              </p:nvSpPr>
              <p:spPr>
                <a:xfrm>
                  <a:off x="2963160" y="2590920"/>
                  <a:ext cx="12708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2" name="Straight Connector 11"/>
            <p:cNvSpPr/>
            <p:nvPr/>
          </p:nvSpPr>
          <p:spPr>
            <a:xfrm flipV="1">
              <a:off x="2973240" y="1834920"/>
              <a:ext cx="753840" cy="701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traight Connector 12"/>
            <p:cNvSpPr/>
            <p:nvPr/>
          </p:nvSpPr>
          <p:spPr>
            <a:xfrm flipV="1">
              <a:off x="2993760" y="1763640"/>
              <a:ext cx="2247840" cy="906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Picture 20" descr=""/>
            <p:cNvPicPr/>
            <p:nvPr/>
          </p:nvPicPr>
          <p:blipFill>
            <a:blip r:embed="rId1"/>
            <a:stretch/>
          </p:blipFill>
          <p:spPr>
            <a:xfrm>
              <a:off x="2477880" y="31903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20" descr=""/>
            <p:cNvPicPr/>
            <p:nvPr/>
          </p:nvPicPr>
          <p:blipFill>
            <a:blip r:embed="rId2"/>
            <a:stretch/>
          </p:blipFill>
          <p:spPr>
            <a:xfrm>
              <a:off x="2616840" y="31903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20" descr=""/>
            <p:cNvPicPr/>
            <p:nvPr/>
          </p:nvPicPr>
          <p:blipFill>
            <a:blip r:embed="rId3"/>
            <a:stretch/>
          </p:blipFill>
          <p:spPr>
            <a:xfrm>
              <a:off x="2755800" y="31903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20" descr=""/>
            <p:cNvPicPr/>
            <p:nvPr/>
          </p:nvPicPr>
          <p:blipFill>
            <a:blip r:embed="rId4"/>
            <a:stretch/>
          </p:blipFill>
          <p:spPr>
            <a:xfrm>
              <a:off x="2894760" y="31903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"/>
            <p:cNvPicPr/>
            <p:nvPr/>
          </p:nvPicPr>
          <p:blipFill>
            <a:blip r:embed="rId5"/>
            <a:stretch/>
          </p:blipFill>
          <p:spPr>
            <a:xfrm>
              <a:off x="3033360" y="31903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0" descr=""/>
            <p:cNvPicPr/>
            <p:nvPr/>
          </p:nvPicPr>
          <p:blipFill>
            <a:blip r:embed="rId6"/>
            <a:stretch/>
          </p:blipFill>
          <p:spPr>
            <a:xfrm>
              <a:off x="3172320" y="31903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0" descr=""/>
            <p:cNvPicPr/>
            <p:nvPr/>
          </p:nvPicPr>
          <p:blipFill>
            <a:blip r:embed="rId7"/>
            <a:stretch/>
          </p:blipFill>
          <p:spPr>
            <a:xfrm>
              <a:off x="2438280" y="32850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0" descr=""/>
            <p:cNvPicPr/>
            <p:nvPr/>
          </p:nvPicPr>
          <p:blipFill>
            <a:blip r:embed="rId8"/>
            <a:stretch/>
          </p:blipFill>
          <p:spPr>
            <a:xfrm>
              <a:off x="2576880" y="32850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20" descr=""/>
            <p:cNvPicPr/>
            <p:nvPr/>
          </p:nvPicPr>
          <p:blipFill>
            <a:blip r:embed="rId9"/>
            <a:stretch/>
          </p:blipFill>
          <p:spPr>
            <a:xfrm>
              <a:off x="2715840" y="32850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0" descr=""/>
            <p:cNvPicPr/>
            <p:nvPr/>
          </p:nvPicPr>
          <p:blipFill>
            <a:blip r:embed="rId10"/>
            <a:stretch/>
          </p:blipFill>
          <p:spPr>
            <a:xfrm>
              <a:off x="2854800" y="32850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0" descr=""/>
            <p:cNvPicPr/>
            <p:nvPr/>
          </p:nvPicPr>
          <p:blipFill>
            <a:blip r:embed="rId11"/>
            <a:stretch/>
          </p:blipFill>
          <p:spPr>
            <a:xfrm>
              <a:off x="2993400" y="32850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20" descr=""/>
            <p:cNvPicPr/>
            <p:nvPr/>
          </p:nvPicPr>
          <p:blipFill>
            <a:blip r:embed="rId12"/>
            <a:stretch/>
          </p:blipFill>
          <p:spPr>
            <a:xfrm>
              <a:off x="3132360" y="32850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Straight Connector 25"/>
            <p:cNvSpPr/>
            <p:nvPr/>
          </p:nvSpPr>
          <p:spPr>
            <a:xfrm flipH="1">
              <a:off x="2615760" y="2754360"/>
              <a:ext cx="271440" cy="434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26"/>
            <p:cNvSpPr/>
            <p:nvPr/>
          </p:nvSpPr>
          <p:spPr>
            <a:xfrm flipH="1">
              <a:off x="2784240" y="2772000"/>
              <a:ext cx="156960" cy="417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27"/>
            <p:cNvSpPr/>
            <p:nvPr/>
          </p:nvSpPr>
          <p:spPr>
            <a:xfrm flipH="1">
              <a:off x="2922480" y="2772000"/>
              <a:ext cx="18720" cy="417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traight Connector 28"/>
            <p:cNvSpPr/>
            <p:nvPr/>
          </p:nvSpPr>
          <p:spPr>
            <a:xfrm>
              <a:off x="2940840" y="2772000"/>
              <a:ext cx="120600" cy="417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29"/>
            <p:cNvSpPr/>
            <p:nvPr/>
          </p:nvSpPr>
          <p:spPr>
            <a:xfrm>
              <a:off x="2993040" y="2754360"/>
              <a:ext cx="177480" cy="434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30"/>
            <p:cNvSpPr/>
            <p:nvPr/>
          </p:nvSpPr>
          <p:spPr>
            <a:xfrm>
              <a:off x="3014280" y="2713320"/>
              <a:ext cx="325440" cy="4762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Cube 32"/>
            <p:cNvSpPr/>
            <p:nvPr/>
          </p:nvSpPr>
          <p:spPr>
            <a:xfrm>
              <a:off x="2739600" y="2536920"/>
              <a:ext cx="431640" cy="32832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Straight Arrow Connector 34"/>
            <p:cNvCxnSpPr>
              <a:stCxn id="384" idx="7"/>
            </p:cNvCxnSpPr>
            <p:nvPr/>
          </p:nvCxnSpPr>
          <p:spPr>
            <a:xfrm flipV="1">
              <a:off x="2991240" y="2606400"/>
              <a:ext cx="91080" cy="64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85" name="Straight Arrow Connector 35"/>
            <p:cNvCxnSpPr/>
            <p:nvPr/>
          </p:nvCxnSpPr>
          <p:spPr>
            <a:xfrm flipH="1" flipV="1">
              <a:off x="2797920" y="2606400"/>
              <a:ext cx="91080" cy="64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86" name="Straight Arrow Connector 36"/>
            <p:cNvCxnSpPr/>
            <p:nvPr/>
          </p:nvCxnSpPr>
          <p:spPr>
            <a:xfrm flipH="1">
              <a:off x="2797920" y="2745000"/>
              <a:ext cx="91080" cy="64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87" name="Straight Arrow Connector 37"/>
            <p:cNvCxnSpPr/>
            <p:nvPr/>
          </p:nvCxnSpPr>
          <p:spPr>
            <a:xfrm>
              <a:off x="2991240" y="2751120"/>
              <a:ext cx="91080" cy="64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88" name="Straight Arrow Connector 38"/>
            <p:cNvCxnSpPr>
              <a:stCxn id="384" idx="6"/>
            </p:cNvCxnSpPr>
            <p:nvPr/>
          </p:nvCxnSpPr>
          <p:spPr>
            <a:xfrm>
              <a:off x="3014280" y="2712960"/>
              <a:ext cx="10368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89" name="Straight Arrow Connector 39"/>
            <p:cNvCxnSpPr/>
            <p:nvPr/>
          </p:nvCxnSpPr>
          <p:spPr>
            <a:xfrm flipH="1">
              <a:off x="2763360" y="2707920"/>
              <a:ext cx="10368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90" name="Straight Arrow Connector 40"/>
            <p:cNvCxnSpPr/>
            <p:nvPr/>
          </p:nvCxnSpPr>
          <p:spPr>
            <a:xfrm flipH="1" flipV="1">
              <a:off x="2934360" y="2569680"/>
              <a:ext cx="1080" cy="83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91" name="Straight Arrow Connector 41"/>
            <p:cNvCxnSpPr/>
            <p:nvPr/>
          </p:nvCxnSpPr>
          <p:spPr>
            <a:xfrm flipH="1">
              <a:off x="2934360" y="2770920"/>
              <a:ext cx="1080" cy="83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84" name="Oval 42"/>
            <p:cNvSpPr/>
            <p:nvPr/>
          </p:nvSpPr>
          <p:spPr>
            <a:xfrm>
              <a:off x="2866680" y="2652840"/>
              <a:ext cx="147600" cy="118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179"/>
            <p:cNvGrpSpPr/>
            <p:nvPr/>
          </p:nvGrpSpPr>
          <p:grpSpPr>
            <a:xfrm>
              <a:off x="4090320" y="2347200"/>
              <a:ext cx="431640" cy="327600"/>
              <a:chOff x="4090320" y="2347200"/>
              <a:chExt cx="431640" cy="327600"/>
            </a:xfrm>
          </p:grpSpPr>
          <p:sp>
            <p:nvSpPr>
              <p:cNvPr id="393" name="Cube 134"/>
              <p:cNvSpPr/>
              <p:nvPr/>
            </p:nvSpPr>
            <p:spPr>
              <a:xfrm>
                <a:off x="4090320" y="2347200"/>
                <a:ext cx="431640" cy="32760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237"/>
              <p:cNvGrpSpPr/>
              <p:nvPr/>
            </p:nvGrpSpPr>
            <p:grpSpPr>
              <a:xfrm>
                <a:off x="4111920" y="2380320"/>
                <a:ext cx="354960" cy="283320"/>
                <a:chOff x="4111920" y="2380320"/>
                <a:chExt cx="354960" cy="283320"/>
              </a:xfrm>
            </p:grpSpPr>
            <p:cxnSp>
              <p:nvCxnSpPr>
                <p:cNvPr id="395" name="Straight Arrow Connector 136"/>
                <p:cNvCxnSpPr>
                  <a:stCxn id="396" idx="7"/>
                </p:cNvCxnSpPr>
                <p:nvPr/>
              </p:nvCxnSpPr>
              <p:spPr>
                <a:xfrm flipV="1">
                  <a:off x="4307400" y="2410200"/>
                  <a:ext cx="129240" cy="525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7" name="Straight Arrow Connector 137"/>
                <p:cNvCxnSpPr/>
                <p:nvPr/>
              </p:nvCxnSpPr>
              <p:spPr>
                <a:xfrm flipH="1" flipV="1">
                  <a:off x="4141440" y="2410200"/>
                  <a:ext cx="77760" cy="525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8" name="Straight Arrow Connector 138"/>
                <p:cNvCxnSpPr/>
                <p:nvPr/>
              </p:nvCxnSpPr>
              <p:spPr>
                <a:xfrm flipH="1">
                  <a:off x="4141440" y="2523960"/>
                  <a:ext cx="77760" cy="525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9" name="Straight Arrow Connector 139"/>
                <p:cNvCxnSpPr/>
                <p:nvPr/>
              </p:nvCxnSpPr>
              <p:spPr>
                <a:xfrm>
                  <a:off x="4307400" y="2529000"/>
                  <a:ext cx="129240" cy="54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00" name="Straight Arrow Connector 140"/>
                <p:cNvCxnSpPr>
                  <a:stCxn id="396" idx="6"/>
                </p:cNvCxnSpPr>
                <p:nvPr/>
              </p:nvCxnSpPr>
              <p:spPr>
                <a:xfrm>
                  <a:off x="4327200" y="2497320"/>
                  <a:ext cx="14004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01" name="Straight Arrow Connector 141"/>
                <p:cNvCxnSpPr/>
                <p:nvPr/>
              </p:nvCxnSpPr>
              <p:spPr>
                <a:xfrm flipH="1">
                  <a:off x="4111920" y="2493360"/>
                  <a:ext cx="8856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02" name="Straight Arrow Connector 142"/>
                <p:cNvCxnSpPr/>
                <p:nvPr/>
              </p:nvCxnSpPr>
              <p:spPr>
                <a:xfrm flipH="1" flipV="1">
                  <a:off x="4257720" y="2380320"/>
                  <a:ext cx="1800" cy="684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03" name="Straight Arrow Connector 143"/>
                <p:cNvCxnSpPr/>
                <p:nvPr/>
              </p:nvCxnSpPr>
              <p:spPr>
                <a:xfrm flipH="1">
                  <a:off x="4259160" y="2546280"/>
                  <a:ext cx="1080" cy="1177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396" name="Oval 144"/>
                <p:cNvSpPr/>
                <p:nvPr/>
              </p:nvSpPr>
              <p:spPr>
                <a:xfrm>
                  <a:off x="4200120" y="2448360"/>
                  <a:ext cx="127080" cy="99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180"/>
            <p:cNvGrpSpPr/>
            <p:nvPr/>
          </p:nvGrpSpPr>
          <p:grpSpPr>
            <a:xfrm>
              <a:off x="3976920" y="2409480"/>
              <a:ext cx="431640" cy="327600"/>
              <a:chOff x="3976920" y="2409480"/>
              <a:chExt cx="431640" cy="327600"/>
            </a:xfrm>
          </p:grpSpPr>
          <p:sp>
            <p:nvSpPr>
              <p:cNvPr id="405" name="Cube 123"/>
              <p:cNvSpPr/>
              <p:nvPr/>
            </p:nvSpPr>
            <p:spPr>
              <a:xfrm>
                <a:off x="3976920" y="2409480"/>
                <a:ext cx="431640" cy="32760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Group 226"/>
              <p:cNvGrpSpPr/>
              <p:nvPr/>
            </p:nvGrpSpPr>
            <p:grpSpPr>
              <a:xfrm>
                <a:off x="3999240" y="2441880"/>
                <a:ext cx="355680" cy="285840"/>
                <a:chOff x="3999240" y="2441880"/>
                <a:chExt cx="355680" cy="285840"/>
              </a:xfrm>
            </p:grpSpPr>
            <p:cxnSp>
              <p:nvCxnSpPr>
                <p:cNvPr id="407" name="Straight Arrow Connector 125"/>
                <p:cNvCxnSpPr>
                  <a:stCxn id="408" idx="7"/>
                </p:cNvCxnSpPr>
                <p:nvPr/>
              </p:nvCxnSpPr>
              <p:spPr>
                <a:xfrm flipV="1">
                  <a:off x="4247640" y="2477880"/>
                  <a:ext cx="777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09" name="Straight Arrow Connector 126"/>
                <p:cNvCxnSpPr/>
                <p:nvPr/>
              </p:nvCxnSpPr>
              <p:spPr>
                <a:xfrm flipH="1" flipV="1">
                  <a:off x="4028760" y="2477880"/>
                  <a:ext cx="12924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0" name="Straight Arrow Connector 127"/>
                <p:cNvCxnSpPr/>
                <p:nvPr/>
              </p:nvCxnSpPr>
              <p:spPr>
                <a:xfrm flipH="1">
                  <a:off x="4028760" y="2617200"/>
                  <a:ext cx="12924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1" name="Straight Arrow Connector 128"/>
                <p:cNvCxnSpPr/>
                <p:nvPr/>
              </p:nvCxnSpPr>
              <p:spPr>
                <a:xfrm>
                  <a:off x="4247640" y="2623680"/>
                  <a:ext cx="777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2" name="Straight Arrow Connector 129"/>
                <p:cNvCxnSpPr>
                  <a:stCxn id="408" idx="6"/>
                </p:cNvCxnSpPr>
                <p:nvPr/>
              </p:nvCxnSpPr>
              <p:spPr>
                <a:xfrm>
                  <a:off x="4266720" y="2583720"/>
                  <a:ext cx="8856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3" name="Straight Arrow Connector 130"/>
                <p:cNvCxnSpPr/>
                <p:nvPr/>
              </p:nvCxnSpPr>
              <p:spPr>
                <a:xfrm flipH="1">
                  <a:off x="3999240" y="2580480"/>
                  <a:ext cx="14004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4" name="Straight Arrow Connector 131"/>
                <p:cNvCxnSpPr/>
                <p:nvPr/>
              </p:nvCxnSpPr>
              <p:spPr>
                <a:xfrm flipH="1" flipV="1">
                  <a:off x="4196880" y="2441880"/>
                  <a:ext cx="180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5" name="Straight Arrow Connector 132"/>
                <p:cNvCxnSpPr/>
                <p:nvPr/>
              </p:nvCxnSpPr>
              <p:spPr>
                <a:xfrm flipH="1">
                  <a:off x="4198320" y="2644560"/>
                  <a:ext cx="108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408" name="Oval 133"/>
                <p:cNvSpPr/>
                <p:nvPr/>
              </p:nvSpPr>
              <p:spPr>
                <a:xfrm>
                  <a:off x="4139280" y="2525040"/>
                  <a:ext cx="12708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Group 181"/>
            <p:cNvGrpSpPr/>
            <p:nvPr/>
          </p:nvGrpSpPr>
          <p:grpSpPr>
            <a:xfrm>
              <a:off x="3863520" y="2471760"/>
              <a:ext cx="431640" cy="327600"/>
              <a:chOff x="3863520" y="2471760"/>
              <a:chExt cx="431640" cy="327600"/>
            </a:xfrm>
          </p:grpSpPr>
          <p:sp>
            <p:nvSpPr>
              <p:cNvPr id="417" name="Cube 112"/>
              <p:cNvSpPr/>
              <p:nvPr/>
            </p:nvSpPr>
            <p:spPr>
              <a:xfrm>
                <a:off x="3863520" y="2471760"/>
                <a:ext cx="431640" cy="32760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Group 215"/>
              <p:cNvGrpSpPr/>
              <p:nvPr/>
            </p:nvGrpSpPr>
            <p:grpSpPr>
              <a:xfrm>
                <a:off x="3885480" y="2504520"/>
                <a:ext cx="355320" cy="285840"/>
                <a:chOff x="3885480" y="2504520"/>
                <a:chExt cx="355320" cy="285840"/>
              </a:xfrm>
            </p:grpSpPr>
            <p:cxnSp>
              <p:nvCxnSpPr>
                <p:cNvPr id="419" name="Straight Arrow Connector 114"/>
                <p:cNvCxnSpPr>
                  <a:stCxn id="420" idx="7"/>
                </p:cNvCxnSpPr>
                <p:nvPr/>
              </p:nvCxnSpPr>
              <p:spPr>
                <a:xfrm flipV="1">
                  <a:off x="4115520" y="254052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21" name="Straight Arrow Connector 115"/>
                <p:cNvCxnSpPr/>
                <p:nvPr/>
              </p:nvCxnSpPr>
              <p:spPr>
                <a:xfrm flipH="1" flipV="1">
                  <a:off x="3920040" y="254052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22" name="Straight Arrow Connector 116"/>
                <p:cNvCxnSpPr/>
                <p:nvPr/>
              </p:nvCxnSpPr>
              <p:spPr>
                <a:xfrm flipH="1">
                  <a:off x="3920040" y="267984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23" name="Straight Arrow Connector 117"/>
                <p:cNvCxnSpPr/>
                <p:nvPr/>
              </p:nvCxnSpPr>
              <p:spPr>
                <a:xfrm>
                  <a:off x="4115520" y="2686320"/>
                  <a:ext cx="9072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24" name="Straight Arrow Connector 118"/>
                <p:cNvCxnSpPr>
                  <a:stCxn id="420" idx="6"/>
                </p:cNvCxnSpPr>
                <p:nvPr/>
              </p:nvCxnSpPr>
              <p:spPr>
                <a:xfrm>
                  <a:off x="4137480" y="2646360"/>
                  <a:ext cx="10368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25" name="Straight Arrow Connector 119"/>
                <p:cNvCxnSpPr/>
                <p:nvPr/>
              </p:nvCxnSpPr>
              <p:spPr>
                <a:xfrm flipH="1">
                  <a:off x="3885480" y="2643120"/>
                  <a:ext cx="10368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26" name="Straight Arrow Connector 120"/>
                <p:cNvCxnSpPr/>
                <p:nvPr/>
              </p:nvCxnSpPr>
              <p:spPr>
                <a:xfrm flipH="1" flipV="1">
                  <a:off x="4056480" y="2504520"/>
                  <a:ext cx="216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27" name="Straight Arrow Connector 121"/>
                <p:cNvCxnSpPr/>
                <p:nvPr/>
              </p:nvCxnSpPr>
              <p:spPr>
                <a:xfrm flipH="1">
                  <a:off x="4057560" y="2707200"/>
                  <a:ext cx="1080" cy="835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420" name="Oval 122"/>
                <p:cNvSpPr/>
                <p:nvPr/>
              </p:nvSpPr>
              <p:spPr>
                <a:xfrm>
                  <a:off x="3988800" y="2587680"/>
                  <a:ext cx="14868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Straight Connector 80"/>
            <p:cNvSpPr/>
            <p:nvPr/>
          </p:nvSpPr>
          <p:spPr>
            <a:xfrm flipH="1" flipV="1">
              <a:off x="3809880" y="1863360"/>
              <a:ext cx="172800" cy="669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81"/>
            <p:cNvSpPr/>
            <p:nvPr/>
          </p:nvSpPr>
          <p:spPr>
            <a:xfrm flipV="1">
              <a:off x="4002840" y="1863360"/>
              <a:ext cx="1353960" cy="80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0" descr=""/>
            <p:cNvPicPr/>
            <p:nvPr/>
          </p:nvPicPr>
          <p:blipFill>
            <a:blip r:embed="rId13"/>
            <a:stretch/>
          </p:blipFill>
          <p:spPr>
            <a:xfrm>
              <a:off x="3488040" y="31867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20" descr=""/>
            <p:cNvPicPr/>
            <p:nvPr/>
          </p:nvPicPr>
          <p:blipFill>
            <a:blip r:embed="rId14"/>
            <a:stretch/>
          </p:blipFill>
          <p:spPr>
            <a:xfrm>
              <a:off x="3627000" y="31867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0" descr=""/>
            <p:cNvPicPr/>
            <p:nvPr/>
          </p:nvPicPr>
          <p:blipFill>
            <a:blip r:embed="rId15"/>
            <a:stretch/>
          </p:blipFill>
          <p:spPr>
            <a:xfrm>
              <a:off x="3765960" y="31867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0" descr=""/>
            <p:cNvPicPr/>
            <p:nvPr/>
          </p:nvPicPr>
          <p:blipFill>
            <a:blip r:embed="rId16"/>
            <a:stretch/>
          </p:blipFill>
          <p:spPr>
            <a:xfrm>
              <a:off x="3904560" y="31867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0" descr=""/>
            <p:cNvPicPr/>
            <p:nvPr/>
          </p:nvPicPr>
          <p:blipFill>
            <a:blip r:embed="rId17"/>
            <a:stretch/>
          </p:blipFill>
          <p:spPr>
            <a:xfrm>
              <a:off x="4043520" y="31867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20" descr=""/>
            <p:cNvPicPr/>
            <p:nvPr/>
          </p:nvPicPr>
          <p:blipFill>
            <a:blip r:embed="rId18"/>
            <a:stretch/>
          </p:blipFill>
          <p:spPr>
            <a:xfrm>
              <a:off x="4182480" y="318672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20" descr=""/>
            <p:cNvPicPr/>
            <p:nvPr/>
          </p:nvPicPr>
          <p:blipFill>
            <a:blip r:embed="rId19"/>
            <a:stretch/>
          </p:blipFill>
          <p:spPr>
            <a:xfrm>
              <a:off x="3448080" y="32814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20" descr=""/>
            <p:cNvPicPr/>
            <p:nvPr/>
          </p:nvPicPr>
          <p:blipFill>
            <a:blip r:embed="rId20"/>
            <a:stretch/>
          </p:blipFill>
          <p:spPr>
            <a:xfrm>
              <a:off x="3587040" y="32814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20" descr=""/>
            <p:cNvPicPr/>
            <p:nvPr/>
          </p:nvPicPr>
          <p:blipFill>
            <a:blip r:embed="rId21"/>
            <a:stretch/>
          </p:blipFill>
          <p:spPr>
            <a:xfrm>
              <a:off x="3726000" y="32814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20" descr=""/>
            <p:cNvPicPr/>
            <p:nvPr/>
          </p:nvPicPr>
          <p:blipFill>
            <a:blip r:embed="rId22"/>
            <a:stretch/>
          </p:blipFill>
          <p:spPr>
            <a:xfrm>
              <a:off x="3864600" y="32814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20" descr=""/>
            <p:cNvPicPr/>
            <p:nvPr/>
          </p:nvPicPr>
          <p:blipFill>
            <a:blip r:embed="rId23"/>
            <a:stretch/>
          </p:blipFill>
          <p:spPr>
            <a:xfrm>
              <a:off x="4003560" y="32814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0" descr=""/>
            <p:cNvPicPr/>
            <p:nvPr/>
          </p:nvPicPr>
          <p:blipFill>
            <a:blip r:embed="rId24"/>
            <a:stretch/>
          </p:blipFill>
          <p:spPr>
            <a:xfrm>
              <a:off x="4142520" y="3281400"/>
              <a:ext cx="33372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Straight Connector 94"/>
            <p:cNvSpPr/>
            <p:nvPr/>
          </p:nvSpPr>
          <p:spPr>
            <a:xfrm flipH="1">
              <a:off x="3627360" y="2751120"/>
              <a:ext cx="271440" cy="434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95"/>
            <p:cNvSpPr/>
            <p:nvPr/>
          </p:nvSpPr>
          <p:spPr>
            <a:xfrm flipH="1">
              <a:off x="3794040" y="2768760"/>
              <a:ext cx="156960" cy="417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traight Connector 96"/>
            <p:cNvSpPr/>
            <p:nvPr/>
          </p:nvSpPr>
          <p:spPr>
            <a:xfrm flipH="1">
              <a:off x="3932280" y="2768760"/>
              <a:ext cx="18720" cy="417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traight Connector 97"/>
            <p:cNvSpPr/>
            <p:nvPr/>
          </p:nvSpPr>
          <p:spPr>
            <a:xfrm>
              <a:off x="3950280" y="2768760"/>
              <a:ext cx="120600" cy="417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traight Connector 98"/>
            <p:cNvSpPr/>
            <p:nvPr/>
          </p:nvSpPr>
          <p:spPr>
            <a:xfrm>
              <a:off x="4003560" y="2751120"/>
              <a:ext cx="179280" cy="434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99"/>
            <p:cNvSpPr/>
            <p:nvPr/>
          </p:nvSpPr>
          <p:spPr>
            <a:xfrm>
              <a:off x="4024080" y="2710080"/>
              <a:ext cx="325440" cy="4762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202"/>
            <p:cNvGrpSpPr/>
            <p:nvPr/>
          </p:nvGrpSpPr>
          <p:grpSpPr>
            <a:xfrm>
              <a:off x="3750120" y="2534040"/>
              <a:ext cx="431640" cy="327600"/>
              <a:chOff x="3750120" y="2534040"/>
              <a:chExt cx="431640" cy="327600"/>
            </a:xfrm>
          </p:grpSpPr>
          <p:sp>
            <p:nvSpPr>
              <p:cNvPr id="449" name="Cube 101"/>
              <p:cNvSpPr/>
              <p:nvPr/>
            </p:nvSpPr>
            <p:spPr>
              <a:xfrm>
                <a:off x="3750120" y="2534040"/>
                <a:ext cx="431640" cy="32760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204"/>
              <p:cNvGrpSpPr/>
              <p:nvPr/>
            </p:nvGrpSpPr>
            <p:grpSpPr>
              <a:xfrm>
                <a:off x="3773160" y="2566800"/>
                <a:ext cx="354240" cy="284400"/>
                <a:chOff x="3773160" y="2566800"/>
                <a:chExt cx="354240" cy="284400"/>
              </a:xfrm>
            </p:grpSpPr>
            <p:cxnSp>
              <p:nvCxnSpPr>
                <p:cNvPr id="451" name="Straight Arrow Connector 103"/>
                <p:cNvCxnSpPr>
                  <a:stCxn id="452" idx="7"/>
                </p:cNvCxnSpPr>
                <p:nvPr/>
              </p:nvCxnSpPr>
              <p:spPr>
                <a:xfrm flipV="1">
                  <a:off x="3989520" y="2596680"/>
                  <a:ext cx="112320" cy="525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53" name="Straight Arrow Connector 104"/>
                <p:cNvCxnSpPr/>
                <p:nvPr/>
              </p:nvCxnSpPr>
              <p:spPr>
                <a:xfrm flipH="1" flipV="1">
                  <a:off x="3798360" y="2596680"/>
                  <a:ext cx="113400" cy="525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54" name="Straight Arrow Connector 105"/>
                <p:cNvCxnSpPr/>
                <p:nvPr/>
              </p:nvCxnSpPr>
              <p:spPr>
                <a:xfrm flipH="1">
                  <a:off x="3798360" y="2710440"/>
                  <a:ext cx="113400" cy="1022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55" name="Straight Arrow Connector 106"/>
                <p:cNvCxnSpPr/>
                <p:nvPr/>
              </p:nvCxnSpPr>
              <p:spPr>
                <a:xfrm>
                  <a:off x="3989520" y="2765160"/>
                  <a:ext cx="112320" cy="54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56" name="Straight Arrow Connector 107"/>
                <p:cNvCxnSpPr>
                  <a:stCxn id="452" idx="6"/>
                </p:cNvCxnSpPr>
                <p:nvPr/>
              </p:nvCxnSpPr>
              <p:spPr>
                <a:xfrm>
                  <a:off x="4006080" y="2683800"/>
                  <a:ext cx="12168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57" name="Straight Arrow Connector 108"/>
                <p:cNvCxnSpPr/>
                <p:nvPr/>
              </p:nvCxnSpPr>
              <p:spPr>
                <a:xfrm flipH="1">
                  <a:off x="3773160" y="2679840"/>
                  <a:ext cx="12168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58" name="Straight Arrow Connector 109"/>
                <p:cNvCxnSpPr/>
                <p:nvPr/>
              </p:nvCxnSpPr>
              <p:spPr>
                <a:xfrm flipH="1" flipV="1">
                  <a:off x="3945600" y="2566800"/>
                  <a:ext cx="1080" cy="684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459" name="Straight Arrow Connector 110"/>
                <p:cNvCxnSpPr/>
                <p:nvPr/>
              </p:nvCxnSpPr>
              <p:spPr>
                <a:xfrm flipH="1">
                  <a:off x="3945600" y="2783160"/>
                  <a:ext cx="1080" cy="684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452" name="Oval 111"/>
                <p:cNvSpPr/>
                <p:nvPr/>
              </p:nvSpPr>
              <p:spPr>
                <a:xfrm>
                  <a:off x="3894480" y="2634840"/>
                  <a:ext cx="111600" cy="148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0" name="Group 247"/>
            <p:cNvGrpSpPr/>
            <p:nvPr/>
          </p:nvGrpSpPr>
          <p:grpSpPr>
            <a:xfrm>
              <a:off x="3893040" y="1834560"/>
              <a:ext cx="1639800" cy="1803600"/>
              <a:chOff x="3893040" y="1834560"/>
              <a:chExt cx="1639800" cy="1803600"/>
            </a:xfrm>
          </p:grpSpPr>
          <p:grpSp>
            <p:nvGrpSpPr>
              <p:cNvPr id="461" name="Group 248"/>
              <p:cNvGrpSpPr/>
              <p:nvPr/>
            </p:nvGrpSpPr>
            <p:grpSpPr>
              <a:xfrm>
                <a:off x="5100840" y="2342520"/>
                <a:ext cx="432000" cy="328320"/>
                <a:chOff x="5100840" y="2342520"/>
                <a:chExt cx="432000" cy="328320"/>
              </a:xfrm>
            </p:grpSpPr>
            <p:sp>
              <p:nvSpPr>
                <p:cNvPr id="462" name="Cube 203"/>
                <p:cNvSpPr/>
                <p:nvPr/>
              </p:nvSpPr>
              <p:spPr>
                <a:xfrm>
                  <a:off x="5100840" y="2374560"/>
                  <a:ext cx="432000" cy="29628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Group 306"/>
                <p:cNvGrpSpPr/>
                <p:nvPr/>
              </p:nvGrpSpPr>
              <p:grpSpPr>
                <a:xfrm>
                  <a:off x="5123520" y="2342520"/>
                  <a:ext cx="355680" cy="316080"/>
                  <a:chOff x="5123520" y="2342520"/>
                  <a:chExt cx="355680" cy="316080"/>
                </a:xfrm>
              </p:grpSpPr>
              <p:cxnSp>
                <p:nvCxnSpPr>
                  <p:cNvPr id="464" name="Straight Arrow Connector 205"/>
                  <p:cNvCxnSpPr>
                    <a:stCxn id="465" idx="7"/>
                  </p:cNvCxnSpPr>
                  <p:nvPr/>
                </p:nvCxnSpPr>
                <p:spPr>
                  <a:xfrm flipV="1">
                    <a:off x="5371920" y="2383200"/>
                    <a:ext cx="7776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66" name="Straight Arrow Connector 206"/>
                  <p:cNvCxnSpPr/>
                  <p:nvPr/>
                </p:nvCxnSpPr>
                <p:spPr>
                  <a:xfrm flipH="1" flipV="1">
                    <a:off x="5152680" y="2383200"/>
                    <a:ext cx="12924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67" name="Straight Arrow Connector 207"/>
                  <p:cNvCxnSpPr/>
                  <p:nvPr/>
                </p:nvCxnSpPr>
                <p:spPr>
                  <a:xfrm flipH="1">
                    <a:off x="5152680" y="2537640"/>
                    <a:ext cx="12924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68" name="Straight Arrow Connector 208"/>
                  <p:cNvCxnSpPr/>
                  <p:nvPr/>
                </p:nvCxnSpPr>
                <p:spPr>
                  <a:xfrm>
                    <a:off x="5371920" y="2544480"/>
                    <a:ext cx="7776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69" name="Straight Arrow Connector 209"/>
                  <p:cNvCxnSpPr>
                    <a:stCxn id="465" idx="6"/>
                  </p:cNvCxnSpPr>
                  <p:nvPr/>
                </p:nvCxnSpPr>
                <p:spPr>
                  <a:xfrm>
                    <a:off x="5391000" y="2500200"/>
                    <a:ext cx="8856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70" name="Straight Arrow Connector 210"/>
                  <p:cNvCxnSpPr/>
                  <p:nvPr/>
                </p:nvCxnSpPr>
                <p:spPr>
                  <a:xfrm flipH="1">
                    <a:off x="5123520" y="2496600"/>
                    <a:ext cx="14040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71" name="Straight Arrow Connector 211"/>
                  <p:cNvCxnSpPr/>
                  <p:nvPr/>
                </p:nvCxnSpPr>
                <p:spPr>
                  <a:xfrm flipH="1" flipV="1">
                    <a:off x="5321160" y="2342520"/>
                    <a:ext cx="1800" cy="925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72" name="Straight Arrow Connector 212"/>
                  <p:cNvCxnSpPr/>
                  <p:nvPr/>
                </p:nvCxnSpPr>
                <p:spPr>
                  <a:xfrm flipH="1">
                    <a:off x="5322240" y="2566440"/>
                    <a:ext cx="1080" cy="925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465" name="Oval 213"/>
                  <p:cNvSpPr/>
                  <p:nvPr/>
                </p:nvSpPr>
                <p:spPr>
                  <a:xfrm>
                    <a:off x="5263560" y="2435040"/>
                    <a:ext cx="127440" cy="13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" name="Group 249"/>
              <p:cNvGrpSpPr/>
              <p:nvPr/>
            </p:nvGrpSpPr>
            <p:grpSpPr>
              <a:xfrm>
                <a:off x="4987440" y="2405520"/>
                <a:ext cx="432000" cy="327600"/>
                <a:chOff x="4987440" y="2405520"/>
                <a:chExt cx="432000" cy="327600"/>
              </a:xfrm>
            </p:grpSpPr>
            <p:sp>
              <p:nvSpPr>
                <p:cNvPr id="474" name="Cube 192"/>
                <p:cNvSpPr/>
                <p:nvPr/>
              </p:nvSpPr>
              <p:spPr>
                <a:xfrm>
                  <a:off x="4987440" y="2405520"/>
                  <a:ext cx="432000" cy="32760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Group 295"/>
                <p:cNvGrpSpPr/>
                <p:nvPr/>
              </p:nvGrpSpPr>
              <p:grpSpPr>
                <a:xfrm>
                  <a:off x="5009760" y="2437200"/>
                  <a:ext cx="355680" cy="286200"/>
                  <a:chOff x="5009760" y="2437200"/>
                  <a:chExt cx="355680" cy="286200"/>
                </a:xfrm>
              </p:grpSpPr>
              <p:cxnSp>
                <p:nvCxnSpPr>
                  <p:cNvPr id="476" name="Straight Arrow Connector 194"/>
                  <p:cNvCxnSpPr>
                    <a:stCxn id="477" idx="7"/>
                  </p:cNvCxnSpPr>
                  <p:nvPr/>
                </p:nvCxnSpPr>
                <p:spPr>
                  <a:xfrm flipV="1">
                    <a:off x="5238720" y="2484360"/>
                    <a:ext cx="91080" cy="10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78" name="Straight Arrow Connector 195"/>
                  <p:cNvCxnSpPr/>
                  <p:nvPr/>
                </p:nvCxnSpPr>
                <p:spPr>
                  <a:xfrm flipH="1" flipV="1">
                    <a:off x="5043960" y="2483640"/>
                    <a:ext cx="91080" cy="126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79" name="Straight Arrow Connector 196"/>
                  <p:cNvCxnSpPr/>
                  <p:nvPr/>
                </p:nvCxnSpPr>
                <p:spPr>
                  <a:xfrm flipH="1">
                    <a:off x="5043960" y="2583360"/>
                    <a:ext cx="9108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80" name="Straight Arrow Connector 197"/>
                  <p:cNvCxnSpPr/>
                  <p:nvPr/>
                </p:nvCxnSpPr>
                <p:spPr>
                  <a:xfrm>
                    <a:off x="5238720" y="2591640"/>
                    <a:ext cx="9108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81" name="Straight Arrow Connector 198"/>
                  <p:cNvCxnSpPr>
                    <a:stCxn id="477" idx="6"/>
                  </p:cNvCxnSpPr>
                  <p:nvPr/>
                </p:nvCxnSpPr>
                <p:spPr>
                  <a:xfrm>
                    <a:off x="5262120" y="2540520"/>
                    <a:ext cx="10368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82" name="Straight Arrow Connector 199"/>
                  <p:cNvCxnSpPr/>
                  <p:nvPr/>
                </p:nvCxnSpPr>
                <p:spPr>
                  <a:xfrm flipH="1">
                    <a:off x="5009760" y="2536560"/>
                    <a:ext cx="10368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83" name="Straight Arrow Connector 200"/>
                  <p:cNvCxnSpPr/>
                  <p:nvPr/>
                </p:nvCxnSpPr>
                <p:spPr>
                  <a:xfrm flipH="1" flipV="1">
                    <a:off x="5180760" y="2437200"/>
                    <a:ext cx="2160" cy="594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84" name="Straight Arrow Connector 201"/>
                  <p:cNvCxnSpPr/>
                  <p:nvPr/>
                </p:nvCxnSpPr>
                <p:spPr>
                  <a:xfrm flipH="1">
                    <a:off x="5182200" y="2617920"/>
                    <a:ext cx="1080" cy="1058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477" name="Oval 202"/>
                  <p:cNvSpPr/>
                  <p:nvPr/>
                </p:nvSpPr>
                <p:spPr>
                  <a:xfrm>
                    <a:off x="5113080" y="2494440"/>
                    <a:ext cx="149040" cy="12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Group 250"/>
              <p:cNvGrpSpPr/>
              <p:nvPr/>
            </p:nvGrpSpPr>
            <p:grpSpPr>
              <a:xfrm>
                <a:off x="4874040" y="2467800"/>
                <a:ext cx="432000" cy="327600"/>
                <a:chOff x="4874040" y="2467800"/>
                <a:chExt cx="432000" cy="327600"/>
              </a:xfrm>
            </p:grpSpPr>
            <p:sp>
              <p:nvSpPr>
                <p:cNvPr id="486" name="Cube 181"/>
                <p:cNvSpPr/>
                <p:nvPr/>
              </p:nvSpPr>
              <p:spPr>
                <a:xfrm>
                  <a:off x="4874040" y="2467800"/>
                  <a:ext cx="432000" cy="32760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Group 284"/>
                <p:cNvGrpSpPr/>
                <p:nvPr/>
              </p:nvGrpSpPr>
              <p:grpSpPr>
                <a:xfrm>
                  <a:off x="4897080" y="2494440"/>
                  <a:ext cx="385560" cy="239760"/>
                  <a:chOff x="4897080" y="2494440"/>
                  <a:chExt cx="385560" cy="239760"/>
                </a:xfrm>
              </p:grpSpPr>
              <p:cxnSp>
                <p:nvCxnSpPr>
                  <p:cNvPr id="488" name="Straight Arrow Connector 183"/>
                  <p:cNvCxnSpPr>
                    <a:stCxn id="489" idx="7"/>
                  </p:cNvCxnSpPr>
                  <p:nvPr/>
                </p:nvCxnSpPr>
                <p:spPr>
                  <a:xfrm flipV="1">
                    <a:off x="5145120" y="2520000"/>
                    <a:ext cx="99000" cy="864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90" name="Straight Arrow Connector 184"/>
                  <p:cNvCxnSpPr/>
                  <p:nvPr/>
                </p:nvCxnSpPr>
                <p:spPr>
                  <a:xfrm flipH="1" flipV="1">
                    <a:off x="4934880" y="2520000"/>
                    <a:ext cx="99000" cy="864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91" name="Straight Arrow Connector 185"/>
                  <p:cNvCxnSpPr/>
                  <p:nvPr/>
                </p:nvCxnSpPr>
                <p:spPr>
                  <a:xfrm flipH="1">
                    <a:off x="4934880" y="2657880"/>
                    <a:ext cx="99000" cy="446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92" name="Straight Arrow Connector 186"/>
                  <p:cNvCxnSpPr/>
                  <p:nvPr/>
                </p:nvCxnSpPr>
                <p:spPr>
                  <a:xfrm>
                    <a:off x="5145120" y="2662200"/>
                    <a:ext cx="99000" cy="457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93" name="Straight Arrow Connector 187"/>
                  <p:cNvCxnSpPr>
                    <a:stCxn id="489" idx="6"/>
                  </p:cNvCxnSpPr>
                  <p:nvPr/>
                </p:nvCxnSpPr>
                <p:spPr>
                  <a:xfrm>
                    <a:off x="5170320" y="2635560"/>
                    <a:ext cx="11268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94" name="Straight Arrow Connector 188"/>
                  <p:cNvCxnSpPr/>
                  <p:nvPr/>
                </p:nvCxnSpPr>
                <p:spPr>
                  <a:xfrm flipH="1">
                    <a:off x="4897080" y="2632320"/>
                    <a:ext cx="11268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95" name="Straight Arrow Connector 189"/>
                  <p:cNvCxnSpPr/>
                  <p:nvPr/>
                </p:nvCxnSpPr>
                <p:spPr>
                  <a:xfrm flipH="1" flipV="1">
                    <a:off x="5083560" y="2494440"/>
                    <a:ext cx="1080" cy="997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496" name="Straight Arrow Connector 190"/>
                  <p:cNvCxnSpPr/>
                  <p:nvPr/>
                </p:nvCxnSpPr>
                <p:spPr>
                  <a:xfrm flipH="1">
                    <a:off x="5083560" y="2676600"/>
                    <a:ext cx="1080" cy="579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489" name="Oval 191"/>
                  <p:cNvSpPr/>
                  <p:nvPr/>
                </p:nvSpPr>
                <p:spPr>
                  <a:xfrm>
                    <a:off x="5009760" y="2594160"/>
                    <a:ext cx="160560" cy="83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7" name="Straight Connector 149"/>
              <p:cNvSpPr/>
              <p:nvPr/>
            </p:nvSpPr>
            <p:spPr>
              <a:xfrm flipH="1" flipV="1">
                <a:off x="3893040" y="1834560"/>
                <a:ext cx="1100520" cy="695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Straight Connector 150"/>
              <p:cNvSpPr/>
              <p:nvPr/>
            </p:nvSpPr>
            <p:spPr>
              <a:xfrm flipV="1">
                <a:off x="5012280" y="1862640"/>
                <a:ext cx="344520" cy="800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9" name="Picture 20" descr=""/>
              <p:cNvPicPr/>
              <p:nvPr/>
            </p:nvPicPr>
            <p:blipFill>
              <a:blip r:embed="rId25"/>
              <a:stretch/>
            </p:blipFill>
            <p:spPr>
              <a:xfrm>
                <a:off x="4498560" y="318312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20" descr=""/>
              <p:cNvPicPr/>
              <p:nvPr/>
            </p:nvPicPr>
            <p:blipFill>
              <a:blip r:embed="rId26"/>
              <a:stretch/>
            </p:blipFill>
            <p:spPr>
              <a:xfrm>
                <a:off x="4637520" y="318312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20" descr=""/>
              <p:cNvPicPr/>
              <p:nvPr/>
            </p:nvPicPr>
            <p:blipFill>
              <a:blip r:embed="rId27"/>
              <a:stretch/>
            </p:blipFill>
            <p:spPr>
              <a:xfrm>
                <a:off x="4776480" y="318312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20" descr=""/>
              <p:cNvPicPr/>
              <p:nvPr/>
            </p:nvPicPr>
            <p:blipFill>
              <a:blip r:embed="rId28"/>
              <a:stretch/>
            </p:blipFill>
            <p:spPr>
              <a:xfrm>
                <a:off x="4915080" y="318312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Picture 20" descr=""/>
              <p:cNvPicPr/>
              <p:nvPr/>
            </p:nvPicPr>
            <p:blipFill>
              <a:blip r:embed="rId29"/>
              <a:stretch/>
            </p:blipFill>
            <p:spPr>
              <a:xfrm>
                <a:off x="5054040" y="318312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Picture 20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93000" y="318312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Picture 20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8600" y="32781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20" descr=""/>
              <p:cNvPicPr/>
              <p:nvPr/>
            </p:nvPicPr>
            <p:blipFill>
              <a:blip r:embed="rId32"/>
              <a:stretch/>
            </p:blipFill>
            <p:spPr>
              <a:xfrm>
                <a:off x="4597560" y="32781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Picture 20" descr=""/>
              <p:cNvPicPr/>
              <p:nvPr/>
            </p:nvPicPr>
            <p:blipFill>
              <a:blip r:embed="rId33"/>
              <a:stretch/>
            </p:blipFill>
            <p:spPr>
              <a:xfrm>
                <a:off x="4736520" y="32781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Picture 20" descr=""/>
              <p:cNvPicPr/>
              <p:nvPr/>
            </p:nvPicPr>
            <p:blipFill>
              <a:blip r:embed="rId34"/>
              <a:stretch/>
            </p:blipFill>
            <p:spPr>
              <a:xfrm>
                <a:off x="4875120" y="32781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Picture 20" descr=""/>
              <p:cNvPicPr/>
              <p:nvPr/>
            </p:nvPicPr>
            <p:blipFill>
              <a:blip r:embed="rId35"/>
              <a:stretch/>
            </p:blipFill>
            <p:spPr>
              <a:xfrm>
                <a:off x="5014080" y="32781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Picture 20" descr=""/>
              <p:cNvPicPr/>
              <p:nvPr/>
            </p:nvPicPr>
            <p:blipFill>
              <a:blip r:embed="rId36"/>
              <a:stretch/>
            </p:blipFill>
            <p:spPr>
              <a:xfrm>
                <a:off x="5153040" y="32781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Straight Connector 163"/>
              <p:cNvSpPr/>
              <p:nvPr/>
            </p:nvSpPr>
            <p:spPr>
              <a:xfrm flipH="1">
                <a:off x="4636800" y="2749320"/>
                <a:ext cx="271440" cy="433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Straight Connector 164"/>
              <p:cNvSpPr/>
              <p:nvPr/>
            </p:nvSpPr>
            <p:spPr>
              <a:xfrm flipH="1">
                <a:off x="4803480" y="2765160"/>
                <a:ext cx="156960" cy="41760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Straight Connector 165"/>
              <p:cNvSpPr/>
              <p:nvPr/>
            </p:nvSpPr>
            <p:spPr>
              <a:xfrm flipH="1">
                <a:off x="4943160" y="2765160"/>
                <a:ext cx="17280" cy="41760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Straight Connector 166"/>
              <p:cNvSpPr/>
              <p:nvPr/>
            </p:nvSpPr>
            <p:spPr>
              <a:xfrm>
                <a:off x="4960080" y="2765160"/>
                <a:ext cx="120600" cy="41760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Straight Connector 167"/>
              <p:cNvSpPr/>
              <p:nvPr/>
            </p:nvSpPr>
            <p:spPr>
              <a:xfrm>
                <a:off x="5013000" y="2749320"/>
                <a:ext cx="179280" cy="433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Straight Connector 168"/>
              <p:cNvSpPr/>
              <p:nvPr/>
            </p:nvSpPr>
            <p:spPr>
              <a:xfrm>
                <a:off x="5035320" y="2706480"/>
                <a:ext cx="324000" cy="47628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Group 271"/>
              <p:cNvGrpSpPr/>
              <p:nvPr/>
            </p:nvGrpSpPr>
            <p:grpSpPr>
              <a:xfrm>
                <a:off x="4761000" y="2530080"/>
                <a:ext cx="432000" cy="327600"/>
                <a:chOff x="4761000" y="2530080"/>
                <a:chExt cx="432000" cy="327600"/>
              </a:xfrm>
            </p:grpSpPr>
            <p:sp>
              <p:nvSpPr>
                <p:cNvPr id="518" name="Cube 170"/>
                <p:cNvSpPr/>
                <p:nvPr/>
              </p:nvSpPr>
              <p:spPr>
                <a:xfrm>
                  <a:off x="4761000" y="2530080"/>
                  <a:ext cx="432000" cy="32760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Group 273"/>
                <p:cNvGrpSpPr/>
                <p:nvPr/>
              </p:nvGrpSpPr>
              <p:grpSpPr>
                <a:xfrm>
                  <a:off x="4783680" y="2557080"/>
                  <a:ext cx="355680" cy="239760"/>
                  <a:chOff x="4783680" y="2557080"/>
                  <a:chExt cx="355680" cy="239760"/>
                </a:xfrm>
              </p:grpSpPr>
              <p:cxnSp>
                <p:nvCxnSpPr>
                  <p:cNvPr id="520" name="Straight Arrow Connector 172"/>
                  <p:cNvCxnSpPr>
                    <a:stCxn id="521" idx="7"/>
                  </p:cNvCxnSpPr>
                  <p:nvPr/>
                </p:nvCxnSpPr>
                <p:spPr>
                  <a:xfrm flipV="1">
                    <a:off x="5032080" y="2582640"/>
                    <a:ext cx="77760" cy="446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22" name="Straight Arrow Connector 173"/>
                  <p:cNvCxnSpPr/>
                  <p:nvPr/>
                </p:nvCxnSpPr>
                <p:spPr>
                  <a:xfrm flipH="1" flipV="1">
                    <a:off x="4812840" y="2582640"/>
                    <a:ext cx="129240" cy="446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23" name="Straight Arrow Connector 174"/>
                  <p:cNvCxnSpPr/>
                  <p:nvPr/>
                </p:nvCxnSpPr>
                <p:spPr>
                  <a:xfrm flipH="1">
                    <a:off x="4812840" y="2720520"/>
                    <a:ext cx="129240" cy="446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24" name="Straight Arrow Connector 175"/>
                  <p:cNvCxnSpPr/>
                  <p:nvPr/>
                </p:nvCxnSpPr>
                <p:spPr>
                  <a:xfrm>
                    <a:off x="5032080" y="2724840"/>
                    <a:ext cx="77760" cy="457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25" name="Straight Arrow Connector 176"/>
                  <p:cNvCxnSpPr>
                    <a:stCxn id="521" idx="6"/>
                  </p:cNvCxnSpPr>
                  <p:nvPr/>
                </p:nvCxnSpPr>
                <p:spPr>
                  <a:xfrm>
                    <a:off x="5051160" y="2698200"/>
                    <a:ext cx="8856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26" name="Straight Arrow Connector 177"/>
                  <p:cNvCxnSpPr/>
                  <p:nvPr/>
                </p:nvCxnSpPr>
                <p:spPr>
                  <a:xfrm flipH="1">
                    <a:off x="4783680" y="2694960"/>
                    <a:ext cx="14040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27" name="Straight Arrow Connector 178"/>
                  <p:cNvCxnSpPr/>
                  <p:nvPr/>
                </p:nvCxnSpPr>
                <p:spPr>
                  <a:xfrm flipH="1" flipV="1">
                    <a:off x="4981320" y="2557080"/>
                    <a:ext cx="1800" cy="579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28" name="Straight Arrow Connector 179"/>
                  <p:cNvCxnSpPr/>
                  <p:nvPr/>
                </p:nvCxnSpPr>
                <p:spPr>
                  <a:xfrm flipH="1">
                    <a:off x="4982400" y="2739240"/>
                    <a:ext cx="1080" cy="579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521" name="Oval 180"/>
                  <p:cNvSpPr/>
                  <p:nvPr/>
                </p:nvSpPr>
                <p:spPr>
                  <a:xfrm>
                    <a:off x="4923720" y="2615040"/>
                    <a:ext cx="127440" cy="125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9" name="Group 316"/>
            <p:cNvGrpSpPr/>
            <p:nvPr/>
          </p:nvGrpSpPr>
          <p:grpSpPr>
            <a:xfrm>
              <a:off x="3927240" y="1763280"/>
              <a:ext cx="2616480" cy="1871280"/>
              <a:chOff x="3927240" y="1763280"/>
              <a:chExt cx="2616480" cy="1871280"/>
            </a:xfrm>
          </p:grpSpPr>
          <p:grpSp>
            <p:nvGrpSpPr>
              <p:cNvPr id="530" name="Group 317"/>
              <p:cNvGrpSpPr/>
              <p:nvPr/>
            </p:nvGrpSpPr>
            <p:grpSpPr>
              <a:xfrm>
                <a:off x="6112080" y="2340000"/>
                <a:ext cx="431640" cy="327600"/>
                <a:chOff x="6112080" y="2340000"/>
                <a:chExt cx="431640" cy="327600"/>
              </a:xfrm>
            </p:grpSpPr>
            <p:sp>
              <p:nvSpPr>
                <p:cNvPr id="531" name="Cube 272"/>
                <p:cNvSpPr/>
                <p:nvPr/>
              </p:nvSpPr>
              <p:spPr>
                <a:xfrm>
                  <a:off x="6112080" y="2340000"/>
                  <a:ext cx="431640" cy="32760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2" name="Group 375"/>
                <p:cNvGrpSpPr/>
                <p:nvPr/>
              </p:nvGrpSpPr>
              <p:grpSpPr>
                <a:xfrm>
                  <a:off x="6134400" y="2372760"/>
                  <a:ext cx="355320" cy="284400"/>
                  <a:chOff x="6134400" y="2372760"/>
                  <a:chExt cx="355320" cy="284400"/>
                </a:xfrm>
              </p:grpSpPr>
              <p:cxnSp>
                <p:nvCxnSpPr>
                  <p:cNvPr id="533" name="Straight Arrow Connector 274"/>
                  <p:cNvCxnSpPr>
                    <a:stCxn id="534" idx="7"/>
                  </p:cNvCxnSpPr>
                  <p:nvPr/>
                </p:nvCxnSpPr>
                <p:spPr>
                  <a:xfrm flipV="1">
                    <a:off x="6364440" y="2402640"/>
                    <a:ext cx="90720" cy="525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35" name="Straight Arrow Connector 275"/>
                  <p:cNvCxnSpPr/>
                  <p:nvPr/>
                </p:nvCxnSpPr>
                <p:spPr>
                  <a:xfrm flipH="1" flipV="1">
                    <a:off x="6168960" y="2402640"/>
                    <a:ext cx="90720" cy="525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36" name="Straight Arrow Connector 276"/>
                  <p:cNvCxnSpPr/>
                  <p:nvPr/>
                </p:nvCxnSpPr>
                <p:spPr>
                  <a:xfrm flipH="1">
                    <a:off x="6168960" y="2516400"/>
                    <a:ext cx="90720" cy="1022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37" name="Straight Arrow Connector 277"/>
                  <p:cNvCxnSpPr/>
                  <p:nvPr/>
                </p:nvCxnSpPr>
                <p:spPr>
                  <a:xfrm>
                    <a:off x="6364440" y="2521080"/>
                    <a:ext cx="90720" cy="1033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38" name="Straight Arrow Connector 278"/>
                  <p:cNvCxnSpPr>
                    <a:stCxn id="534" idx="6"/>
                  </p:cNvCxnSpPr>
                  <p:nvPr/>
                </p:nvCxnSpPr>
                <p:spPr>
                  <a:xfrm>
                    <a:off x="6386400" y="2489760"/>
                    <a:ext cx="10368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39" name="Straight Arrow Connector 279"/>
                  <p:cNvCxnSpPr/>
                  <p:nvPr/>
                </p:nvCxnSpPr>
                <p:spPr>
                  <a:xfrm flipH="1">
                    <a:off x="6134400" y="2485800"/>
                    <a:ext cx="10368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40" name="Straight Arrow Connector 280"/>
                  <p:cNvCxnSpPr/>
                  <p:nvPr/>
                </p:nvCxnSpPr>
                <p:spPr>
                  <a:xfrm flipH="1" flipV="1">
                    <a:off x="6305400" y="2372760"/>
                    <a:ext cx="2160" cy="684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41" name="Straight Arrow Connector 281"/>
                  <p:cNvCxnSpPr/>
                  <p:nvPr/>
                </p:nvCxnSpPr>
                <p:spPr>
                  <a:xfrm flipH="1">
                    <a:off x="6306480" y="2589120"/>
                    <a:ext cx="1080" cy="684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534" name="Oval 282"/>
                  <p:cNvSpPr/>
                  <p:nvPr/>
                </p:nvSpPr>
                <p:spPr>
                  <a:xfrm>
                    <a:off x="6237720" y="2440800"/>
                    <a:ext cx="148680" cy="14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2" name="Group 318"/>
              <p:cNvGrpSpPr/>
              <p:nvPr/>
            </p:nvGrpSpPr>
            <p:grpSpPr>
              <a:xfrm>
                <a:off x="5998680" y="2401560"/>
                <a:ext cx="431640" cy="328320"/>
                <a:chOff x="5998680" y="2401560"/>
                <a:chExt cx="431640" cy="328320"/>
              </a:xfrm>
            </p:grpSpPr>
            <p:sp>
              <p:nvSpPr>
                <p:cNvPr id="543" name="Cube 261"/>
                <p:cNvSpPr/>
                <p:nvPr/>
              </p:nvSpPr>
              <p:spPr>
                <a:xfrm>
                  <a:off x="5998680" y="2431440"/>
                  <a:ext cx="431640" cy="29844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Group 364"/>
                <p:cNvGrpSpPr/>
                <p:nvPr/>
              </p:nvGrpSpPr>
              <p:grpSpPr>
                <a:xfrm>
                  <a:off x="6020280" y="2401560"/>
                  <a:ext cx="354960" cy="316080"/>
                  <a:chOff x="6020280" y="2401560"/>
                  <a:chExt cx="354960" cy="316080"/>
                </a:xfrm>
              </p:grpSpPr>
              <p:cxnSp>
                <p:nvCxnSpPr>
                  <p:cNvPr id="545" name="Straight Arrow Connector 263"/>
                  <p:cNvCxnSpPr>
                    <a:stCxn id="546" idx="7"/>
                  </p:cNvCxnSpPr>
                  <p:nvPr/>
                </p:nvCxnSpPr>
                <p:spPr>
                  <a:xfrm flipV="1">
                    <a:off x="6216840" y="2442240"/>
                    <a:ext cx="7776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47" name="Straight Arrow Connector 264"/>
                  <p:cNvCxnSpPr/>
                  <p:nvPr/>
                </p:nvCxnSpPr>
                <p:spPr>
                  <a:xfrm flipH="1" flipV="1">
                    <a:off x="6049800" y="2442240"/>
                    <a:ext cx="7776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48" name="Straight Arrow Connector 265"/>
                  <p:cNvCxnSpPr/>
                  <p:nvPr/>
                </p:nvCxnSpPr>
                <p:spPr>
                  <a:xfrm flipH="1">
                    <a:off x="6049800" y="2596680"/>
                    <a:ext cx="7776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49" name="Straight Arrow Connector 266"/>
                  <p:cNvCxnSpPr/>
                  <p:nvPr/>
                </p:nvCxnSpPr>
                <p:spPr>
                  <a:xfrm>
                    <a:off x="6216840" y="2603520"/>
                    <a:ext cx="77760" cy="71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50" name="Straight Arrow Connector 267"/>
                  <p:cNvCxnSpPr>
                    <a:stCxn id="546" idx="6"/>
                  </p:cNvCxnSpPr>
                  <p:nvPr/>
                </p:nvCxnSpPr>
                <p:spPr>
                  <a:xfrm>
                    <a:off x="6235560" y="2559240"/>
                    <a:ext cx="14004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51" name="Straight Arrow Connector 268"/>
                  <p:cNvCxnSpPr/>
                  <p:nvPr/>
                </p:nvCxnSpPr>
                <p:spPr>
                  <a:xfrm flipH="1">
                    <a:off x="6020280" y="2555640"/>
                    <a:ext cx="8856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52" name="Straight Arrow Connector 269"/>
                  <p:cNvCxnSpPr/>
                  <p:nvPr/>
                </p:nvCxnSpPr>
                <p:spPr>
                  <a:xfrm flipH="1" flipV="1">
                    <a:off x="6166080" y="2401560"/>
                    <a:ext cx="1800" cy="925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53" name="Straight Arrow Connector 270"/>
                  <p:cNvCxnSpPr/>
                  <p:nvPr/>
                </p:nvCxnSpPr>
                <p:spPr>
                  <a:xfrm flipH="1">
                    <a:off x="6167520" y="2625480"/>
                    <a:ext cx="1080" cy="925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546" name="Oval 271"/>
                  <p:cNvSpPr/>
                  <p:nvPr/>
                </p:nvSpPr>
                <p:spPr>
                  <a:xfrm>
                    <a:off x="6108480" y="2494080"/>
                    <a:ext cx="127080" cy="13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Group 319"/>
              <p:cNvGrpSpPr/>
              <p:nvPr/>
            </p:nvGrpSpPr>
            <p:grpSpPr>
              <a:xfrm>
                <a:off x="5884560" y="2464560"/>
                <a:ext cx="432720" cy="327600"/>
                <a:chOff x="5884560" y="2464560"/>
                <a:chExt cx="432720" cy="327600"/>
              </a:xfrm>
            </p:grpSpPr>
            <p:sp>
              <p:nvSpPr>
                <p:cNvPr id="555" name="Cube 250"/>
                <p:cNvSpPr/>
                <p:nvPr/>
              </p:nvSpPr>
              <p:spPr>
                <a:xfrm>
                  <a:off x="5884560" y="2464560"/>
                  <a:ext cx="432720" cy="32760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Group 353"/>
                <p:cNvGrpSpPr/>
                <p:nvPr/>
              </p:nvGrpSpPr>
              <p:grpSpPr>
                <a:xfrm>
                  <a:off x="5906160" y="2496600"/>
                  <a:ext cx="357120" cy="285840"/>
                  <a:chOff x="5906160" y="2496600"/>
                  <a:chExt cx="357120" cy="285840"/>
                </a:xfrm>
              </p:grpSpPr>
              <p:cxnSp>
                <p:nvCxnSpPr>
                  <p:cNvPr id="557" name="Straight Arrow Connector 252"/>
                  <p:cNvCxnSpPr>
                    <a:stCxn id="558" idx="7"/>
                  </p:cNvCxnSpPr>
                  <p:nvPr/>
                </p:nvCxnSpPr>
                <p:spPr>
                  <a:xfrm flipV="1">
                    <a:off x="6137640" y="2532600"/>
                    <a:ext cx="9144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59" name="Straight Arrow Connector 253"/>
                  <p:cNvCxnSpPr/>
                  <p:nvPr/>
                </p:nvCxnSpPr>
                <p:spPr>
                  <a:xfrm flipH="1" flipV="1">
                    <a:off x="5941440" y="2532600"/>
                    <a:ext cx="9144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60" name="Straight Arrow Connector 254"/>
                  <p:cNvCxnSpPr/>
                  <p:nvPr/>
                </p:nvCxnSpPr>
                <p:spPr>
                  <a:xfrm flipH="1">
                    <a:off x="5941440" y="2671920"/>
                    <a:ext cx="9144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61" name="Straight Arrow Connector 255"/>
                  <p:cNvCxnSpPr/>
                  <p:nvPr/>
                </p:nvCxnSpPr>
                <p:spPr>
                  <a:xfrm>
                    <a:off x="6137640" y="2678400"/>
                    <a:ext cx="9144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62" name="Straight Arrow Connector 256"/>
                  <p:cNvCxnSpPr>
                    <a:stCxn id="558" idx="6"/>
                  </p:cNvCxnSpPr>
                  <p:nvPr/>
                </p:nvCxnSpPr>
                <p:spPr>
                  <a:xfrm>
                    <a:off x="6159600" y="2638440"/>
                    <a:ext cx="10404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63" name="Straight Arrow Connector 257"/>
                  <p:cNvCxnSpPr/>
                  <p:nvPr/>
                </p:nvCxnSpPr>
                <p:spPr>
                  <a:xfrm flipH="1">
                    <a:off x="5906160" y="2635200"/>
                    <a:ext cx="10404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64" name="Straight Arrow Connector 258"/>
                  <p:cNvCxnSpPr/>
                  <p:nvPr/>
                </p:nvCxnSpPr>
                <p:spPr>
                  <a:xfrm flipH="1" flipV="1">
                    <a:off x="6079680" y="2496600"/>
                    <a:ext cx="1080" cy="835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65" name="Straight Arrow Connector 259"/>
                  <p:cNvCxnSpPr/>
                  <p:nvPr/>
                </p:nvCxnSpPr>
                <p:spPr>
                  <a:xfrm flipH="1">
                    <a:off x="6079680" y="2699280"/>
                    <a:ext cx="1080" cy="835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558" name="Oval 260"/>
                  <p:cNvSpPr/>
                  <p:nvPr/>
                </p:nvSpPr>
                <p:spPr>
                  <a:xfrm>
                    <a:off x="6010200" y="2579760"/>
                    <a:ext cx="149400" cy="11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6" name="Straight Connector 218"/>
              <p:cNvSpPr/>
              <p:nvPr/>
            </p:nvSpPr>
            <p:spPr>
              <a:xfrm flipH="1" flipV="1">
                <a:off x="5439960" y="1834200"/>
                <a:ext cx="561960" cy="69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traight Connector 219"/>
              <p:cNvSpPr/>
              <p:nvPr/>
            </p:nvSpPr>
            <p:spPr>
              <a:xfrm flipH="1" flipV="1">
                <a:off x="3927240" y="1763280"/>
                <a:ext cx="2097360" cy="897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8" name="Picture 20" descr=""/>
              <p:cNvPicPr/>
              <p:nvPr/>
            </p:nvPicPr>
            <p:blipFill>
              <a:blip r:embed="rId37"/>
              <a:stretch/>
            </p:blipFill>
            <p:spPr>
              <a:xfrm>
                <a:off x="5509440" y="317988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20" descr=""/>
              <p:cNvPicPr/>
              <p:nvPr/>
            </p:nvPicPr>
            <p:blipFill>
              <a:blip r:embed="rId38"/>
              <a:stretch/>
            </p:blipFill>
            <p:spPr>
              <a:xfrm>
                <a:off x="5648400" y="317988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20" descr=""/>
              <p:cNvPicPr/>
              <p:nvPr/>
            </p:nvPicPr>
            <p:blipFill>
              <a:blip r:embed="rId39"/>
              <a:stretch/>
            </p:blipFill>
            <p:spPr>
              <a:xfrm>
                <a:off x="5787000" y="317988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0" descr=""/>
              <p:cNvPicPr/>
              <p:nvPr/>
            </p:nvPicPr>
            <p:blipFill>
              <a:blip r:embed="rId40"/>
              <a:stretch/>
            </p:blipFill>
            <p:spPr>
              <a:xfrm>
                <a:off x="5925960" y="317988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Picture 20" descr=""/>
              <p:cNvPicPr/>
              <p:nvPr/>
            </p:nvPicPr>
            <p:blipFill>
              <a:blip r:embed="rId41"/>
              <a:stretch/>
            </p:blipFill>
            <p:spPr>
              <a:xfrm>
                <a:off x="6064920" y="317988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Picture 20" descr=""/>
              <p:cNvPicPr/>
              <p:nvPr/>
            </p:nvPicPr>
            <p:blipFill>
              <a:blip r:embed="rId42"/>
              <a:stretch/>
            </p:blipFill>
            <p:spPr>
              <a:xfrm>
                <a:off x="6203880" y="317988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20" descr=""/>
              <p:cNvPicPr/>
              <p:nvPr/>
            </p:nvPicPr>
            <p:blipFill>
              <a:blip r:embed="rId43"/>
              <a:stretch/>
            </p:blipFill>
            <p:spPr>
              <a:xfrm>
                <a:off x="5469480" y="32745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5" name="Picture 20" descr=""/>
              <p:cNvPicPr/>
              <p:nvPr/>
            </p:nvPicPr>
            <p:blipFill>
              <a:blip r:embed="rId44"/>
              <a:stretch/>
            </p:blipFill>
            <p:spPr>
              <a:xfrm>
                <a:off x="5608440" y="32745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Picture 20" descr=""/>
              <p:cNvPicPr/>
              <p:nvPr/>
            </p:nvPicPr>
            <p:blipFill>
              <a:blip r:embed="rId45"/>
              <a:stretch/>
            </p:blipFill>
            <p:spPr>
              <a:xfrm>
                <a:off x="5747040" y="32745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20" descr=""/>
              <p:cNvPicPr/>
              <p:nvPr/>
            </p:nvPicPr>
            <p:blipFill>
              <a:blip r:embed="rId46"/>
              <a:stretch/>
            </p:blipFill>
            <p:spPr>
              <a:xfrm>
                <a:off x="5886000" y="32745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20" descr=""/>
              <p:cNvPicPr/>
              <p:nvPr/>
            </p:nvPicPr>
            <p:blipFill>
              <a:blip r:embed="rId47"/>
              <a:stretch/>
            </p:blipFill>
            <p:spPr>
              <a:xfrm>
                <a:off x="6024960" y="32745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20" descr=""/>
              <p:cNvPicPr/>
              <p:nvPr/>
            </p:nvPicPr>
            <p:blipFill>
              <a:blip r:embed="rId48"/>
              <a:stretch/>
            </p:blipFill>
            <p:spPr>
              <a:xfrm>
                <a:off x="6163920" y="3274560"/>
                <a:ext cx="3340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Straight Connector 232"/>
              <p:cNvSpPr/>
              <p:nvPr/>
            </p:nvSpPr>
            <p:spPr>
              <a:xfrm flipH="1">
                <a:off x="5648400" y="2746080"/>
                <a:ext cx="271440" cy="433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233"/>
              <p:cNvSpPr/>
              <p:nvPr/>
            </p:nvSpPr>
            <p:spPr>
              <a:xfrm flipH="1">
                <a:off x="5815080" y="2761920"/>
                <a:ext cx="156960" cy="41760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234"/>
              <p:cNvSpPr/>
              <p:nvPr/>
            </p:nvSpPr>
            <p:spPr>
              <a:xfrm flipH="1">
                <a:off x="5954760" y="2761920"/>
                <a:ext cx="17280" cy="41760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235"/>
              <p:cNvSpPr/>
              <p:nvPr/>
            </p:nvSpPr>
            <p:spPr>
              <a:xfrm>
                <a:off x="5971680" y="2761920"/>
                <a:ext cx="120600" cy="41760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236"/>
              <p:cNvSpPr/>
              <p:nvPr/>
            </p:nvSpPr>
            <p:spPr>
              <a:xfrm>
                <a:off x="6024600" y="2746080"/>
                <a:ext cx="179280" cy="433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237"/>
              <p:cNvSpPr/>
              <p:nvPr/>
            </p:nvSpPr>
            <p:spPr>
              <a:xfrm>
                <a:off x="6046920" y="2703240"/>
                <a:ext cx="323640" cy="47628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Group 340"/>
              <p:cNvGrpSpPr/>
              <p:nvPr/>
            </p:nvGrpSpPr>
            <p:grpSpPr>
              <a:xfrm>
                <a:off x="5771160" y="2526840"/>
                <a:ext cx="432720" cy="327600"/>
                <a:chOff x="5771160" y="2526840"/>
                <a:chExt cx="432720" cy="327600"/>
              </a:xfrm>
            </p:grpSpPr>
            <p:sp>
              <p:nvSpPr>
                <p:cNvPr id="587" name="Cube 239"/>
                <p:cNvSpPr/>
                <p:nvPr/>
              </p:nvSpPr>
              <p:spPr>
                <a:xfrm>
                  <a:off x="5771160" y="2526840"/>
                  <a:ext cx="432720" cy="32760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9bc1ff"/>
                    </a:gs>
                    <a:gs pos="100000">
                      <a:srgbClr val="3f80c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" name="Group 342"/>
                <p:cNvGrpSpPr/>
                <p:nvPr/>
              </p:nvGrpSpPr>
              <p:grpSpPr>
                <a:xfrm>
                  <a:off x="5794200" y="2553840"/>
                  <a:ext cx="354960" cy="239760"/>
                  <a:chOff x="5794200" y="2553840"/>
                  <a:chExt cx="354960" cy="239760"/>
                </a:xfrm>
              </p:grpSpPr>
              <p:cxnSp>
                <p:nvCxnSpPr>
                  <p:cNvPr id="589" name="Straight Arrow Connector 241"/>
                  <p:cNvCxnSpPr>
                    <a:stCxn id="590" idx="7"/>
                  </p:cNvCxnSpPr>
                  <p:nvPr/>
                </p:nvCxnSpPr>
                <p:spPr>
                  <a:xfrm flipV="1">
                    <a:off x="6041880" y="2579400"/>
                    <a:ext cx="77400" cy="864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91" name="Straight Arrow Connector 242"/>
                  <p:cNvCxnSpPr/>
                  <p:nvPr/>
                </p:nvCxnSpPr>
                <p:spPr>
                  <a:xfrm flipH="1" flipV="1">
                    <a:off x="5823720" y="2579400"/>
                    <a:ext cx="130320" cy="864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92" name="Straight Arrow Connector 243"/>
                  <p:cNvCxnSpPr/>
                  <p:nvPr/>
                </p:nvCxnSpPr>
                <p:spPr>
                  <a:xfrm flipH="1">
                    <a:off x="5823720" y="2717280"/>
                    <a:ext cx="130320" cy="446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93" name="Straight Arrow Connector 244"/>
                  <p:cNvCxnSpPr/>
                  <p:nvPr/>
                </p:nvCxnSpPr>
                <p:spPr>
                  <a:xfrm>
                    <a:off x="6041880" y="2721600"/>
                    <a:ext cx="77400" cy="4572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94" name="Straight Arrow Connector 245"/>
                  <p:cNvCxnSpPr>
                    <a:stCxn id="590" idx="6"/>
                  </p:cNvCxnSpPr>
                  <p:nvPr/>
                </p:nvCxnSpPr>
                <p:spPr>
                  <a:xfrm>
                    <a:off x="6061680" y="2694960"/>
                    <a:ext cx="8784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95" name="Straight Arrow Connector 246"/>
                  <p:cNvCxnSpPr/>
                  <p:nvPr/>
                </p:nvCxnSpPr>
                <p:spPr>
                  <a:xfrm flipH="1">
                    <a:off x="5794200" y="2691720"/>
                    <a:ext cx="139680" cy="10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96" name="Straight Arrow Connector 247"/>
                  <p:cNvCxnSpPr/>
                  <p:nvPr/>
                </p:nvCxnSpPr>
                <p:spPr>
                  <a:xfrm flipH="1" flipV="1">
                    <a:off x="5992200" y="2553840"/>
                    <a:ext cx="1080" cy="579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597" name="Straight Arrow Connector 248"/>
                  <p:cNvCxnSpPr/>
                  <p:nvPr/>
                </p:nvCxnSpPr>
                <p:spPr>
                  <a:xfrm flipH="1">
                    <a:off x="5992200" y="2736000"/>
                    <a:ext cx="1080" cy="579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590" name="Oval 249"/>
                  <p:cNvSpPr/>
                  <p:nvPr/>
                </p:nvSpPr>
                <p:spPr>
                  <a:xfrm>
                    <a:off x="5933520" y="2611800"/>
                    <a:ext cx="128160" cy="125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8" name="Cube 284"/>
            <p:cNvSpPr/>
            <p:nvPr/>
          </p:nvSpPr>
          <p:spPr>
            <a:xfrm>
              <a:off x="5043600" y="1466640"/>
              <a:ext cx="67932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9" name="Straight Arrow Connector 286"/>
            <p:cNvCxnSpPr>
              <a:stCxn id="600" idx="7"/>
            </p:cNvCxnSpPr>
            <p:nvPr/>
          </p:nvCxnSpPr>
          <p:spPr>
            <a:xfrm flipV="1">
              <a:off x="5440320" y="1585080"/>
              <a:ext cx="14328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1" name="Straight Arrow Connector 287"/>
            <p:cNvCxnSpPr/>
            <p:nvPr/>
          </p:nvCxnSpPr>
          <p:spPr>
            <a:xfrm flipH="1" flipV="1">
              <a:off x="5135040" y="1585080"/>
              <a:ext cx="14184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2" name="Straight Arrow Connector 27"/>
            <p:cNvCxnSpPr/>
            <p:nvPr/>
          </p:nvCxnSpPr>
          <p:spPr>
            <a:xfrm flipH="1">
              <a:off x="5135040" y="1817280"/>
              <a:ext cx="14184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3" name="Straight Arrow Connector 289"/>
            <p:cNvCxnSpPr/>
            <p:nvPr/>
          </p:nvCxnSpPr>
          <p:spPr>
            <a:xfrm>
              <a:off x="5440320" y="1828440"/>
              <a:ext cx="14328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4" name="Straight Arrow Connector 29"/>
            <p:cNvCxnSpPr>
              <a:stCxn id="600" idx="6"/>
            </p:cNvCxnSpPr>
            <p:nvPr/>
          </p:nvCxnSpPr>
          <p:spPr>
            <a:xfrm>
              <a:off x="5474880" y="1763280"/>
              <a:ext cx="16236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5" name="Straight Arrow Connector 291"/>
            <p:cNvCxnSpPr/>
            <p:nvPr/>
          </p:nvCxnSpPr>
          <p:spPr>
            <a:xfrm flipH="1">
              <a:off x="5077800" y="1755360"/>
              <a:ext cx="16236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6" name="Straight Arrow Connector 292"/>
            <p:cNvCxnSpPr/>
            <p:nvPr/>
          </p:nvCxnSpPr>
          <p:spPr>
            <a:xfrm flipH="1" flipV="1">
              <a:off x="5349240" y="1523160"/>
              <a:ext cx="108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7" name="Straight Arrow Connector 293"/>
            <p:cNvCxnSpPr/>
            <p:nvPr/>
          </p:nvCxnSpPr>
          <p:spPr>
            <a:xfrm flipH="1">
              <a:off x="5349240" y="1862640"/>
              <a:ext cx="108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00" name="Oval 294"/>
            <p:cNvSpPr/>
            <p:nvPr/>
          </p:nvSpPr>
          <p:spPr>
            <a:xfrm>
              <a:off x="5240520" y="1662120"/>
              <a:ext cx="23472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Cube 296"/>
            <p:cNvSpPr/>
            <p:nvPr/>
          </p:nvSpPr>
          <p:spPr>
            <a:xfrm>
              <a:off x="3495600" y="1466640"/>
              <a:ext cx="67932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9" name="Straight Arrow Connector 7"/>
            <p:cNvCxnSpPr/>
            <p:nvPr/>
          </p:nvCxnSpPr>
          <p:spPr>
            <a:xfrm flipV="1">
              <a:off x="3892320" y="1585080"/>
              <a:ext cx="14328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0" name="Straight Arrow Connector 299"/>
            <p:cNvCxnSpPr/>
            <p:nvPr/>
          </p:nvCxnSpPr>
          <p:spPr>
            <a:xfrm flipH="1" flipV="1">
              <a:off x="3585600" y="1585080"/>
              <a:ext cx="14328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1" name="Straight Arrow Connector 300"/>
            <p:cNvCxnSpPr/>
            <p:nvPr/>
          </p:nvCxnSpPr>
          <p:spPr>
            <a:xfrm flipH="1">
              <a:off x="3585600" y="1817280"/>
              <a:ext cx="14328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2" name="Straight Arrow Connector 301"/>
            <p:cNvCxnSpPr/>
            <p:nvPr/>
          </p:nvCxnSpPr>
          <p:spPr>
            <a:xfrm>
              <a:off x="3892320" y="1828440"/>
              <a:ext cx="143280" cy="106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3" name="Straight Arrow Connector 302"/>
            <p:cNvCxnSpPr/>
            <p:nvPr/>
          </p:nvCxnSpPr>
          <p:spPr>
            <a:xfrm>
              <a:off x="3926880" y="1763280"/>
              <a:ext cx="16236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4" name="Straight Arrow Connector 303"/>
            <p:cNvCxnSpPr/>
            <p:nvPr/>
          </p:nvCxnSpPr>
          <p:spPr>
            <a:xfrm flipH="1">
              <a:off x="3529800" y="1755360"/>
              <a:ext cx="16236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5" name="Straight Arrow Connector 304"/>
            <p:cNvCxnSpPr/>
            <p:nvPr/>
          </p:nvCxnSpPr>
          <p:spPr>
            <a:xfrm flipH="1" flipV="1">
              <a:off x="3801240" y="1523160"/>
              <a:ext cx="108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6" name="Straight Arrow Connector 305"/>
            <p:cNvCxnSpPr/>
            <p:nvPr/>
          </p:nvCxnSpPr>
          <p:spPr>
            <a:xfrm flipH="1">
              <a:off x="3801240" y="1862640"/>
              <a:ext cx="108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17" name="Oval 5"/>
            <p:cNvSpPr/>
            <p:nvPr/>
          </p:nvSpPr>
          <p:spPr>
            <a:xfrm>
              <a:off x="3692520" y="1662120"/>
              <a:ext cx="23472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318"/>
          <p:cNvSpPr/>
          <p:nvPr/>
        </p:nvSpPr>
        <p:spPr>
          <a:xfrm>
            <a:off x="228600" y="3755880"/>
            <a:ext cx="4022640" cy="237996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00,000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anout of 20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10,000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$5k vendor switch = $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$1k commodity switch = $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avings in 10 data centers 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$4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19"/>
          <p:cNvSpPr/>
          <p:nvPr/>
        </p:nvSpPr>
        <p:spPr>
          <a:xfrm>
            <a:off x="4952880" y="3755880"/>
            <a:ext cx="4038840" cy="237996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ore flexibl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ailor network f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Quickly improve and inno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7"/>
          <p:cNvSpPr/>
          <p:nvPr/>
        </p:nvSpPr>
        <p:spPr>
          <a:xfrm>
            <a:off x="1398960" y="6072120"/>
            <a:ext cx="63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ata center companies have been the first to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eploy OpenFlow in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al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researchers on college campuses test out new ideas in a real network, at sc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Flow Standard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ion 1.0: Most widely used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ion 1.1: Released in February 201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Flow transferred to ONF in March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1281240" y="1424160"/>
            <a:ext cx="6405480" cy="236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ny good research ideas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n college campus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o way to test new ideas at scale, on real networks, with real user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1281240" y="4041720"/>
            <a:ext cx="6405480" cy="145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sequence: Almost no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echnolog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1281240" y="1424160"/>
            <a:ext cx="6405480" cy="1635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ell know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urity, mobility,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1281240" y="3114720"/>
            <a:ext cx="6405480" cy="163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remental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xing BGP, multicast, access control, Mobile IP, data center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1281240" y="4803840"/>
            <a:ext cx="6405480" cy="1866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ore radic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y management, VM mobility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build a test network with sufficient scale and realis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ftware Ro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9800" y="4566960"/>
            <a:ext cx="86688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4PortNic.png"/>
          <p:cNvPicPr/>
          <p:nvPr/>
        </p:nvPicPr>
        <p:blipFill>
          <a:blip r:embed="rId1"/>
          <a:stretch/>
        </p:blipFill>
        <p:spPr>
          <a:xfrm>
            <a:off x="5102280" y="2017800"/>
            <a:ext cx="2004840" cy="112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erver.png"/>
          <p:cNvPicPr/>
          <p:nvPr/>
        </p:nvPicPr>
        <p:blipFill>
          <a:blip r:embed="rId2"/>
          <a:stretch/>
        </p:blipFill>
        <p:spPr>
          <a:xfrm>
            <a:off x="1386000" y="2009880"/>
            <a:ext cx="1908000" cy="21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4PortNic.png"/>
          <p:cNvPicPr/>
          <p:nvPr/>
        </p:nvPicPr>
        <p:blipFill>
          <a:blip r:embed="rId3"/>
          <a:stretch/>
        </p:blipFill>
        <p:spPr>
          <a:xfrm>
            <a:off x="5102280" y="3152880"/>
            <a:ext cx="2004840" cy="1120680"/>
          </a:xfrm>
          <a:prstGeom prst="rect">
            <a:avLst/>
          </a:prstGeom>
          <a:ln w="0">
            <a:noFill/>
          </a:ln>
        </p:spPr>
      </p:pic>
      <p:sp>
        <p:nvSpPr>
          <p:cNvPr id="66" name="Content Placeholder 2"/>
          <p:cNvSpPr/>
          <p:nvPr/>
        </p:nvSpPr>
        <p:spPr>
          <a:xfrm>
            <a:off x="3905280" y="2317680"/>
            <a:ext cx="1181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1f497d"/>
                </a:solidFill>
                <a:latin typeface="Gill Sans"/>
                <a:ea typeface="Gill Sans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700520" y="45673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Gill Sans"/>
                <a:ea typeface="Gill Sans"/>
              </a:rPr>
              <a:t>Multi-Port 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1909440" y="58723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apacity: Only ~5G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5200" y="1984320"/>
            <a:ext cx="477504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 to develop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behind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 to program,  constrain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602320" y="2133720"/>
            <a:ext cx="2779560" cy="45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48HD10Gbs.png"/>
          <p:cNvPicPr/>
          <p:nvPr/>
        </p:nvPicPr>
        <p:blipFill>
          <a:blip r:embed="rId1"/>
          <a:stretch/>
        </p:blipFill>
        <p:spPr>
          <a:xfrm>
            <a:off x="4502160" y="1812960"/>
            <a:ext cx="3890880" cy="83016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4"/>
          <p:cNvGrpSpPr/>
          <p:nvPr/>
        </p:nvGrpSpPr>
        <p:grpSpPr>
          <a:xfrm>
            <a:off x="3675240" y="2757600"/>
            <a:ext cx="2065320" cy="1482120"/>
            <a:chOff x="3675240" y="2757600"/>
            <a:chExt cx="2065320" cy="1482120"/>
          </a:xfrm>
        </p:grpSpPr>
        <p:sp>
          <p:nvSpPr>
            <p:cNvPr id="74" name="AutoShape 22"/>
            <p:cNvSpPr/>
            <p:nvPr/>
          </p:nvSpPr>
          <p:spPr>
            <a:xfrm>
              <a:off x="3675240" y="2757600"/>
              <a:ext cx="304920" cy="148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9760 h 1482120"/>
                <a:gd name="textAreaBottom" fmla="*/ 1422360 h 14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98"/>
                    <a:pt x="10800" y="2796"/>
                  </a:cubicBezTo>
                  <a:lnTo>
                    <a:pt x="10800" y="7683"/>
                  </a:lnTo>
                  <a:cubicBezTo>
                    <a:pt x="10800" y="9081"/>
                    <a:pt x="16200" y="10479"/>
                    <a:pt x="21600" y="10479"/>
                  </a:cubicBezTo>
                  <a:cubicBezTo>
                    <a:pt x="16200" y="10479"/>
                    <a:pt x="10800" y="11877"/>
                    <a:pt x="10800" y="13275"/>
                  </a:cubicBezTo>
                  <a:lnTo>
                    <a:pt x="10800" y="18804"/>
                  </a:lnTo>
                  <a:cubicBezTo>
                    <a:pt x="10800" y="20202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3"/>
            <p:cNvSpPr/>
            <p:nvPr/>
          </p:nvSpPr>
          <p:spPr>
            <a:xfrm>
              <a:off x="4056120" y="3088440"/>
              <a:ext cx="168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llion of lin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f 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4"/>
          <p:cNvSpPr/>
          <p:nvPr/>
        </p:nvSpPr>
        <p:spPr>
          <a:xfrm>
            <a:off x="5741640" y="31748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,000 RF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3675240" y="4343400"/>
            <a:ext cx="2113920" cy="952560"/>
            <a:chOff x="3675240" y="4343400"/>
            <a:chExt cx="2113920" cy="952560"/>
          </a:xfrm>
        </p:grpSpPr>
        <p:sp>
          <p:nvSpPr>
            <p:cNvPr id="78" name="AutoShape 27"/>
            <p:cNvSpPr/>
            <p:nvPr/>
          </p:nvSpPr>
          <p:spPr>
            <a:xfrm>
              <a:off x="3675240" y="4343400"/>
              <a:ext cx="304560" cy="9525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8520 h 952560"/>
                <a:gd name="textAreaBottom" fmla="*/ 914040 h 9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98"/>
                    <a:pt x="10800" y="2796"/>
                  </a:cubicBezTo>
                  <a:lnTo>
                    <a:pt x="10800" y="7683"/>
                  </a:lnTo>
                  <a:cubicBezTo>
                    <a:pt x="10800" y="9081"/>
                    <a:pt x="16200" y="10479"/>
                    <a:pt x="21600" y="10479"/>
                  </a:cubicBezTo>
                  <a:cubicBezTo>
                    <a:pt x="16200" y="10479"/>
                    <a:pt x="10800" y="11877"/>
                    <a:pt x="10800" y="13275"/>
                  </a:cubicBezTo>
                  <a:lnTo>
                    <a:pt x="10800" y="18804"/>
                  </a:lnTo>
                  <a:cubicBezTo>
                    <a:pt x="10800" y="20202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>
              <a:off x="4055760" y="4479120"/>
              <a:ext cx="17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illions of g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9"/>
          <p:cNvSpPr/>
          <p:nvPr/>
        </p:nvSpPr>
        <p:spPr>
          <a:xfrm>
            <a:off x="5735520" y="44845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o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7072920" y="44845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ung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2"/>
          <p:cNvSpPr/>
          <p:nvPr/>
        </p:nvSpPr>
        <p:spPr>
          <a:xfrm>
            <a:off x="1180080" y="5602320"/>
            <a:ext cx="6383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tically integrated, complex, closed,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suitable for experimental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Rounded Rectangle 24"/>
          <p:cNvGrpSpPr/>
          <p:nvPr/>
        </p:nvGrpSpPr>
        <p:grpSpPr>
          <a:xfrm>
            <a:off x="1195560" y="4309920"/>
            <a:ext cx="2474640" cy="1060560"/>
            <a:chOff x="1195560" y="4309920"/>
            <a:chExt cx="2474640" cy="1060560"/>
          </a:xfrm>
        </p:grpSpPr>
        <p:pic>
          <p:nvPicPr>
            <p:cNvPr id="84" name="Rounded Rectangle 24" descr=""/>
            <p:cNvPicPr/>
            <p:nvPr/>
          </p:nvPicPr>
          <p:blipFill>
            <a:blip r:embed="rId2"/>
            <a:stretch/>
          </p:blipFill>
          <p:spPr>
            <a:xfrm>
              <a:off x="1195560" y="4309920"/>
              <a:ext cx="2474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298520" y="4389480"/>
              <a:ext cx="22748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c3d69b"/>
                  </a:solidFill>
                  <a:latin typeface="Calibri"/>
                </a:rPr>
                <a:t>Specialized Packet Forwarding Hard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25"/>
          <p:cNvGrpSpPr/>
          <p:nvPr/>
        </p:nvGrpSpPr>
        <p:grpSpPr>
          <a:xfrm>
            <a:off x="1195560" y="3413160"/>
            <a:ext cx="2474640" cy="903240"/>
            <a:chOff x="1195560" y="3413160"/>
            <a:chExt cx="2474640" cy="903240"/>
          </a:xfrm>
        </p:grpSpPr>
        <p:pic>
          <p:nvPicPr>
            <p:cNvPr id="87" name="Rounded Rectangle 25" descr=""/>
            <p:cNvPicPr/>
            <p:nvPr/>
          </p:nvPicPr>
          <p:blipFill>
            <a:blip r:embed="rId3"/>
            <a:stretch/>
          </p:blipFill>
          <p:spPr>
            <a:xfrm>
              <a:off x="1195560" y="3413160"/>
              <a:ext cx="24746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290600" y="3490920"/>
              <a:ext cx="229068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pera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26"/>
          <p:cNvGrpSpPr/>
          <p:nvPr/>
        </p:nvGrpSpPr>
        <p:grpSpPr>
          <a:xfrm>
            <a:off x="1195560" y="2724120"/>
            <a:ext cx="1004760" cy="701640"/>
            <a:chOff x="1195560" y="2724120"/>
            <a:chExt cx="1004760" cy="701640"/>
          </a:xfrm>
        </p:grpSpPr>
        <p:pic>
          <p:nvPicPr>
            <p:cNvPr id="90" name="Rounded Rectangle 26" descr=""/>
            <p:cNvPicPr/>
            <p:nvPr/>
          </p:nvPicPr>
          <p:blipFill>
            <a:blip r:embed="rId4"/>
            <a:stretch/>
          </p:blipFill>
          <p:spPr>
            <a:xfrm>
              <a:off x="1195560" y="2724120"/>
              <a:ext cx="1004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281240" y="2787480"/>
              <a:ext cx="83808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Fe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27"/>
          <p:cNvGrpSpPr/>
          <p:nvPr/>
        </p:nvGrpSpPr>
        <p:grpSpPr>
          <a:xfrm>
            <a:off x="2682720" y="2724120"/>
            <a:ext cx="987480" cy="701640"/>
            <a:chOff x="2682720" y="2724120"/>
            <a:chExt cx="987480" cy="701640"/>
          </a:xfrm>
        </p:grpSpPr>
        <p:pic>
          <p:nvPicPr>
            <p:cNvPr id="93" name="Rounded Rectangle 27" descr=""/>
            <p:cNvPicPr/>
            <p:nvPr/>
          </p:nvPicPr>
          <p:blipFill>
            <a:blip r:embed="rId5"/>
            <a:stretch/>
          </p:blipFill>
          <p:spPr>
            <a:xfrm>
              <a:off x="2682720" y="2724120"/>
              <a:ext cx="987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770200" y="2787480"/>
              <a:ext cx="8208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Fe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Straight Connector 28"/>
          <p:cNvSpPr/>
          <p:nvPr/>
        </p:nvSpPr>
        <p:spPr>
          <a:xfrm>
            <a:off x="2152800" y="3054240"/>
            <a:ext cx="590400" cy="1800"/>
          </a:xfrm>
          <a:prstGeom prst="line">
            <a:avLst/>
          </a:prstGeom>
          <a:ln w="25560">
            <a:solidFill>
              <a:srgbClr val="4f81bd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7"/>
          <p:cNvGrpSpPr/>
          <p:nvPr/>
        </p:nvGrpSpPr>
        <p:grpSpPr>
          <a:xfrm>
            <a:off x="143640" y="1387440"/>
            <a:ext cx="4515120" cy="1370160"/>
            <a:chOff x="143640" y="1387440"/>
            <a:chExt cx="4515120" cy="1370160"/>
          </a:xfrm>
        </p:grpSpPr>
        <p:sp>
          <p:nvSpPr>
            <p:cNvPr id="97" name="TextBox 30"/>
            <p:cNvSpPr/>
            <p:nvPr/>
          </p:nvSpPr>
          <p:spPr>
            <a:xfrm>
              <a:off x="143640" y="1387440"/>
              <a:ext cx="45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outing, management, mobility management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cess control, VPNs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Straight Arrow Connector 31"/>
            <p:cNvCxnSpPr>
              <a:stCxn id="97" idx="2"/>
            </p:cNvCxnSpPr>
            <p:nvPr/>
          </p:nvCxnSpPr>
          <p:spPr>
            <a:xfrm>
              <a:off x="2401920" y="2033280"/>
              <a:ext cx="778320" cy="7246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 Existing Equi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5:54:45Z</dcterms:created>
  <dc:creator>Nick McKeown</dc:creator>
  <dc:description/>
  <dc:language>en-US</dc:language>
  <cp:lastModifiedBy>Nick McKeown</cp:lastModifiedBy>
  <cp:lastPrinted>2009-10-26T15:11:05Z</cp:lastPrinted>
  <dcterms:modified xsi:type="dcterms:W3CDTF">2011-03-10T06:10:52Z</dcterms:modified>
  <cp:revision>77</cp:revision>
  <dc:subject/>
  <dc:title>Slide 1</dc:title>
</cp:coreProperties>
</file>