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5.jpeg" ContentType="image/jpeg"/>
  <Override PartName="/ppt/media/image7.wmf" ContentType="image/x-wmf"/>
  <Override PartName="/ppt/media/image34.gif" ContentType="image/gif"/>
  <Override PartName="/ppt/media/image4.gif" ContentType="image/gif"/>
  <Override PartName="/ppt/media/drumroll.wav" ContentType="audio/x-wav"/>
  <Override PartName="/ppt/media/image15.wmf" ContentType="image/x-wmf"/>
  <Override PartName="/ppt/media/image22.jpeg" ContentType="image/jpeg"/>
  <Override PartName="/ppt/media/image11.wmf" ContentType="image/x-wmf"/>
  <Override PartName="/ppt/media/image17.jpeg" ContentType="image/jpeg"/>
  <Override PartName="/ppt/media/image47.jpeg" ContentType="image/jpeg"/>
  <Override PartName="/ppt/media/image30.jpeg" ContentType="image/jpeg"/>
  <Override PartName="/ppt/media/image6.wmf" ContentType="image/x-wmf"/>
  <Override PartName="/ppt/media/image14.wmf" ContentType="image/x-wmf"/>
  <Override PartName="/ppt/media/image58.jpeg" ContentType="image/jpeg"/>
  <Override PartName="/ppt/media/image19.jpeg" ContentType="image/jpeg"/>
  <Override PartName="/ppt/media/image25.png" ContentType="image/png"/>
  <Override PartName="/ppt/media/image32.gif" ContentType="image/gif"/>
  <Override PartName="/ppt/media/image2.png" ContentType="image/png"/>
  <Override PartName="/ppt/media/image60.jpeg" ContentType="image/jpeg"/>
  <Override PartName="/ppt/media/image28.jpeg" ContentType="image/jpeg"/>
  <Override PartName="/ppt/media/image51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33.gif" ContentType="image/gif"/>
  <Override PartName="/ppt/media/image18.jpeg" ContentType="image/jpeg"/>
  <Override PartName="/ppt/media/image21.jpeg" ContentType="image/jpeg"/>
  <Override PartName="/ppt/media/image36.gif" ContentType="image/gif"/>
  <Override PartName="/ppt/media/image16.wmf" ContentType="image/x-wmf"/>
  <Override PartName="/ppt/media/image45.jpeg" ContentType="image/jpeg"/>
  <Override PartName="/ppt/media/image1.gif" ContentType="image/gif"/>
  <Override PartName="/ppt/media/image31.gif" ContentType="image/gif"/>
  <Override PartName="/ppt/media/image20.jpeg" ContentType="image/jpeg"/>
  <Override PartName="/ppt/media/image12.wmf" ContentType="image/x-wmf"/>
  <Override PartName="/ppt/media/image3.gif" ContentType="image/gif"/>
  <Override PartName="/ppt/media/ATT20547.wav" ContentType="audio/x-wav"/>
  <Override PartName="/ppt/media/image59.jpeg" ContentType="image/jpeg"/>
  <Override PartName="/ppt/media/image13.wmf" ContentType="image/x-wmf"/>
  <Override PartName="/ppt/media/image50.jpeg" ContentType="image/jpeg"/>
  <Override PartName="/ppt/media/image27.jpeg" ContentType="image/jpeg"/>
  <Override PartName="/ppt/media/image5.wmf" ContentType="image/x-wmf"/>
  <Override PartName="/ppt/media/image39.gif" ContentType="image/gif"/>
  <Override PartName="/ppt/media/image8.wmf" ContentType="image/x-wmf"/>
  <Override PartName="/ppt/media/image40.png" ContentType="image/png"/>
  <Override PartName="/ppt/media/image53.jpeg" ContentType="image/jpeg"/>
  <Override PartName="/ppt/media/image29.jpeg" ContentType="image/jpeg"/>
  <Override PartName="/ppt/media/image37.gif" ContentType="image/gif"/>
  <Override PartName="/ppt/media/image10.gif" ContentType="image/gif"/>
  <Override PartName="/ppt/media/image52.jpeg" ContentType="image/jpeg"/>
  <Override PartName="/ppt/media/image9.wmf" ContentType="image/x-wmf"/>
  <Override PartName="/ppt/media/image41.png" ContentType="image/png"/>
  <Override PartName="/ppt/media/image38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6.png" ContentType="image/png"/>
  <Override PartName="/ppt/media/image48.jpeg" ContentType="image/jpeg"/>
  <Override PartName="/ppt/media/image49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4BB-4267-47F8-85BA-283696EE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8654-CAD5-459F-A2B3-F158609C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2F5-1218-4F45-89F9-1227D714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32B6-169E-44B5-87CC-19E82EA5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0ED-180E-429F-BCCF-C083E1CF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6E3-5A27-4CB8-ADD0-2D672E72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0B3-39CA-4231-B220-C881A0D6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C02-306F-4B6A-95E4-53469987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9E5-5E36-47FB-8DDD-128D7377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F2F-7287-432E-BC61-822C094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A6AE-8A4E-4B6A-86EA-65570895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B914-A4A7-44E2-ABE3-BC3E8F70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6A5D-FD97-4196-866C-752B2B91A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8.xml"/><Relationship Id="rId4" Type="http://schemas.openxmlformats.org/officeDocument/2006/relationships/slide" Target="slide38.xml"/><Relationship Id="rId5" Type="http://schemas.openxmlformats.org/officeDocument/2006/relationships/slide" Target="slide46.xml"/><Relationship Id="rId6" Type="http://schemas.openxmlformats.org/officeDocument/2006/relationships/image" Target="../media/image1.gif"/><Relationship Id="rId7" Type="http://schemas.openxmlformats.org/officeDocument/2006/relationships/image" Target="../media/image2.png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image" Target="../media/image39.gif"/><Relationship Id="rId10" Type="http://schemas.openxmlformats.org/officeDocument/2006/relationships/audio" Target="../media/ATT20547.wav"/><Relationship Id="rId1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grapjes (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7928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Amtenaren moppen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er wer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Anti-stress 2</a:t>
            </a:r>
            <a:r>
              <a:rPr b="0" lang="nl-BE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othe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24000" y="5157720"/>
            <a:ext cx="395892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beidst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7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299700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Baas tegen zijn werknemer: 'Je werkt langzaam, je praat langzaam en je loopt langzaam. Is er dan helemaal niets dat jou vlug afgaat?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Werknemer: "Oh, jawel hoor, ik ben vlug moe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8083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76600" y="3068280"/>
            <a:ext cx="49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 staat er op het graf van een ambtena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er rust hij ve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443640" y="404640"/>
            <a:ext cx="197316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16920" y="3107880"/>
            <a:ext cx="73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 is de drukste werkdag voor een ambtenaa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andag, dan moet hij drie blaadjes van de kalender afscheur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2849760" cy="26906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16000" y="692280"/>
            <a:ext cx="66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mic Sans MS"/>
              </a:rPr>
              <a:t>Ben je niet meer tevreden met je werk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3860640"/>
            <a:ext cx="62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mic Sans MS"/>
              </a:rPr>
              <a:t>Ik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nl-NL" sz="5400" spc="-1" strike="noStrike">
                <a:solidFill>
                  <a:srgbClr val="ffffff"/>
                </a:solidFill>
                <a:latin typeface="Comic Sans MS"/>
              </a:rPr>
              <a:t>zal je een aantal alternatieven bie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0666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6411"/>
          <a:stretch/>
        </p:blipFill>
        <p:spPr>
          <a:xfrm>
            <a:off x="1258920" y="1844640"/>
            <a:ext cx="6667560" cy="4287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35280" y="54936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Je kunt overwegen om met dieren te gaan we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0" b="3876"/>
          <a:stretch/>
        </p:blipFill>
        <p:spPr>
          <a:xfrm>
            <a:off x="395280" y="1197000"/>
            <a:ext cx="8209080" cy="534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40000" y="333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Of zoek je het wat hoger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4181760" cy="5759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700360" y="1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Verleg je doelen e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7056720" cy="4471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908000" y="47628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Misschien moet je meer gebruik gaan maken van je zintu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264360" cy="4372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971640" y="5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Een nieuwe collega kan een bron van inspiratie betek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3905280" cy="5715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35280" y="189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Je kan het ook zoeken in de dienstverl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06640" y="1195560"/>
            <a:ext cx="2745000" cy="432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01840" y="475560"/>
            <a:ext cx="6244560" cy="6426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arom kijkt een ambtenaar thuis niet uit de ram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mdat hij anders op zijn werk niets meer te doen heef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80360" cy="5329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03280" y="2602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Of zoek je wat meer ontspanning, ga dan lekker vis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3959280" cy="58737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47640" y="115920"/>
            <a:ext cx="56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92360" y="18900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Of voel je je meer verbonden met de 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489800" cy="4987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00000" y="33336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Binnen kan natuurlijk ook in samenwerking met fijne colleg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0" r="0" b="1445"/>
          <a:stretch/>
        </p:blipFill>
        <p:spPr>
          <a:xfrm>
            <a:off x="2050920" y="1341360"/>
            <a:ext cx="4905360" cy="4969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79640" y="476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De één heeft het altijd beter dan de a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705800" cy="5470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95640" y="47628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Ga anders eerst eens even op vakan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322200"/>
            <a:ext cx="770400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14280" y="1290600"/>
            <a:ext cx="85154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47640" y="1484280"/>
            <a:ext cx="604872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mic Sans MS"/>
              </a:rPr>
              <a:t>Ga maar weer lekker aan het we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mic Sans MS"/>
              </a:rPr>
              <a:t>Zo erg is het allemaal ni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549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mic Sans MS"/>
              </a:rPr>
              <a:t>Weet je w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99072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Ben je gestresst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30481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Times New Roman"/>
              </a:rPr>
              <a:t>Valt iedereen je lastig vandaag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0" y="0"/>
            <a:ext cx="9144000" cy="6858000"/>
          </a:xfrm>
          <a:prstGeom prst="rtTriangl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32360" y="4365720"/>
            <a:ext cx="4051440" cy="1952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2076840"/>
            <a:ext cx="8424720" cy="2288520"/>
          </a:xfrm>
          <a:prstGeom prst="rect">
            <a:avLst/>
          </a:prstGeom>
          <a:solidFill>
            <a:srgbClr val="00ff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Zitten drie jongens op een schoolplein zegt de éé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"Ik heb de snelste vader van de wereld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"Hoezo?" vraagt de and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"Nou mijn vader is F 16 piloot" zegt de éérs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Daarop nummer twee antwoord: "Dan is mijn vader sneller want die is astronaut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Zegt nummer drie, "Dan is mijn vader sneller want die is ambtenaar, hij werkt van negen tot vijf, maar is om drie uur al thuis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167004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55640" y="9810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 Unicode MS"/>
              </a:rPr>
              <a:t>Doen je oren zeer van het 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 Unicode MS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 Unicode MS"/>
              </a:rPr>
              <a:t>de hele dag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4724280"/>
            <a:ext cx="82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 Unicode MS"/>
              </a:rPr>
              <a:t>Je vingers zeer van de vele mails typ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25146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Dan is het nu tijd om te relaxen 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81080" y="1981080"/>
            <a:ext cx="51055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... </a:t>
            </a: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oka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Ik nodig je ui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Volg de instruc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57600" y="25146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2) Zet het geluid van je PC 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4365720"/>
            <a:ext cx="5105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3) Sta op en bewe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met dat lij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4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1) Doe de deur dicht.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2" presetSubtype="12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95280" y="1600200"/>
            <a:ext cx="6172200" cy="35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4) Zing vervolgens zonder te stoppen het volg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uit volle borst m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20 minuten la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76360" y="1916280"/>
            <a:ext cx="5791320" cy="35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ahoma"/>
              </a:rPr>
              <a:t>"TITITA TITUTU TIIIPATITITUUU,  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ahoma"/>
              </a:rPr>
              <a:t>TUTUTU TUTUTU TUTU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ahoma"/>
              </a:rPr>
              <a:t>TUTUTUUU TUTUTITITUUU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99"/>
                </a:solidFill>
                <a:latin typeface="Tahoma"/>
              </a:rPr>
              <a:t>AHAHAH!!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0" y="2276640"/>
            <a:ext cx="2022480" cy="696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867280" y="476280"/>
            <a:ext cx="1657440" cy="1465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516720" y="4151160"/>
            <a:ext cx="2232000" cy="1798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700360" y="404640"/>
            <a:ext cx="2616120" cy="15386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003640" y="5661000"/>
            <a:ext cx="1320840" cy="831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 rot="778800">
            <a:off x="2916360" y="5373360"/>
            <a:ext cx="1166760" cy="1222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468360" y="476280"/>
            <a:ext cx="1157400" cy="1871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250920" y="2708280"/>
            <a:ext cx="1181160" cy="1228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755640" y="4581360"/>
            <a:ext cx="117000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58920" y="90792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...alles weer okay ??  JA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2060640"/>
            <a:ext cx="65530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Stuur het door aan al je vriend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            </a:t>
            </a: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die het missschien ook no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             </a:t>
            </a: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zouden kunnen heb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Black Chancery"/>
                <a:ea typeface="Arial"/>
              </a:rPr>
              <a:t>(c)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920" y="549360"/>
            <a:ext cx="7561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de-DE" sz="6600" spc="-1" strike="noStrike">
                <a:solidFill>
                  <a:srgbClr val="dff53d"/>
                </a:solidFill>
                <a:latin typeface="Arial"/>
              </a:rPr>
              <a:t>Bij de Apotheek</a:t>
            </a:r>
            <a:br>
              <a:rPr sz="6000"/>
            </a:br>
            <a:r>
              <a:rPr b="0" lang="de-DE" sz="3600" spc="-1" strike="noStrike">
                <a:solidFill>
                  <a:srgbClr val="dff53d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32000" y="2924280"/>
            <a:ext cx="266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24360" y="260280"/>
            <a:ext cx="48448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en vrouw komt de Apotheek binnen en vraagt de apotheker, een beetje arsenicum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886120" cy="215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9640" y="465300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dff53d"/>
                </a:solidFill>
                <a:latin typeface="Tahoma"/>
              </a:rPr>
              <a:t>De apotheker vraagt: „Waarvoor heeft u het arsenicum nodig?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457200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913200" cy="3468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59280" y="2275920"/>
            <a:ext cx="597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r komt een man bij de balie van de Belastingdien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"Ik zou graag Alie willen spreken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3789360"/>
            <a:ext cx="78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e medewerker van de belastingdienst zegt: "Alie? Welke Alie?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arop de man zegt: "Alie Baba wil ik spreken en snel!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e medewerker van de Belastingdienst antwoordt korzelig: "Er werk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hier geen Ali Baba!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arop de man antwoordt: "Dan wil ik graag één van de andere veertig rovers spreken!"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Zei antwoordt: 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„Ik wil mijn man vermoorden,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omdat hij me besodemietert met een andere vrouw.“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380880"/>
            <a:ext cx="8147160" cy="607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ff53d"/>
                </a:solidFill>
                <a:latin typeface="Arial"/>
              </a:rPr>
              <a:t>Daarop antwoordt de apotheker:                                   „ Maar mevrouw, ik kan u niet zomaar arcenicum verkopen omdat u uw man wilt vergiftigen alleen omdat hij een keertje vreemd gaat !!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Zonder woorden haalt de vrouw een foto van haar man uit haar tas, 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p de foto ziet hij dat de man sex heeft met een andere vrouw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e apotheker wordt helemaal bleek in z,n gezicht en stottert:</a:t>
            </a:r>
            <a:br>
              <a:rPr sz="4400"/>
            </a:br>
            <a:br>
              <a:rPr sz="4400"/>
            </a:br>
            <a:r>
              <a:rPr b="0" lang="de-DE" sz="6000" spc="-1" strike="noStrike">
                <a:solidFill>
                  <a:srgbClr val="ffbb9d"/>
                </a:solidFill>
                <a:latin typeface="Arial"/>
              </a:rPr>
              <a:t>„Maar..maar … </a:t>
            </a:r>
            <a:r>
              <a:rPr b="1" i="1" lang="de-DE" sz="6600" spc="-1" strike="noStrike">
                <a:solidFill>
                  <a:srgbClr val="ffbb9d"/>
                </a:solidFill>
                <a:latin typeface="Arial"/>
              </a:rPr>
              <a:t>Dat</a:t>
            </a:r>
            <a:r>
              <a:rPr b="0" lang="de-DE" sz="6000" spc="-1" strike="noStrike">
                <a:solidFill>
                  <a:srgbClr val="ffbb9d"/>
                </a:solidFill>
                <a:latin typeface="Arial"/>
              </a:rPr>
              <a:t> is mijn </a:t>
            </a:r>
            <a:r>
              <a:rPr b="1" i="1" lang="de-DE" sz="6000" spc="-1" strike="noStrike">
                <a:solidFill>
                  <a:srgbClr val="ffbb9d"/>
                </a:solidFill>
                <a:latin typeface="Arial"/>
              </a:rPr>
              <a:t>vrouw</a:t>
            </a:r>
            <a:r>
              <a:rPr b="0" lang="de-DE" sz="6000" spc="-1" strike="noStrike">
                <a:solidFill>
                  <a:srgbClr val="ffbb9d"/>
                </a:solidFill>
                <a:latin typeface="Arial"/>
              </a:rPr>
              <a:t> …!!! “</a:t>
            </a:r>
            <a:br>
              <a:rPr sz="12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486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Toen hij terug kwam gaf hij de vrouw een klein flesje en antwoor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ahoma"/>
              </a:rPr>
              <a:t>Hij verdween naar achteren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dff53d"/>
                </a:solidFill>
                <a:latin typeface="Arial"/>
              </a:rPr>
              <a:t>„</a:t>
            </a:r>
            <a:r>
              <a:rPr b="1" lang="de-DE" sz="5400" spc="-1" strike="noStrike">
                <a:solidFill>
                  <a:srgbClr val="dff53d"/>
                </a:solidFill>
                <a:latin typeface="Arial"/>
              </a:rPr>
              <a:t>Hier ……                            Ik wist natuurlijk niet dat u een recept</a:t>
            </a:r>
            <a:br>
              <a:rPr sz="5400"/>
            </a:br>
            <a:r>
              <a:rPr b="1" lang="de-DE" sz="5400" spc="-1" strike="noStrike">
                <a:solidFill>
                  <a:srgbClr val="dff53d"/>
                </a:solidFill>
                <a:latin typeface="Arial"/>
              </a:rPr>
              <a:t> had ….!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011320" y="3048120"/>
            <a:ext cx="53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Raadgevingen voor op de werkvl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29200" cy="48736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89000" y="4495680"/>
            <a:ext cx="281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Interesseer u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het nieu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1905120"/>
            <a:ext cx="5410080" cy="3719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14280" y="1905120"/>
            <a:ext cx="25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Wees dynam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in u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3809880" cy="53816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299480" y="5638680"/>
            <a:ext cx="35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Zoek de juiste vri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2355840"/>
            <a:ext cx="825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 het gemeentehuis, dienst bevo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n (tegen knappe dame aan de bali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"Goedendag, ik zou graag willen trouwen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ame: "Dat kan en aan welke datum had u gedacht?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an: "Doet er niet toe. Ik ben al lang blij dat je wilt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266400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54320" cy="5257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66120" y="1219320"/>
            <a:ext cx="320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Probeer niet 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het moeilijk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Een stap met de 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6095880" cy="4124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14600" y="556272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Zoek de beste werk hou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4920" y="2583000"/>
            <a:ext cx="5257800" cy="3958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470400" y="914400"/>
            <a:ext cx="54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Wees spaarzaam met u comment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648320" cy="34588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822120" y="4876920"/>
            <a:ext cx="45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De verhouding met u collega‘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Verdana"/>
              </a:rPr>
              <a:t>moet niet te intiem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84760" cy="4557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8680" y="5172120"/>
            <a:ext cx="62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Probeer niet voor problemen weg te l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0" t="4968" r="0" b="0"/>
          <a:stretch/>
        </p:blipFill>
        <p:spPr>
          <a:xfrm>
            <a:off x="304920" y="620640"/>
            <a:ext cx="5079960" cy="4586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606280" y="4029120"/>
            <a:ext cx="31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Hou u bureau netj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het is niet van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560840" cy="64771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9079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elfvertrouwen maak u 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5584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819600" y="304812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Grijp niet naar de  ste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95680" y="2362320"/>
            <a:ext cx="4457880" cy="4251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720" y="83808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Plan u vrije 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64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5229360"/>
            <a:ext cx="381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Verdana"/>
              </a:rPr>
              <a:t>Ohh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Verdana"/>
              </a:rPr>
              <a:t>Ik had die muis niet moeten op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4257720"/>
            <a:ext cx="2627280" cy="2600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80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Een ambtenaar is achter z'n bureau te suffen in het middagzonnet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Opeens ziet hij een spin en denkt: Die ga ik dood trapp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Net op het moment dat hij z'n voet wil neerzetten hoort hij de spin met een zacht stemmetje spreken: "Nee, niet doen, als je me in leven laat mag je 3 wensen doen!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"Hmm," denkt de man, "al goed, ik laat je heel, maar dan wens ik op een onbewoond tropisch eiland te wonen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LOEP. De man zit op een prachtig exotisch ei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e spin vraagt: "Je hebt nog 2 wensen over, dus zeg het maar!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"Oké," zegt de man, "ik wil 3 bloedmooie jonge dames om me heen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LOEP. Drie welgevormde dames om de man. "Je hebt nog een w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over, dus denk goed na!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"Nee, dat hoeft niet," zegt de man, "ik weet het al, ik wil de rest van m'n leven een lekker lui leventje lijden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LOEP. En hij zit weer achter zijn bureau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4835520" cy="3932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880160" y="155736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Doe niets wat je niet w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90920" y="2276640"/>
            <a:ext cx="6294240" cy="4311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61960" y="1143000"/>
            <a:ext cx="487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Laat u niet g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Al helemaal niet op de werkvl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00400" y="304920"/>
            <a:ext cx="5676840" cy="3617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80880" y="5257800"/>
            <a:ext cx="81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Zorg dat u genoeg plaats heeft om te 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5257800" cy="3915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088000" y="4724280"/>
            <a:ext cx="609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Breng niet te veel tijd door op het toil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Dat valt 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781680" cy="46832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850560" y="5300640"/>
            <a:ext cx="43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f5f5f"/>
                </a:solidFill>
                <a:latin typeface="Verdana"/>
              </a:rPr>
              <a:t>Computerkennis is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7667640" y="5805360"/>
            <a:ext cx="122400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87280" y="2205000"/>
            <a:ext cx="734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r lopen twee ambtenaren over stra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Trapt er eentje een slak d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egt de tweede: "Waarom doe je dat nou weer? Is toch helemaal nergens voor nodig!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ntwoordt de eerste: "Hij liep me al de hele dag voor de voeten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431496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14840" y="3327480"/>
            <a:ext cx="3629160" cy="3530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1280" y="1341360"/>
            <a:ext cx="799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"Dokter, ik zit eigenlijk met een probleem. Ik praat namelijk veel in mijn slaap," vertelt de ambtena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"Ach," zegt de dokter, "en u slaapt verder goed? Dan is het echt niet zo erg dat u af en toe wat zegt in uw slaap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"Dat kan anders soms knap vervelend zijn dokter," zegt de ambtenaar: "Gisteren bijvoorbeeld stonden al mijn collega's me hartelij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 te lachen toen ik wakker schrok!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25480" y="2971440"/>
            <a:ext cx="749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Een ambtenaar zit koffie te drinken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De kantinejuffrouw vraagt hem: "Wilt u nog een tweede kopje?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"Nee," zegt hij, "dank u wel, anders kan ik vanmiddag niet slapen.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708360" y="4076640"/>
            <a:ext cx="1674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10-03-22T19:56:37Z</dcterms:modified>
  <cp:revision>21</cp:revision>
  <dc:subject/>
  <dc:title>Dia 1</dc:title>
</cp:coreProperties>
</file>