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33.wmf" ContentType="image/x-wmf"/>
  <Override PartName="/ppt/media/image52.wmf" ContentType="image/x-wmf"/>
  <Override PartName="/ppt/media/image12.png" ContentType="image/png"/>
  <Override PartName="/ppt/media/image50.wmf" ContentType="image/x-wmf"/>
  <Override PartName="/ppt/media/image10.png" ContentType="image/png"/>
  <Override PartName="/ppt/media/image42.wmf" ContentType="image/x-wmf"/>
  <Override PartName="/ppt/media/image9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53.wmf" ContentType="image/x-wmf"/>
  <Override PartName="/ppt/media/image41.wmf" ContentType="image/x-wmf"/>
  <Override PartName="/ppt/media/image8.png" ContentType="image/png"/>
  <Override PartName="/ppt/media/image48.wmf" ContentType="image/x-wmf"/>
  <Override PartName="/ppt/media/image5.jpeg" ContentType="image/jpeg"/>
  <Override PartName="/ppt/media/image1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57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576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20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CEAC-B130-4A7A-8D78-581AA0CD662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6AAE2-4C6B-416E-ACDA-B76BA10D0D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3EA0-FCB8-4DC9-8CAB-9257DF516F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7777-31B5-422C-835D-3ADE996A45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791A7-6D2A-4539-B90F-BE4FD8F4D6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34CD9-AD98-42D2-B552-C0256C3BE1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9902C-DDF1-4B37-A02C-BB1B3E98B8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782E6-1D1A-4494-A742-87302DA49C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1144440" y="685800"/>
            <a:ext cx="45594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EE88D-2F65-4951-A4C7-5135FD5A12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629E4-D4D9-42AE-A8CF-12F1377D1F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09600" y="915840"/>
            <a:ext cx="4438800" cy="31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209600" y="915840"/>
            <a:ext cx="4438800" cy="31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209600" y="915840"/>
            <a:ext cx="4438800" cy="31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3840"/>
                <a:tab algn="l" pos="3646440"/>
                <a:tab algn="l" pos="4560840"/>
                <a:tab algn="l" pos="5473800"/>
                <a:tab algn="l" pos="6386400"/>
                <a:tab algn="l" pos="7299360"/>
                <a:tab algn="l" pos="8207280"/>
                <a:tab algn="l" pos="9120240"/>
                <a:tab algn="l" pos="10032840"/>
                <a:tab algn="l" pos="10260000"/>
                <a:tab algn="l" pos="10706040"/>
              </a:tabLst>
            </a:pPr>
            <a:fld id="{8F494957-2EA0-4F08-8D20-52840B6DE022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3840"/>
                <a:tab algn="l" pos="3646440"/>
                <a:tab algn="l" pos="4560840"/>
                <a:tab algn="l" pos="5473800"/>
                <a:tab algn="l" pos="6386400"/>
                <a:tab algn="l" pos="7299360"/>
                <a:tab algn="l" pos="8207280"/>
                <a:tab algn="l" pos="9120240"/>
                <a:tab algn="l" pos="10032840"/>
                <a:tab algn="l" pos="10260000"/>
                <a:tab algn="l" pos="10706040"/>
              </a:tabLst>
            </a:pPr>
            <a:fld id="{0B81CD85-34D5-4CCB-BA01-7F0DBFD802D4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"/>
          <p:cNvSpPr/>
          <p:nvPr/>
        </p:nvSpPr>
        <p:spPr>
          <a:xfrm>
            <a:off x="1000080" y="684360"/>
            <a:ext cx="4861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E0D-2ED7-4D55-9A71-049CA054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0DC-B016-4033-A05A-324E9C6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1C1-E53B-4DC6-8319-7140FC53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4FB-24A9-460A-964F-AA900A0D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F37-DED7-4237-B252-E353DDCC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5B08-765D-4EDF-AE0C-DF81D526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3C87-A636-49F4-99F4-AE0EB70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F4D3-B55E-47CA-9C54-A6743A89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70CD-68B6-4711-B462-6A07541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E0B-9317-4D30-8164-106E3314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D8B-F742-40F8-9A52-83B95FF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938-5E8F-433C-A49F-A4BCCDB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E43-3A71-40E1-B82D-12F6E1F6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E61E-470D-4F3C-9948-5CBF472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A03-ECBD-4F47-9B10-E57CC97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A8F8-1638-4BF7-AE72-CBEE636D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A9BE-92E0-4249-8614-CAF171BD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5E5E-0064-45AB-B6B0-3399A9EA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EDED-A37C-42E2-89C4-205D6A9F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6460-AC5A-4D0F-9E23-83BB9C37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8944-9369-4BFB-BCFC-0F3A30F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C387-78E7-4A39-B7D7-FDC5BD5E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B5C-8232-46F0-8293-BB61BA92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32E6-D222-4BE9-A538-76E80E02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2FF1-64FE-4395-82CD-19EE4DE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F4B2-FAF5-403E-A7C2-A7A0BFB9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27AE-06A7-4042-B7C7-EF884BC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6D1F-0DA4-4018-8016-EDC41A10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9CAE-46D2-4AA0-87D0-C0980CC3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E1A6-BC3D-419F-AACE-0EE96043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65CE-7762-4ADE-A03E-B803CE4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A6AA-094C-442F-9CC1-1BF12C6D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500D-541E-479F-9955-73DF6E76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D1C-FA82-49AD-A33A-225642A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09D7-555C-49AB-8B91-DD0BEDD4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1430F-5335-475D-9081-79531CD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88F6-DFB3-4E7E-9818-AA875C04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82CD-1658-4BD6-8C87-E5F1EB5F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AA24-66B8-4795-B3EA-32CB5A9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A519-DA82-48ED-AEF9-2E5E0DA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50C1-227D-43A3-886F-EBC6249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7F9F-D911-48EE-8B94-1651BE51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0A96-B954-4E1F-A25C-2DB70A6A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D56C-CD6D-4546-BD44-72672E02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D48-AFE3-49DF-A82F-9460551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53DA-9B6B-4AD4-9F58-6EFA621D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6D8C1-DDBF-41E3-9203-3FB1710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F523A-21E7-4D00-AD3B-B6193AF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8539-08DB-4C6E-87C4-5B6EB40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CE76E-452B-470B-B511-32A6E009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8115-3C0F-42BD-8515-7E2E6EE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443F-0215-4E50-96F7-0CA0CFE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F2C3-F47E-423C-9017-5A89276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EA60-7A0F-4133-9095-63833E00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7D4B7-0E60-4558-9E38-CF02AB5B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392-2EF9-410B-BF15-C8CE0EAD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2D19-FC39-49C5-BB5D-563AAD52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E164-847F-4107-9384-643CBB0D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0E0C-6E56-42D6-BCF7-F523802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7652-826B-4F98-B3FB-BDADEF5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4FF2-F886-4D9C-9DC3-A892FF7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8C25-ACAE-4BB2-A55A-333ECAE1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B367-EEBA-411E-A92A-848F44A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51CA-53CE-4E8D-98A5-E942096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3B738-0EE5-452F-8377-ED698809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9F88-9A5C-4E95-8A22-CF36108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DF2-1D07-4743-BA10-A655BE45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B4C8-8259-4A09-A2BB-F97321A3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F460F-93F8-4177-999F-235569A4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2FC9-A5DB-4B3C-9A3F-5ED26C15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BC8F-DF8B-4C8E-A735-D6EEAACD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DEEF1-67EA-4484-8CF5-1981921D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37E3-37ED-46E0-B869-FE8396D9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140B-98C4-48B6-8EBC-EA3D341F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E3E3-9239-4F30-A0A9-3FC5C25F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679C-AE2D-4F1F-8B9B-F95A95DF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FC93-8F87-418E-8C6D-A054FBBE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55E-3963-4D36-9743-09D600D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0067-BDF1-4423-8D32-3558711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AA1E1-156C-4D36-8BB9-5092372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F80F-1DFE-4DB3-B8AB-2E2268D4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4CD1-BF8E-420B-A72D-01CC43A9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BB91-57D4-42F7-A99C-F05D1C8C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5DD-C17D-4375-A7EF-19E0A708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8B010A-62E5-488B-9EA0-DBDDDE12A8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2DF9D2-9F0C-4F12-B6F5-2249BDF15A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EB0762-FF08-44F6-9B7D-F24F4C6CB2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66FC48-CBDF-4367-A4D1-C02E164E91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9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02A31D-CD49-4A5B-840A-8433059CED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A7A4FE-8D95-422F-84EA-3AEBF204E4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6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7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79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0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05B691-DDF8-4357-AB0B-0B0DF92722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abianelontra@terra.com.br" TargetMode="External"/><Relationship Id="rId2" Type="http://schemas.openxmlformats.org/officeDocument/2006/relationships/hyperlink" Target="mailto:fabiobranco@riogrande.rs.gov.br" TargetMode="External"/><Relationship Id="rId3" Type="http://schemas.openxmlformats.org/officeDocument/2006/relationships/hyperlink" Target="mailto:zelionarasms@riogrande.rs.gov.br" TargetMode="External"/><Relationship Id="rId4" Type="http://schemas.openxmlformats.org/officeDocument/2006/relationships/hyperlink" Target="mailto:rsmoraes@mp.rs.gov.b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" Target="slide86.xml"/><Relationship Id="rId6" Type="http://schemas.openxmlformats.org/officeDocument/2006/relationships/slide" Target="slide89.xml"/><Relationship Id="rId7" Type="http://schemas.openxmlformats.org/officeDocument/2006/relationships/slide" Target="slide88.xml"/><Relationship Id="rId8" Type="http://schemas.openxmlformats.org/officeDocument/2006/relationships/slide" Target="slide47.xml"/><Relationship Id="rId9" Type="http://schemas.openxmlformats.org/officeDocument/2006/relationships/slide" Target="slide93.xml"/><Relationship Id="rId10" Type="http://schemas.openxmlformats.org/officeDocument/2006/relationships/slide" Target="slide42.xml"/><Relationship Id="rId11" Type="http://schemas.openxmlformats.org/officeDocument/2006/relationships/slide" Target="slide41.xml"/><Relationship Id="rId12" Type="http://schemas.openxmlformats.org/officeDocument/2006/relationships/slide" Target="slide44.xml"/><Relationship Id="rId13" Type="http://schemas.openxmlformats.org/officeDocument/2006/relationships/slide" Target="slide66.xml"/><Relationship Id="rId14" Type="http://schemas.openxmlformats.org/officeDocument/2006/relationships/slide" Target="slide69.xml"/><Relationship Id="rId15" Type="http://schemas.openxmlformats.org/officeDocument/2006/relationships/slide" Target="slide67.xml"/><Relationship Id="rId16" Type="http://schemas.openxmlformats.org/officeDocument/2006/relationships/slide" Target="slide68.xml"/><Relationship Id="rId17" Type="http://schemas.openxmlformats.org/officeDocument/2006/relationships/slide" Target="slide70.xml"/><Relationship Id="rId18" Type="http://schemas.openxmlformats.org/officeDocument/2006/relationships/slide" Target="slide72.xml"/><Relationship Id="rId19" Type="http://schemas.openxmlformats.org/officeDocument/2006/relationships/slide" Target="slide73.xml"/><Relationship Id="rId20" Type="http://schemas.openxmlformats.org/officeDocument/2006/relationships/slide" Target="slide74.xml"/><Relationship Id="rId21" Type="http://schemas.openxmlformats.org/officeDocument/2006/relationships/slide" Target="slide76.xml"/><Relationship Id="rId22" Type="http://schemas.openxmlformats.org/officeDocument/2006/relationships/slide" Target="slide77.xml"/><Relationship Id="rId23" Type="http://schemas.openxmlformats.org/officeDocument/2006/relationships/slide" Target="slide75.xml"/><Relationship Id="rId24" Type="http://schemas.openxmlformats.org/officeDocument/2006/relationships/slide" Target="slide79.xml"/><Relationship Id="rId25" Type="http://schemas.openxmlformats.org/officeDocument/2006/relationships/slide" Target="slide65.xml"/><Relationship Id="rId26" Type="http://schemas.openxmlformats.org/officeDocument/2006/relationships/slide" Target="slide12.xml"/><Relationship Id="rId27" Type="http://schemas.openxmlformats.org/officeDocument/2006/relationships/slide" Target="slide70.xml"/><Relationship Id="rId28" Type="http://schemas.openxmlformats.org/officeDocument/2006/relationships/slide" Target="slide70.xml"/><Relationship Id="rId29" Type="http://schemas.openxmlformats.org/officeDocument/2006/relationships/slide" Target="slide84.xml"/><Relationship Id="rId30" Type="http://schemas.openxmlformats.org/officeDocument/2006/relationships/slide" Target="slide68.xml"/><Relationship Id="rId31" Type="http://schemas.openxmlformats.org/officeDocument/2006/relationships/slide" Target="slide70.xml"/><Relationship Id="rId32" Type="http://schemas.openxmlformats.org/officeDocument/2006/relationships/slide" Target="slide66.xml"/><Relationship Id="rId3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-228600" y="0"/>
            <a:ext cx="9372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-228600" y="380880"/>
            <a:ext cx="937260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Verdana"/>
              </a:rPr>
              <a:t>Planejamento e Gest</a:t>
            </a:r>
            <a:r>
              <a:rPr b="1" lang="en-US" sz="3600" spc="-1" strike="noStrike">
                <a:solidFill>
                  <a:srgbClr val="3333ff"/>
                </a:solidFill>
                <a:latin typeface="Verdana"/>
              </a:rPr>
              <a:t>ão Sistêmicos</a:t>
            </a:r>
            <a:br>
              <a:rPr sz="36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 foco na Saúde - Otimização do Fornecimento de</a:t>
            </a: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dicamen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762120" y="3352680"/>
            <a:ext cx="7467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bio de Oliveira Branco -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feito Municip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biane Lontra -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ensora Públ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lionara Pereira Branco -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ária Municipal da Saú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odrigo Schoeller de Mora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motor de Justiç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763120" cy="73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1 – CRITÉRIOS PARA O ATENDIMENTO INICI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3 identificar pessoas que ocupam cargos que são referência para o funcionamento do sistema da re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4 contatar a pessoa de referência da rede para a solução de determinada situação para agilizar o atendimen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5 com relação a crianças e adolescentes, quando não houver atendimento do pedido administrativo, o MP ajuíza a ação em favor do menor que não tem familiares e/ou responsáveis e a Defensoria Pública assume o encargo em favor dos demais cas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74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.2 – CRITÉRIOS PARA A JUDICIALIZAÇÃ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1 em se ajuizando a demanda em desfavor do município e estado, preferencialmente efetivar bloqueio judicial, em caso de descumprimento, em desfavor do ente responsável pelo fornecimento do fármaco, segundo listas padronizadas de medicament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2  intimação da concessão da tutela antecipada via fax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70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.2 – CRITÉRIOS PARA A JUDICIALIZAÇÃ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3 contato com as Farmácias Municipal e Estadual para certificação da não-disponibilidade do fármaco antes do bloqueio de valor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4 comunicação às Farmácias do fato e do prazo de abrangência do bloqueio, após a concretização do at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5 inserção de dados na demanda (CPF, CNES, CRM), que possibilitem ao Estado o ressarcimento dos valores despendidos junto à Uni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3600"/>
            </a:b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3 – JUSTIFICATIV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RESULTADOS OBTIDOS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1" descr=""/>
          <p:cNvPicPr/>
          <p:nvPr/>
        </p:nvPicPr>
        <p:blipFill>
          <a:blip r:embed="rId1"/>
          <a:stretch/>
        </p:blipFill>
        <p:spPr>
          <a:xfrm>
            <a:off x="871560" y="309600"/>
            <a:ext cx="7597800" cy="887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1007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DO NUMERO DE AÇÕES JUDICIAI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UIZOS AO CIDADÃO PELA DEMORA NO FORNECIMENTO PELO ESTADO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UIZOS AO MUNICIPIO E ESTADO COM BLOQUEIO DE RECURS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DA DESPESA DO MUNICIPIO COM AÇÕES JUDICIAIS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ICO A SEGUIR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1357200" y="428760"/>
            <a:ext cx="7326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DESPESAS</a:t>
            </a: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COM MEDICAMENT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1905120" y="19051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464646"/>
                </a:solidFill>
                <a:uFillTx/>
                <a:latin typeface="Times New Roman"/>
                <a:ea typeface="Times New Roman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150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464646"/>
                </a:solidFill>
                <a:uFillTx/>
                <a:latin typeface="Times New Roman"/>
                <a:ea typeface="Times New Roman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2860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9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0574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3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54100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80010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6" name="Gráfico 12" descr=""/>
          <p:cNvPicPr/>
          <p:nvPr/>
        </p:nvPicPr>
        <p:blipFill>
          <a:blip r:embed="rId1"/>
          <a:stretch/>
        </p:blipFill>
        <p:spPr>
          <a:xfrm>
            <a:off x="298440" y="2206800"/>
            <a:ext cx="4352760" cy="4352760"/>
          </a:xfrm>
          <a:prstGeom prst="rect">
            <a:avLst/>
          </a:prstGeom>
          <a:ln w="0">
            <a:noFill/>
          </a:ln>
        </p:spPr>
      </p:pic>
      <p:pic>
        <p:nvPicPr>
          <p:cNvPr id="397" name="Gráfico 14" descr=""/>
          <p:cNvPicPr/>
          <p:nvPr/>
        </p:nvPicPr>
        <p:blipFill>
          <a:blip r:embed="rId2"/>
          <a:stretch/>
        </p:blipFill>
        <p:spPr>
          <a:xfrm>
            <a:off x="4340160" y="2279520"/>
            <a:ext cx="44798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1085760" y="304920"/>
            <a:ext cx="7594560" cy="1079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28240" y="7617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IMIZAR A REDE DE FORNECIMENTO DE MEDICAMENTOS NO MUNICIPIO DO RIO GRANDE, UTILIZANDO A METODOLOGIA  DE PLANEJAMENTO E DE GESTÃO SISTÊMIC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1085760" y="274680"/>
            <a:ext cx="7594560" cy="11095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360" y="1260360"/>
            <a:ext cx="766116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 DE CRITÉRIOS TÉCNICOS E ADMINISTRATIV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 DA REDE DE COMUNICAÇÃO (PESSOAS E FLUXOS)</a:t>
            </a:r>
            <a:r>
              <a:rPr b="0" lang="ar-S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r>
              <a:rPr b="0" lang="pt-B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EAMENTO DAS NECESSIDADES, POSSIBILIDADES E ATIVIDADE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 DE INSTRUMENTOS COMU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1085760" y="304920"/>
            <a:ext cx="75945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8145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O: JUL/200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ÇÃO DA REDE DE ATENÇÃO COM FOCO MEDICAMENTO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UÇÃ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ERCA 80% DAS 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ÇÕ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E SERIAM AJUIZADAS PELO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INISTÉRIO PÚBLICO E PELA DEFENSORIA PÚBLI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1085760" y="0"/>
            <a:ext cx="7594560" cy="10666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7916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ÇÃO DOS BLOQUEIOS JUDICIAI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LIZAÇÃO NO FORNECIMENTO DOS MEDICAMENTO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ÇÃO DA REDE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ILIDADE DO CIDADÃO RECEBER EM DUPLICIDA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2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685800" y="304920"/>
            <a:ext cx="8001000" cy="67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iane Lon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fabianelontra@terra.com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bio de Oliveira Bran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hlinkClick r:id="rId2"/>
              </a:rPr>
              <a:t>fabiobranco@riogrande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lionara Pereira Bran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zelionarasms@riogrande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rigo Schoeller de Mora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rsmoraes@mp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1357200" y="428760"/>
            <a:ext cx="7326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DESPESAS</a:t>
            </a: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COM MEDICAMENT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49528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84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8288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6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9" name="Gráfico 13" descr=""/>
          <p:cNvPicPr/>
          <p:nvPr/>
        </p:nvPicPr>
        <p:blipFill>
          <a:blip r:embed="rId1"/>
          <a:stretch/>
        </p:blipFill>
        <p:spPr>
          <a:xfrm>
            <a:off x="835200" y="1852560"/>
            <a:ext cx="7626240" cy="4249800"/>
          </a:xfrm>
          <a:prstGeom prst="rect">
            <a:avLst/>
          </a:prstGeom>
          <a:ln w="0">
            <a:noFill/>
          </a:ln>
        </p:spPr>
      </p:pic>
      <p:sp>
        <p:nvSpPr>
          <p:cNvPr id="410" name="CaixaDeTexto 6"/>
          <p:cNvSpPr/>
          <p:nvPr/>
        </p:nvSpPr>
        <p:spPr>
          <a:xfrm>
            <a:off x="0" y="5791320"/>
            <a:ext cx="89154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ualmente a Secretaria atende à 73 Processos, sendo que, em média, tem 20 processos a mais por mês, no qual o município é réu junto com Estad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42640" y="5943600"/>
            <a:ext cx="1143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Lucida Sans Unicode"/>
              </a:rPr>
              <a:t>2007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ítulo 4" descr=""/>
          <p:cNvPicPr/>
          <p:nvPr/>
        </p:nvPicPr>
        <p:blipFill>
          <a:blip r:embed="rId1"/>
          <a:stretch/>
        </p:blipFill>
        <p:spPr>
          <a:xfrm>
            <a:off x="755640" y="-103320"/>
            <a:ext cx="7540560" cy="1908360"/>
          </a:xfrm>
          <a:prstGeom prst="rect">
            <a:avLst/>
          </a:prstGeom>
          <a:ln w="0">
            <a:noFill/>
          </a:ln>
        </p:spPr>
      </p:pic>
      <p:pic>
        <p:nvPicPr>
          <p:cNvPr id="413" name="Gráfico 3" descr=""/>
          <p:cNvPicPr/>
          <p:nvPr/>
        </p:nvPicPr>
        <p:blipFill>
          <a:blip r:embed="rId2"/>
          <a:stretch/>
        </p:blipFill>
        <p:spPr>
          <a:xfrm>
            <a:off x="530280" y="2584440"/>
            <a:ext cx="7858080" cy="3975120"/>
          </a:xfrm>
          <a:prstGeom prst="rect">
            <a:avLst/>
          </a:prstGeom>
          <a:ln w="0">
            <a:noFill/>
          </a:ln>
        </p:spPr>
      </p:pic>
      <p:pic>
        <p:nvPicPr>
          <p:cNvPr id="414" name="Gráfico 5" descr=""/>
          <p:cNvPicPr/>
          <p:nvPr/>
        </p:nvPicPr>
        <p:blipFill>
          <a:blip r:embed="rId3"/>
          <a:stretch/>
        </p:blipFill>
        <p:spPr>
          <a:xfrm>
            <a:off x="450720" y="1670040"/>
            <a:ext cx="75535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-70200"/>
            <a:ext cx="79246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1" lang="pt-BR" sz="2300" spc="-1" strike="noStrike">
                <a:solidFill>
                  <a:srgbClr val="3333ff"/>
                </a:solidFill>
                <a:latin typeface="Arial"/>
              </a:rPr>
              <a:t>PRODUTOS ESPERADOS </a:t>
            </a: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1 - otimização da rede de fornecimento de medicamentos por meio da metodologia de planejamento e de gestão sistêmic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2 - capacitação dos profissionais da área médica acerca da conveniência da prescrição dos medicamentos constantes nas listas padronizadas, quando de idêntica eficácia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333ff"/>
                </a:solidFill>
                <a:latin typeface="Arial"/>
              </a:rPr>
              <a:t>PRODUTOS ESPERADOS </a:t>
            </a: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3 - atualização das listas padronizadas de medicamentos pelos órgãos competente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4 - agilização da ANVISA para aprovação de medicamentos que já vem sendo prescritos no país e ainda não obtiveram autorização/validação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5 - redução do tempo para o fornecimento do fármaco, seja na via administrativa, seja na via judicial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6 - disponibilização de médico para a avaliação dos resultados obtidos com a ingesta da droga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3333ff"/>
                </a:solidFill>
                <a:latin typeface="Arial"/>
              </a:rPr>
              <a:t>PRODUTOS ESPERADOS </a:t>
            </a: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7 - redução de custos para os entes federad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8 - apuração da responsabilidade das pessoas que atuam no SUS em benefício próprio, de forma a preservá-lo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9 - efetivação da norma prevista no artigo 35, VII, da Lei nº 8080/90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10 - descentralização da distribuição dos medicamentos especiais, com repasse direto do nível central para o municípi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Programa Rede Família</a:t>
            </a:r>
            <a:br>
              <a:rPr sz="3200"/>
            </a:br>
            <a:r>
              <a:rPr b="0" lang="pt-BR" sz="3600" spc="-1" strike="noStrike" u="sng">
                <a:solidFill>
                  <a:srgbClr val="2da2bf"/>
                </a:solidFill>
                <a:uFillTx/>
                <a:latin typeface="Arial"/>
              </a:rPr>
              <a:t> </a:t>
            </a:r>
            <a:r>
              <a:rPr b="1" lang="pt-BR" sz="2900" spc="-1" strike="noStrike" u="sng">
                <a:solidFill>
                  <a:srgbClr val="23d21a"/>
                </a:solidFill>
                <a:uFillTx/>
                <a:latin typeface="Lucida Sans Unicode"/>
              </a:rPr>
              <a:t>FOCO PRIORITÁR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crianças e adolescentes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institucionalizados e suas famílias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Resultados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icácia =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minuição do tempo de perman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crianças e adolescentes em acolhimento institucional (apesar da expansão portuári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Eficiência 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tim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recursos (menos papel - mais relaçã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tividade 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ltu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tuar e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des de cooperaçã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Arial"/>
              </a:rPr>
              <a:t>Grupo Fazendo Frente ao Crac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enção, tratamento e reinserção/repressão à 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Drogadição </a:t>
            </a:r>
            <a:r>
              <a:rPr b="0" lang="pt-BR" sz="2800" spc="-1" strike="noStrike">
                <a:solidFill>
                  <a:srgbClr val="ff3300"/>
                </a:solidFill>
                <a:latin typeface="Hoefler Text Ornaments"/>
                <a:ea typeface="Hoefler Text Ornaments"/>
              </a:rPr>
              <a:t>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   crack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Result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Sistema de referência e contra-refer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mento do atend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os u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ios de crack e suas famíli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Aumento 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r tráfic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inár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 e 16/10/0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olítica Municipal sobre Drog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Comitê de Gestão Social (CGS)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1 - Preven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2 - Tratament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3 - Redução da ofer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                                       Secretaria de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úde elabor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838080" y="685800"/>
          <a:ext cx="716292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162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04920" y="117360"/>
            <a:ext cx="85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04920" y="762120"/>
          <a:ext cx="85341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52280" y="41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500" spc="-1" strike="noStrike">
                <a:solidFill>
                  <a:srgbClr val="ffffff"/>
                </a:solidFill>
                <a:latin typeface="Lucida Sans Unicode"/>
              </a:rPr>
              <a:t>4.   </a:t>
            </a:r>
            <a:r>
              <a:rPr b="1" lang="pt-BR" sz="4400" spc="-1" strike="noStrike">
                <a:solidFill>
                  <a:srgbClr val="ff3300"/>
                </a:solidFill>
                <a:latin typeface="Arial"/>
              </a:rPr>
              <a:t>Comitê de </a:t>
            </a:r>
            <a:r>
              <a:rPr b="1" lang="pt-BR" sz="4000" spc="-1" strike="noStrike">
                <a:solidFill>
                  <a:srgbClr val="ff3300"/>
                </a:solidFill>
                <a:latin typeface="Arial"/>
              </a:rPr>
              <a:t>Gestão </a:t>
            </a:r>
            <a:r>
              <a:rPr b="1" lang="pt-BR" sz="4400" spc="-1" strike="noStrike">
                <a:solidFill>
                  <a:srgbClr val="ff33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33cc"/>
                </a:solidFill>
                <a:latin typeface="Arial"/>
              </a:rPr>
              <a:t>Formação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33cc"/>
                </a:solidFill>
                <a:latin typeface="Arial"/>
              </a:rPr>
              <a:t>A) Secretarias de Governo: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(Saúde, Educação, Cidadania e Assistência Social, Meio Ambiente, Habitação e Desenvolvimento Urbano, Segurança dos Transportes e do Trânsito, Turismo, Esporte e Lazer, Agricultura, Pesca e Coordenação e Planejamento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B)</a:t>
            </a: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Conselhos Municipai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(CMS, CME, CMAS, CMTT, CMT, COMAPERG, COMEN, COMDES, COMBEM, COMSEA, COMDICA, COMDECOM, COMUDE,CMEL, CMPH, CMI, COMDEMA, CMDM, CT, CMCN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0033cc"/>
                </a:solidFill>
                <a:latin typeface="Arial"/>
              </a:rPr>
              <a:t>C) Instituições e Lideranças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expertise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 foco prioritário, convidadas ou aquelas consideradas intervenientes naturais do CGS (Rede Família, Poder Judiciário, Ministério Público, Procuradoria da República, Defensoria Pública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Órgãos da Segurança Pública, et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718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NEJAMENTO E GESTÃO SISTÊMICOS</a:t>
            </a:r>
            <a:br>
              <a:rPr sz="4000"/>
            </a:br>
            <a:br>
              <a:rPr sz="4000"/>
            </a:b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Bus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Sustentabilidade/Efetividade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z – interna e externa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urier New"/>
              </a:rPr>
              <a:t>Atuar: 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urier New"/>
              </a:rPr>
              <a:t>nas Causas e nas Conseqüência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Lucida Sans Unicode"/>
              </a:rPr>
              <a:t>PGS - No Estado</a:t>
            </a:r>
            <a:r>
              <a:rPr b="1" lang="pt-BR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2800" spc="-1" strike="noStrike">
                <a:solidFill>
                  <a:srgbClr val="ff3300"/>
                </a:solidFill>
                <a:latin typeface="Lucida Sans Unicode"/>
              </a:rPr>
              <a:t>do RGS </a:t>
            </a:r>
            <a:br>
              <a:rPr sz="2800"/>
            </a:br>
            <a:r>
              <a:rPr b="1" lang="pt-BR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r>
              <a:rPr b="1" lang="pt-BR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br>
              <a:rPr sz="2800"/>
            </a:br>
            <a:r>
              <a:rPr b="1" lang="pt-BR" sz="2400" spc="-1" strike="noStrike">
                <a:solidFill>
                  <a:srgbClr val="0033cc"/>
                </a:solidFill>
                <a:latin typeface="Lucida Sans Unicode"/>
              </a:rPr>
              <a:t>Grupo de Planejamento e Gestão Sistêmicos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Map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. Semelhante ao efetivado em Rio Grand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Instituições (em âmbito municipal, estadual e feder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- Materiais sobre o te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0" y="3809880"/>
            <a:ext cx="8839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aliza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uni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ensais do Grupo de Planejamento e de Gestão Sistêmicos 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 todas as instituições para discutir a questão dos medicamento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PGS - No Estado</a:t>
            </a:r>
            <a:r>
              <a:rPr b="1" lang="pt-BR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do RGS </a:t>
            </a:r>
            <a:br>
              <a:rPr sz="2900"/>
            </a:br>
            <a:r>
              <a:rPr b="1" lang="pt-BR" sz="3200" spc="-1" strike="noStrike">
                <a:solidFill>
                  <a:srgbClr val="0033cc"/>
                </a:solidFill>
                <a:latin typeface="Lucida Sans Unicode"/>
              </a:rPr>
              <a:t>Grupo de Planejamento e Gestão Sistêmicos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Sans Unicode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organização e elaboração de </a:t>
            </a:r>
            <a:r>
              <a:rPr b="1" lang="pt-BR" sz="2800" spc="-1" strike="noStrike">
                <a:solidFill>
                  <a:srgbClr val="000000"/>
                </a:solidFill>
                <a:latin typeface="Lucida Sans Unicode"/>
              </a:rPr>
              <a:t>materiais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para subsidiar os envolvidos no te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formulário unificado de justificativa médica, .portarias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pesquisa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junto aos municípios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fluxograma de fornecimento de medicamentos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sugestões, artigos para revistas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 livro, DVDs, cartilhas, educação à distância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.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PGS - No Estado</a:t>
            </a:r>
            <a:r>
              <a:rPr b="1" lang="pt-BR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do RGS </a:t>
            </a:r>
            <a:br>
              <a:rPr sz="2900"/>
            </a:br>
            <a:r>
              <a:rPr b="1" lang="pt-BR" sz="3200" spc="-1" strike="noStrike">
                <a:solidFill>
                  <a:srgbClr val="0033cc"/>
                </a:solidFill>
                <a:latin typeface="Lucida Sans Unicode"/>
              </a:rPr>
              <a:t>Grupo de Planejamento e Gestão Sistêmicos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Sans Unicode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-assinatura de </a:t>
            </a:r>
            <a:r>
              <a:rPr b="1" lang="pt-BR" sz="2800" spc="-1" strike="noStrike">
                <a:solidFill>
                  <a:srgbClr val="3333ff"/>
                </a:solidFill>
                <a:latin typeface="Lucida Sans Unicode"/>
              </a:rPr>
              <a:t>termo de cooperação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ent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o Ministério Público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o Tribunal de Justiça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Defensoria Públic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Secretaria de Estado da Saúde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Procuradoria Regional da União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 a Procuradoria-Geral do Estado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a Federação das Associações de Municípios 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. o Conselho Regional de Medicin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Lucida Sans Unicode"/>
              </a:rPr>
              <a:t>para replicação</a:t>
            </a:r>
            <a:r>
              <a:rPr b="0" lang="pt-BR" sz="2800" spc="-1" strike="noStrike">
                <a:solidFill>
                  <a:srgbClr val="000000"/>
                </a:solidFill>
                <a:latin typeface="Lucida Sans Unicode"/>
              </a:rPr>
              <a:t> da metodologia de Planejamento e de Gestão Sistêmicos </a:t>
            </a:r>
            <a:r>
              <a:rPr b="1" lang="pt-BR" sz="2800" spc="-1" strike="noStrike">
                <a:solidFill>
                  <a:srgbClr val="000000"/>
                </a:solidFill>
                <a:latin typeface="Lucida Sans Unicode"/>
              </a:rPr>
              <a:t>no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municíp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Lucida Sans Unicode"/>
              </a:rPr>
              <a:t>PGS 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com foco na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Saúde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 - Otimização da Rede de Fornecimento de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Medicamentos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3333ff"/>
                </a:solidFill>
                <a:latin typeface="Lucida Sans Unicode"/>
              </a:rPr>
              <a:t>RESULTADOS </a:t>
            </a:r>
            <a:r>
              <a:rPr b="1" lang="pt-BR" sz="2000" spc="-1" strike="noStrike" u="sng">
                <a:solidFill>
                  <a:srgbClr val="3333ff"/>
                </a:solidFill>
                <a:uFillTx/>
                <a:latin typeface="Lucida Sans Unicode"/>
              </a:rPr>
              <a:t>(EXEMPL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3333ff"/>
                </a:solidFill>
                <a:latin typeface="Lucida Sans Unicode"/>
              </a:rPr>
              <a:t>1 – Institucional: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encaminhamento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do termo de cooperação e do material elaborado pelo Grupo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para os integrantes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das instituições que atuam nos municípios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fomento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à adoção da metodologia de Planejamento e de Gestão Sistêmicos pelos integrantes das instituições, </a:t>
            </a:r>
            <a:r>
              <a:rPr b="1" lang="pt-BR" sz="2500" spc="-1" strike="noStrike">
                <a:solidFill>
                  <a:srgbClr val="000000"/>
                </a:solidFill>
                <a:latin typeface="Lucida Sans Unicode"/>
              </a:rPr>
              <a:t>estimulando e dando recursos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, de modo possibilitar seja dada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prioridade</a:t>
            </a:r>
            <a:r>
              <a:rPr b="0" lang="pt-BR" sz="2500" spc="-1" strike="noStrike">
                <a:solidFill>
                  <a:srgbClr val="000000"/>
                </a:solidFill>
                <a:latin typeface="Lucida Sans Unicode"/>
              </a:rPr>
              <a:t> ao tema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Lucida Sans Unicode"/>
              </a:rPr>
              <a:t>PGS 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com foco na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Saúde</a:t>
            </a:r>
            <a:r>
              <a:rPr b="0" lang="pt-BR" sz="2400" spc="-1" strike="noStrike">
                <a:solidFill>
                  <a:srgbClr val="464646"/>
                </a:solidFill>
                <a:latin typeface="Lucida Sans Unicode"/>
              </a:rPr>
              <a:t> - Otimização da Rede de Fornecimento de </a:t>
            </a:r>
            <a:r>
              <a:rPr b="0" lang="pt-BR" sz="2400" spc="-1" strike="noStrike">
                <a:solidFill>
                  <a:srgbClr val="ff3300"/>
                </a:solidFill>
                <a:latin typeface="Lucida Sans Unicode"/>
              </a:rPr>
              <a:t>Medicamentos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Lucida Sans Unicode"/>
              </a:rPr>
              <a:t>2 -</a:t>
            </a:r>
            <a:r>
              <a:rPr b="0" lang="pt-BR" sz="28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1" lang="pt-BR" sz="2800" spc="-1" strike="noStrike">
                <a:solidFill>
                  <a:srgbClr val="3333ff"/>
                </a:solidFill>
                <a:latin typeface="Lucida Sans Unicode"/>
              </a:rPr>
              <a:t>Interinstitucion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realização de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reuniões/capacitações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nas Macrorregionais de saú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acompanhamento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das redes de cooperação que forem formadas nos municípi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Lucida Sans Unicode"/>
              </a:rPr>
              <a:t>continuidade do Grupo de Planejamento e de Gestão Sistêmicos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 para avaliação das metas, resultados, etc. de modo a estimular e evidenciar os aspectos políticos, econômicos, sociais e ambientais relativos aos encargos e recursos envolvidos n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foco prioritário escolhido </a:t>
            </a:r>
            <a:r>
              <a:rPr b="0" lang="pt-BR" sz="2400" spc="-1" strike="noStrike">
                <a:solidFill>
                  <a:srgbClr val="000000"/>
                </a:solidFill>
                <a:latin typeface="Lucida Sans Unicode"/>
              </a:rPr>
              <a:t>“otimização da rede de fornecimento de medicamentos”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5975280" y="177948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Verdana"/>
              </a:rPr>
              <a:t>FAMÍL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CR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1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462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934320" y="5530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80880"/>
            <a:ext cx="26668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39080" y="-5477760"/>
            <a:ext cx="7632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No mesmo sentido, o parágrafo primeiro d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Agenda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Habitat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ara os </a:t>
            </a:r>
            <a:r>
              <a:rPr b="1" lang="pt-BR" sz="2800" spc="-1" strike="noStrike" u="sng">
                <a:solidFill>
                  <a:srgbClr val="ff3300"/>
                </a:solidFill>
                <a:uFillTx/>
                <a:latin typeface="Harlow Solid Italic"/>
              </a:rPr>
              <a:t>Municípios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Há um senso de grande oportunidade e esperança de que pode ser construído um </a:t>
            </a:r>
            <a:r>
              <a:rPr b="1" i="1" lang="pt-BR" sz="2400" spc="-1" strike="noStrike">
                <a:solidFill>
                  <a:srgbClr val="23d21a"/>
                </a:solidFill>
                <a:latin typeface="Courier New"/>
              </a:rPr>
              <a:t>novo mund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no qual o  desenvolviment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econômic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soci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a proteçã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ambient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com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compon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o desenvolvimento sustentável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interdepend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que se reforçam mutuamente, podem ser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realizados por meio da solidariedade e cooperaçã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entro e entre países através de parcerias eficazes em todos os níveis.”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(Fonte: Agenda </a:t>
            </a:r>
            <a:r>
              <a:rPr b="1" i="1" lang="en-US" sz="1200" spc="-1" strike="noStrike">
                <a:solidFill>
                  <a:srgbClr val="000000"/>
                </a:solidFill>
                <a:latin typeface="Harlow Solid Italic"/>
              </a:rPr>
              <a:t>Habitat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 para Municípios/Marlene Fernand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 algn="ctr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Rio de Janeiro: IBAM, 2003)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Lucida Sans Unicode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Lucida Sans Unicode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Lucida Sans Unicode"/>
              </a:rPr>
              <a:t>500 mil brasileiros</a:t>
            </a:r>
            <a:r>
              <a:rPr b="1" lang="pt-BR" sz="2900" spc="-1" strike="noStrike">
                <a:solidFill>
                  <a:srgbClr val="464646"/>
                </a:solidFill>
                <a:latin typeface="Lucida Sans Unicode"/>
              </a:rPr>
              <a:t> que participaram da pesquisa Brasil Ponto a Ponto, realizada pelo Programa das Nações Unidas para o Desenvolvimento (PNUD)</a:t>
            </a:r>
            <a:br>
              <a:rPr sz="2900"/>
            </a:br>
            <a:br>
              <a:rPr sz="2900"/>
            </a:br>
            <a:r>
              <a:rPr b="1" lang="pt-BR" sz="2900" spc="-1" strike="noStrike">
                <a:solidFill>
                  <a:srgbClr val="464646"/>
                </a:solidFill>
                <a:latin typeface="Lucida Sans Unicode"/>
              </a:rPr>
              <a:t>responderam a pergunta: “O que deve mudar no Brasil para sua vida melhorar de </a:t>
            </a:r>
            <a:r>
              <a:rPr b="1" lang="pt-BR" sz="2900" spc="-1" strike="noStrike">
                <a:solidFill>
                  <a:srgbClr val="000000"/>
                </a:solidFill>
                <a:latin typeface="Lucida Sans Unicode"/>
              </a:rPr>
              <a:t>verdade</a:t>
            </a:r>
            <a:r>
              <a:rPr b="1" lang="pt-BR" sz="2900" spc="-1" strike="noStrike">
                <a:solidFill>
                  <a:srgbClr val="464646"/>
                </a:solidFill>
                <a:latin typeface="Lucida Sans Unicode"/>
              </a:rPr>
              <a:t>?” </a:t>
            </a: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5229000"/>
            <a:ext cx="8001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A maior parte deles apontou o tema</a:t>
            </a:r>
            <a:r>
              <a:rPr b="0" lang="pt-BR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pt-BR" sz="3200" spc="-1" strike="noStrike">
                <a:solidFill>
                  <a:srgbClr val="3333ff"/>
                </a:solidFill>
                <a:latin typeface="Lucida Sans Unicode"/>
              </a:rPr>
              <a:t>valores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5975280" y="1779480"/>
            <a:ext cx="3168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FORNECIMEN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MEDICAMEN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1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362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80880"/>
            <a:ext cx="2666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O qu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ão valor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2666880"/>
            <a:ext cx="752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 Formas d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erce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mundo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g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artir dis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23640" y="304560"/>
            <a:ext cx="866772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Lucida Sans Unicode"/>
              </a:rPr>
              <a:t>Percepção</a:t>
            </a: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Através dos cinco </a:t>
            </a:r>
            <a:r>
              <a:rPr b="1" lang="pt-BR" sz="2300" spc="-1" strike="noStrike">
                <a:solidFill>
                  <a:srgbClr val="ff3300"/>
                </a:solidFill>
                <a:latin typeface="Lucida Sans Unicode"/>
              </a:rPr>
              <a:t>sentidos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* Visão       * Audição       * Olfato         * Tato         * Palad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2205000"/>
            <a:ext cx="8182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Gosto   -    Não go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“Ser”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ca condicionado ao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ro  -    Não que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- sent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4114800"/>
            <a:ext cx="5486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usca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   Pode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sto/qu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fastar        - Não gosto/ Não qu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5715000" y="50198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Tenh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- Não ten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Lucida Sans Unicode"/>
              </a:rPr>
              <a:t>Visão Cartesiana</a:t>
            </a: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Dissocia/Separ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* Espírito - Ciência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*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Mente</a:t>
            </a:r>
            <a:r>
              <a:rPr b="1" lang="pt-BR" sz="2000" spc="-1" strike="noStrike">
                <a:solidFill>
                  <a:srgbClr val="000000"/>
                </a:solidFill>
                <a:latin typeface="Lucida Sans Unicode"/>
              </a:rPr>
              <a:t>   - 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Corpo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*Sujeito -  Obje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1" lang="pt-BR" sz="23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1" lang="pt-BR" sz="2300" spc="-1" strike="noStrike">
                <a:solidFill>
                  <a:srgbClr val="ff3300"/>
                </a:solidFill>
                <a:latin typeface="Lucida Sans Unicode"/>
              </a:rPr>
              <a:t>Meu - Te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719880" y="2862360"/>
            <a:ext cx="484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= Ciclo dos </a:t>
            </a: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Extrem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timiza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un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4735440"/>
            <a:ext cx="875808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Individualism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icionamen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dig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Ofuscam a percepção de conju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333ff"/>
                </a:solidFill>
                <a:latin typeface="Lucida Sans Unicode"/>
              </a:rPr>
              <a:t>Desenvolver</a:t>
            </a:r>
            <a:r>
              <a:rPr b="1" lang="pt-BR" sz="3300" spc="-1" strike="noStrike">
                <a:solidFill>
                  <a:srgbClr val="464646"/>
                </a:solidFill>
                <a:latin typeface="Lucida Sans Unicode"/>
              </a:rPr>
              <a:t> o Pensamento </a:t>
            </a:r>
            <a:r>
              <a:rPr b="1" lang="pt-BR" sz="3300" spc="-1" strike="noStrike">
                <a:solidFill>
                  <a:srgbClr val="3333ff"/>
                </a:solidFill>
                <a:latin typeface="Lucida Sans Unicode"/>
              </a:rPr>
              <a:t>Sistêmico</a:t>
            </a:r>
            <a:br>
              <a:rPr sz="2500"/>
            </a:br>
            <a:br>
              <a:rPr sz="3300"/>
            </a:br>
            <a:r>
              <a:rPr b="1" lang="pt-BR" sz="2500" spc="-1" strike="noStrike">
                <a:solidFill>
                  <a:srgbClr val="3333ff"/>
                </a:solidFill>
                <a:latin typeface="Lucida Sans Unicode"/>
              </a:rPr>
              <a:t>Perceber</a:t>
            </a:r>
            <a:r>
              <a:rPr b="1" lang="pt-BR" sz="2500" spc="-1" strike="noStrike">
                <a:solidFill>
                  <a:srgbClr val="464646"/>
                </a:solidFill>
                <a:latin typeface="Lucida Sans Unicode"/>
              </a:rPr>
              <a:t> o sistema como um todo</a:t>
            </a:r>
            <a:br>
              <a:rPr sz="2500"/>
            </a:br>
            <a:r>
              <a:rPr b="1" lang="pt-BR" sz="2500" spc="-1" strike="noStrike">
                <a:solidFill>
                  <a:srgbClr val="464646"/>
                </a:solidFill>
                <a:latin typeface="Lucida Sans Unicode"/>
              </a:rPr>
              <a:t> as </a:t>
            </a:r>
            <a:r>
              <a:rPr b="1" lang="pt-BR" sz="2500" spc="-1" strike="noStrike">
                <a:solidFill>
                  <a:srgbClr val="3333ff"/>
                </a:solidFill>
                <a:latin typeface="Lucida Sans Unicode"/>
              </a:rPr>
              <a:t>relações</a:t>
            </a:r>
            <a:r>
              <a:rPr b="1" lang="pt-BR" sz="2500" spc="-1" strike="noStrike">
                <a:solidFill>
                  <a:srgbClr val="464646"/>
                </a:solidFill>
                <a:latin typeface="Lucida Sans Unicode"/>
              </a:rPr>
              <a:t> /// as interconexões</a:t>
            </a:r>
            <a:endParaRPr b="1" lang="en-US" sz="2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80880" y="29718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Lucida Sans Unicode"/>
              </a:rPr>
              <a:t>Para alterar o foco cartesiano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Lucida Sans Unicode"/>
              </a:rPr>
              <a:t>Para romper condicionament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O que deve ser feit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51814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 - condicion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pt-BR" sz="3200" spc="-1" strike="noStrike">
                <a:solidFill>
                  <a:srgbClr val="3333ff"/>
                </a:solidFill>
                <a:latin typeface="Times New Roman"/>
              </a:rPr>
              <a:t>Des - envolve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5975280" y="1779480"/>
            <a:ext cx="31687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Verdana"/>
              </a:rPr>
              <a:t>FAMÍLIA</a:t>
            </a:r>
            <a:r>
              <a:rPr b="1" lang="pt-BR" sz="18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 Foco(s) Priorit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ário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x. Crack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Educação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Água;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503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80880"/>
            <a:ext cx="266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222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33520" y="5486400"/>
            <a:ext cx="8229240" cy="1142280"/>
            <a:chOff x="533520" y="5486400"/>
            <a:chExt cx="8229240" cy="1142280"/>
          </a:xfrm>
        </p:grpSpPr>
        <p:sp>
          <p:nvSpPr>
            <p:cNvPr id="509" name=""/>
            <p:cNvSpPr/>
            <p:nvPr/>
          </p:nvSpPr>
          <p:spPr>
            <a:xfrm>
              <a:off x="6674760" y="5486400"/>
              <a:ext cx="208764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pt-BR" sz="2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Paz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a e extern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23680" y="5486400"/>
              <a:ext cx="405108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Efetividade dos </a:t>
              </a:r>
              <a:r>
                <a:rPr b="1" lang="pt-BR" sz="2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Direitos Humanos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 do Sistema como um </a:t>
              </a:r>
              <a:r>
                <a:rPr b="1" lang="pt-BR" sz="1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todo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implementação da </a:t>
              </a:r>
              <a:r>
                <a:rPr b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genda </a:t>
              </a:r>
              <a:r>
                <a:rPr b="1" i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Habitat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520" y="5486400"/>
              <a:ext cx="209016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ão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+2+3+4 = </a:t>
              </a: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DH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            </a:t>
              </a:r>
              <a:r>
                <a:rPr b="1" lang="pt-BR" sz="2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Valores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520" y="548640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520" y="662868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52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62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2368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74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518" name=""/>
          <p:cNvGraphicFramePr/>
          <p:nvPr/>
        </p:nvGraphicFramePr>
        <p:xfrm>
          <a:off x="228600" y="228600"/>
          <a:ext cx="87631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839080" y="-5477760"/>
            <a:ext cx="7632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Harlow Solid Italic"/>
              </a:rPr>
              <a:t>No mesmo sentido, o parágrafo primeiro da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Agenda </a:t>
            </a:r>
            <a:r>
              <a:rPr b="1" i="1" lang="pt-BR" sz="2800" spc="-1" strike="noStrike" u="sng">
                <a:solidFill>
                  <a:srgbClr val="0066ff"/>
                </a:solidFill>
                <a:uFillTx/>
                <a:latin typeface="Harlow Solid Italic"/>
              </a:rPr>
              <a:t>Habitat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Harlow Solid Italic"/>
              </a:rPr>
              <a:t>para os Município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“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...Há um senso de grande oportunidade e esperança de que pode ser construído um novo mundo, no qual o  desenvolviment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econômic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soci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a proteçã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ambiental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, com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Courier New"/>
              </a:rPr>
              <a:t>compon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o desenvolvimento sustentável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interdependentes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e que se reforçam mutuamente, podem ser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Courier New"/>
              </a:rPr>
              <a:t>realizados por meio da solidariedade e cooperação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 dentro e entre países através de parcerias eficazes em todos os níveis.”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(Fonte: Agenda </a:t>
            </a:r>
            <a:r>
              <a:rPr b="1" i="1" lang="en-US" sz="1200" spc="-1" strike="noStrike">
                <a:solidFill>
                  <a:srgbClr val="000000"/>
                </a:solidFill>
                <a:latin typeface="Harlow Solid Italic"/>
              </a:rPr>
              <a:t>Habitat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 para Municípios/Marlene Fernandes.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Harlow Solid Italic"/>
              </a:rPr>
              <a:t>Rio de Janeiro: IBAM, 2003)</a:t>
            </a:r>
            <a:r>
              <a:rPr b="1" lang="pt-BR" sz="2800" spc="-1" strike="noStrike">
                <a:solidFill>
                  <a:srgbClr val="0066ff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5975280" y="1779480"/>
            <a:ext cx="3168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FORNECIMEN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MEDICAMEN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da1f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def5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7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538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80880"/>
            <a:ext cx="26668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Lucida Sans Unicode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Lucida Sans Unicode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4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-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Instituições Participante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stério Público Estadual (promotoria com atribuições na saúde e na infância e juventu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retaria Municipal da Saúde (Secretária, Farmacêutica e corpo técnico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ensoria Pública do Estado (defensor com atribuição na infância e juventude, ajuizamento e matéria cív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stério Público Federal (procurador com atribuição na saú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464646"/>
                </a:solidFill>
                <a:latin typeface="Lucida Sans Unicode"/>
              </a:rPr>
              <a:t>Você vai encontrar a versão estendida nos próximos slides</a:t>
            </a:r>
            <a:endParaRPr b="1" lang="en-US" sz="33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profundando a reflexão …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S: Os próximos gráficos mostrarão a conexão entre a metodologia  de Planejamento e de Gestão Sistêmicos e o Mapa Estratégico do Ministério Público, usando a Metodologia Balanced Scorecard – BSC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79"/>
          <p:cNvSpPr/>
          <p:nvPr/>
        </p:nvSpPr>
        <p:spPr>
          <a:xfrm>
            <a:off x="4786200" y="5183280"/>
            <a:ext cx="2571840" cy="155880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AutoShape 78"/>
          <p:cNvSpPr/>
          <p:nvPr/>
        </p:nvSpPr>
        <p:spPr>
          <a:xfrm>
            <a:off x="385920" y="5191200"/>
            <a:ext cx="1927080" cy="156348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1914480" y="2357280"/>
            <a:ext cx="1382760" cy="2500560"/>
          </a:xfrm>
          <a:custGeom>
            <a:avLst/>
            <a:gdLst>
              <a:gd name="textAreaLeft" fmla="*/ 39600 w 1382760"/>
              <a:gd name="textAreaRight" fmla="*/ 1343160 w 1382760"/>
              <a:gd name="textAreaTop" fmla="*/ 39600 h 2500560"/>
              <a:gd name="textAreaBottom" fmla="*/ 2460960 h 2500560"/>
            </a:gdLst>
            <a:ahLst/>
            <a:rect l="textAreaLeft" t="textAreaTop" r="textAreaRight" b="textAreaBottom"/>
            <a:pathLst>
              <a:path w="21600" h="39057">
                <a:moveTo>
                  <a:pt x="2117" y="0"/>
                </a:moveTo>
                <a:arcTo wR="2117" hR="2117" stAng="16200000" swAng="-5400000"/>
                <a:lnTo>
                  <a:pt x="0" y="36940"/>
                </a:lnTo>
                <a:arcTo wR="2117" hR="2117" stAng="10800000" swAng="-5400000"/>
                <a:lnTo>
                  <a:pt x="19483" y="39057"/>
                </a:lnTo>
                <a:arcTo wR="2117" hR="2117" stAng="5400000" swAng="-5400000"/>
                <a:lnTo>
                  <a:pt x="21600" y="2117"/>
                </a:lnTo>
                <a:arcTo wR="2117" hR="2117" stAng="0" swAng="-5400000"/>
                <a:close/>
              </a:path>
            </a:pathLst>
          </a:cu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2428920" y="5183280"/>
            <a:ext cx="2214360" cy="155880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393840" y="2357280"/>
            <a:ext cx="1452600" cy="2500560"/>
          </a:xfrm>
          <a:custGeom>
            <a:avLst/>
            <a:gdLst>
              <a:gd name="textAreaLeft" fmla="*/ 41400 w 1452600"/>
              <a:gd name="textAreaRight" fmla="*/ 1411200 w 1452600"/>
              <a:gd name="textAreaTop" fmla="*/ 41400 h 2500560"/>
              <a:gd name="textAreaBottom" fmla="*/ 2459160 h 2500560"/>
            </a:gdLst>
            <a:ahLst/>
            <a:rect l="textAreaLeft" t="textAreaTop" r="textAreaRight" b="textAreaBottom"/>
            <a:pathLst>
              <a:path w="21600" h="37179">
                <a:moveTo>
                  <a:pt x="2117" y="0"/>
                </a:moveTo>
                <a:arcTo wR="2117" hR="2117" stAng="16200000" swAng="-5400000"/>
                <a:lnTo>
                  <a:pt x="0" y="35062"/>
                </a:lnTo>
                <a:arcTo wR="2117" hR="2117" stAng="10800000" swAng="-5400000"/>
                <a:lnTo>
                  <a:pt x="19483" y="37179"/>
                </a:lnTo>
                <a:arcTo wR="2117" hR="2117" stAng="5400000" swAng="-5400000"/>
                <a:lnTo>
                  <a:pt x="21600" y="2117"/>
                </a:lnTo>
                <a:arcTo wR="2117" hR="2117" stAng="0" swAng="-5400000"/>
                <a:close/>
              </a:path>
            </a:pathLst>
          </a:cu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3357720" y="2357280"/>
            <a:ext cx="5672160" cy="2500560"/>
          </a:xfrm>
          <a:prstGeom prst="roundRect">
            <a:avLst>
              <a:gd name="adj" fmla="val 5722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AutoShape 11"/>
          <p:cNvSpPr/>
          <p:nvPr/>
        </p:nvSpPr>
        <p:spPr>
          <a:xfrm>
            <a:off x="582480" y="5013360"/>
            <a:ext cx="917640" cy="287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Desenvolviment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de Pessoa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2643120" y="5013360"/>
            <a:ext cx="762120" cy="287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mbient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Organizaciona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Line 16"/>
          <p:cNvSpPr/>
          <p:nvPr/>
        </p:nvSpPr>
        <p:spPr>
          <a:xfrm>
            <a:off x="0" y="121428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AutoShape 17">
            <a:hlinkClick r:id="rId1" action="ppaction://hlinksldjump"/>
          </p:cNvPr>
          <p:cNvSpPr/>
          <p:nvPr/>
        </p:nvSpPr>
        <p:spPr>
          <a:xfrm>
            <a:off x="3043080" y="1355760"/>
            <a:ext cx="3324240" cy="4334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Ser reconhecido como instituição efetiva na  transformação da realidade social e protetora dos direitos fundamentai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AutoShape 18">
            <a:hlinkClick r:id="rId2" action="ppaction://hlinksldjump"/>
          </p:cNvPr>
          <p:cNvSpPr/>
          <p:nvPr/>
        </p:nvSpPr>
        <p:spPr>
          <a:xfrm>
            <a:off x="571680" y="5432400"/>
            <a:ext cx="1143000" cy="5889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Desenvolver e gerir competênci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AutoShape 19">
            <a:hlinkClick r:id="rId3" action="ppaction://hlinksldjump"/>
          </p:cNvPr>
          <p:cNvSpPr/>
          <p:nvPr/>
        </p:nvSpPr>
        <p:spPr>
          <a:xfrm>
            <a:off x="2500200" y="5445000"/>
            <a:ext cx="1000080" cy="5763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lhorar a satisfação das pessoas no trabalh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AutoShape 22">
            <a:hlinkClick r:id="rId4" action="ppaction://hlinksldjump"/>
          </p:cNvPr>
          <p:cNvSpPr/>
          <p:nvPr/>
        </p:nvSpPr>
        <p:spPr>
          <a:xfrm>
            <a:off x="4832280" y="5410080"/>
            <a:ext cx="1168560" cy="5907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lhorar a estrutura orgânica e a gestão administrativ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AutoShape 23">
            <a:hlinkClick r:id="rId5" action="ppaction://hlinksldjump"/>
          </p:cNvPr>
          <p:cNvSpPr/>
          <p:nvPr/>
        </p:nvSpPr>
        <p:spPr>
          <a:xfrm>
            <a:off x="6072120" y="5423040"/>
            <a:ext cx="1219320" cy="5889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Produzir e disponibilizar informações para a tomada de decisõe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AutoShape 27">
            <a:hlinkClick r:id="rId6" action="ppaction://hlinksldjump"/>
          </p:cNvPr>
          <p:cNvSpPr/>
          <p:nvPr/>
        </p:nvSpPr>
        <p:spPr>
          <a:xfrm>
            <a:off x="7808760" y="6012000"/>
            <a:ext cx="1192320" cy="642960"/>
          </a:xfrm>
          <a:prstGeom prst="roundRect">
            <a:avLst>
              <a:gd name="adj" fmla="val 16667"/>
            </a:avLst>
          </a:prstGeom>
          <a:solidFill>
            <a:srgbClr val="f2ef64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ssegurar os recursos orçamentários necessários e qualificar sua gestã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3429000" y="5013360"/>
            <a:ext cx="763560" cy="1443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Line 32"/>
          <p:cNvSpPr/>
          <p:nvPr/>
        </p:nvSpPr>
        <p:spPr>
          <a:xfrm>
            <a:off x="0" y="50007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AutoShape 33">
            <a:hlinkClick r:id="rId7" action="ppaction://hlinksldjump"/>
          </p:cNvPr>
          <p:cNvSpPr/>
          <p:nvPr/>
        </p:nvSpPr>
        <p:spPr>
          <a:xfrm>
            <a:off x="7816680" y="5357880"/>
            <a:ext cx="1184400" cy="588960"/>
          </a:xfrm>
          <a:prstGeom prst="roundRect">
            <a:avLst>
              <a:gd name="adj" fmla="val 16667"/>
            </a:avLst>
          </a:prstGeom>
          <a:solidFill>
            <a:srgbClr val="f2ef64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aptar recursos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extraorçamentári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AutoShape 55">
            <a:hlinkClick r:id="rId8" action="ppaction://hlinksldjump"/>
          </p:cNvPr>
          <p:cNvSpPr/>
          <p:nvPr/>
        </p:nvSpPr>
        <p:spPr>
          <a:xfrm>
            <a:off x="1928880" y="576360"/>
            <a:ext cx="121428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Saúde integral 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lhor qualidad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de vid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AutoShape 56">
            <a:hlinkClick r:id="rId9" action="ppaction://hlinksldjump"/>
          </p:cNvPr>
          <p:cNvSpPr/>
          <p:nvPr/>
        </p:nvSpPr>
        <p:spPr>
          <a:xfrm>
            <a:off x="3357720" y="576360"/>
            <a:ext cx="119052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riminalidade 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orrupção reduzid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AutoShape 57">
            <a:hlinkClick r:id="rId10" action="ppaction://hlinksldjump"/>
          </p:cNvPr>
          <p:cNvSpPr/>
          <p:nvPr/>
        </p:nvSpPr>
        <p:spPr>
          <a:xfrm>
            <a:off x="6303960" y="563400"/>
            <a:ext cx="1197000" cy="57960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Meio ambiente preservad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AutoShape 59">
            <a:hlinkClick r:id="rId11" action="ppaction://hlinksldjump"/>
          </p:cNvPr>
          <p:cNvSpPr/>
          <p:nvPr/>
        </p:nvSpPr>
        <p:spPr>
          <a:xfrm>
            <a:off x="4786200" y="57168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riança,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dolescente e idoso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protegid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AutoShape 60">
            <a:hlinkClick r:id="rId12" action="ppaction://hlinksldjump"/>
          </p:cNvPr>
          <p:cNvSpPr/>
          <p:nvPr/>
        </p:nvSpPr>
        <p:spPr>
          <a:xfrm>
            <a:off x="500040" y="576360"/>
            <a:ext cx="121464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Educação d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qualidad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AutoShape 61"/>
          <p:cNvSpPr/>
          <p:nvPr/>
        </p:nvSpPr>
        <p:spPr>
          <a:xfrm rot="16200000">
            <a:off x="-284760" y="589320"/>
            <a:ext cx="863640" cy="154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Impacto Socia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AutoShape 62"/>
          <p:cNvSpPr/>
          <p:nvPr/>
        </p:nvSpPr>
        <p:spPr>
          <a:xfrm rot="16200000">
            <a:off x="-174240" y="1585440"/>
            <a:ext cx="647640" cy="250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Sociedad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AutoShape 63"/>
          <p:cNvSpPr/>
          <p:nvPr/>
        </p:nvSpPr>
        <p:spPr>
          <a:xfrm rot="16200000">
            <a:off x="-163080" y="3341160"/>
            <a:ext cx="647640" cy="250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Processo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AutoShape 64"/>
          <p:cNvSpPr/>
          <p:nvPr/>
        </p:nvSpPr>
        <p:spPr>
          <a:xfrm rot="16200000">
            <a:off x="-789480" y="5791680"/>
            <a:ext cx="1879560" cy="252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Pessoas e Tecnologi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AutoShape 65"/>
          <p:cNvSpPr/>
          <p:nvPr/>
        </p:nvSpPr>
        <p:spPr>
          <a:xfrm>
            <a:off x="3959280" y="1214280"/>
            <a:ext cx="1477800" cy="1303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66"/>
          <p:cNvSpPr/>
          <p:nvPr/>
        </p:nvSpPr>
        <p:spPr>
          <a:xfrm rot="16200000">
            <a:off x="7254720" y="5722560"/>
            <a:ext cx="647640" cy="218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Recurso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74" name="AutoShape 68"/>
          <p:cNvCxnSpPr>
            <a:endCxn id="575" idx="1"/>
          </p:cNvCxnSpPr>
          <p:nvPr/>
        </p:nvCxnSpPr>
        <p:spPr>
          <a:xfrm flipH="1" flipV="1" rot="5400000">
            <a:off x="1868040" y="1182240"/>
            <a:ext cx="319680" cy="201528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576" name="Line 69"/>
          <p:cNvSpPr/>
          <p:nvPr/>
        </p:nvSpPr>
        <p:spPr>
          <a:xfrm>
            <a:off x="0" y="2268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77" name="AutoShape 71"/>
          <p:cNvCxnSpPr>
            <a:endCxn id="575" idx="3"/>
          </p:cNvCxnSpPr>
          <p:nvPr/>
        </p:nvCxnSpPr>
        <p:spPr>
          <a:xfrm flipV="1" rot="16200000">
            <a:off x="6270120" y="2126520"/>
            <a:ext cx="327600" cy="13428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578" name="AutoShape 83">
            <a:hlinkClick r:id="rId13" action="ppaction://hlinksldjump"/>
          </p:cNvPr>
          <p:cNvSpPr/>
          <p:nvPr/>
        </p:nvSpPr>
        <p:spPr>
          <a:xfrm>
            <a:off x="528480" y="3357720"/>
            <a:ext cx="1162080" cy="57600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Valorizar a atividade extrajudicial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AutoShape 85">
            <a:hlinkClick r:id="rId14" action="ppaction://hlinksldjump"/>
          </p:cNvPr>
          <p:cNvSpPr/>
          <p:nvPr/>
        </p:nvSpPr>
        <p:spPr>
          <a:xfrm>
            <a:off x="2000160" y="4214880"/>
            <a:ext cx="1143000" cy="5763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tuar em redes de cooperação com os setores público, privado e terceiro setor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87">
            <a:hlinkClick r:id="rId15" action="ppaction://hlinksldjump"/>
          </p:cNvPr>
          <p:cNvSpPr/>
          <p:nvPr/>
        </p:nvSpPr>
        <p:spPr>
          <a:xfrm>
            <a:off x="2000160" y="2500200"/>
            <a:ext cx="1174680" cy="5050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Intensificar a comunicação do MP com a sociedade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AutoShape 88">
            <a:hlinkClick r:id="rId16" action="ppaction://hlinksldjump"/>
          </p:cNvPr>
          <p:cNvSpPr/>
          <p:nvPr/>
        </p:nvSpPr>
        <p:spPr>
          <a:xfrm>
            <a:off x="2000160" y="3071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primorar o atendimento ao públic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AutoShape 89">
            <a:hlinkClick r:id="rId17" action="ppaction://hlinksldjump"/>
          </p:cNvPr>
          <p:cNvSpPr/>
          <p:nvPr/>
        </p:nvSpPr>
        <p:spPr>
          <a:xfrm>
            <a:off x="4857840" y="2500200"/>
            <a:ext cx="1285920" cy="5716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Proteger o Sistema Único de Saúde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AutoShape 91">
            <a:hlinkClick r:id="rId18" action="ppaction://hlinksldjump"/>
          </p:cNvPr>
          <p:cNvSpPr/>
          <p:nvPr/>
        </p:nvSpPr>
        <p:spPr>
          <a:xfrm>
            <a:off x="3452760" y="3143160"/>
            <a:ext cx="1262160" cy="7858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9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regular oferta de programas de proteção da criança, do adolescente e de suas famíli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AutoShape 92">
            <a:hlinkClick r:id="rId19" action="ppaction://hlinksldjump"/>
          </p:cNvPr>
          <p:cNvSpPr/>
          <p:nvPr/>
        </p:nvSpPr>
        <p:spPr>
          <a:xfrm>
            <a:off x="3452760" y="4000680"/>
            <a:ext cx="126216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regular oferta dos programas para a execução das medidas socioeducativ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AutoShape 93">
            <a:hlinkClick r:id="rId20" action="ppaction://hlinksldjump"/>
          </p:cNvPr>
          <p:cNvSpPr/>
          <p:nvPr/>
        </p:nvSpPr>
        <p:spPr>
          <a:xfrm>
            <a:off x="3452760" y="2500200"/>
            <a:ext cx="1262160" cy="5716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Estimular a garantia da qualidade no ensino fundamental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AutoShape 94">
            <a:hlinkClick r:id="rId21" action="ppaction://hlinksldjump"/>
          </p:cNvPr>
          <p:cNvSpPr/>
          <p:nvPr/>
        </p:nvSpPr>
        <p:spPr>
          <a:xfrm>
            <a:off x="6286680" y="2500200"/>
            <a:ext cx="1260360" cy="5493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Qualificar o enfrentamento do crime organizado e da criminalidade violent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AutoShape 95">
            <a:hlinkClick r:id="rId22" action="ppaction://hlinksldjump"/>
          </p:cNvPr>
          <p:cNvSpPr/>
          <p:nvPr/>
        </p:nvSpPr>
        <p:spPr>
          <a:xfrm>
            <a:off x="6286680" y="3214800"/>
            <a:ext cx="126180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9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Fiscalizar a execução da sanção criminal com vistas à redução da reincidênci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AutoShape 96">
            <a:hlinkClick r:id="rId23" action="ppaction://hlinksldjump"/>
          </p:cNvPr>
          <p:cNvSpPr/>
          <p:nvPr/>
        </p:nvSpPr>
        <p:spPr>
          <a:xfrm>
            <a:off x="7643880" y="4071960"/>
            <a:ext cx="1280880" cy="6429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regularidade do parcelamento do solo urbano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AutoShape 97">
            <a:hlinkClick r:id="rId24" action="ppaction://hlinksldjump"/>
          </p:cNvPr>
          <p:cNvSpPr/>
          <p:nvPr/>
        </p:nvSpPr>
        <p:spPr>
          <a:xfrm>
            <a:off x="7643880" y="3214800"/>
            <a:ext cx="126216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tuar na prevenção e repressão dos danos ao consumidor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AutoShape 72"/>
          <p:cNvSpPr/>
          <p:nvPr/>
        </p:nvSpPr>
        <p:spPr>
          <a:xfrm>
            <a:off x="3110040" y="1941480"/>
            <a:ext cx="506160" cy="17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Parceira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cessíve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91" name="AutoShape 101"/>
          <p:cNvCxnSpPr>
            <a:stCxn id="592" idx="0"/>
            <a:endCxn id="575" idx="1"/>
          </p:cNvCxnSpPr>
          <p:nvPr/>
        </p:nvCxnSpPr>
        <p:spPr>
          <a:xfrm flipH="1" flipV="1" rot="5400000">
            <a:off x="2702880" y="1875240"/>
            <a:ext cx="185040" cy="49428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593" name="Line 111"/>
          <p:cNvSpPr/>
          <p:nvPr/>
        </p:nvSpPr>
        <p:spPr>
          <a:xfrm>
            <a:off x="7672320" y="5013360"/>
            <a:ext cx="0" cy="17319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AutoShape 113"/>
          <p:cNvSpPr/>
          <p:nvPr/>
        </p:nvSpPr>
        <p:spPr>
          <a:xfrm>
            <a:off x="1452600" y="5024520"/>
            <a:ext cx="762120" cy="1443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AutoShape 114"/>
          <p:cNvSpPr/>
          <p:nvPr/>
        </p:nvSpPr>
        <p:spPr>
          <a:xfrm>
            <a:off x="6299280" y="5013360"/>
            <a:ext cx="763560" cy="1443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AutoShape 115"/>
          <p:cNvSpPr/>
          <p:nvPr/>
        </p:nvSpPr>
        <p:spPr>
          <a:xfrm rot="16200000">
            <a:off x="7023600" y="5877360"/>
            <a:ext cx="827280" cy="13356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Line 116"/>
          <p:cNvSpPr/>
          <p:nvPr/>
        </p:nvSpPr>
        <p:spPr>
          <a:xfrm>
            <a:off x="252360" y="5005440"/>
            <a:ext cx="0" cy="1731960"/>
          </a:xfrm>
          <a:prstGeom prst="line">
            <a:avLst/>
          </a:prstGeom>
          <a:ln w="50760">
            <a:solidFill>
              <a:srgbClr val="fff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AutoShape 117">
            <a:hlinkClick r:id="rId25" action="ppaction://hlinksldjump"/>
          </p:cNvPr>
          <p:cNvSpPr/>
          <p:nvPr/>
        </p:nvSpPr>
        <p:spPr>
          <a:xfrm>
            <a:off x="517680" y="2556000"/>
            <a:ext cx="1172880" cy="57600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Racionalizar a atuação como </a:t>
            </a:r>
            <a:r>
              <a:rPr b="0" i="1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custos legi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Line 118"/>
          <p:cNvSpPr/>
          <p:nvPr/>
        </p:nvSpPr>
        <p:spPr>
          <a:xfrm>
            <a:off x="252360" y="2324160"/>
            <a:ext cx="0" cy="2592360"/>
          </a:xfrm>
          <a:prstGeom prst="line">
            <a:avLst/>
          </a:prstGeom>
          <a:ln w="50760">
            <a:solidFill>
              <a:srgbClr val="f9b6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AutoShape 120"/>
          <p:cNvSpPr/>
          <p:nvPr/>
        </p:nvSpPr>
        <p:spPr>
          <a:xfrm>
            <a:off x="1979640" y="2214720"/>
            <a:ext cx="1139760" cy="214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proximação com a sociedade e Parceria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AutoShape 122"/>
          <p:cNvSpPr/>
          <p:nvPr/>
        </p:nvSpPr>
        <p:spPr>
          <a:xfrm>
            <a:off x="3043080" y="1849320"/>
            <a:ext cx="3324240" cy="360360"/>
          </a:xfrm>
          <a:prstGeom prst="roundRect">
            <a:avLst>
              <a:gd name="adj" fmla="val 9801"/>
            </a:avLst>
          </a:prstGeom>
          <a:noFill/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AutoShape 123"/>
          <p:cNvSpPr/>
          <p:nvPr/>
        </p:nvSpPr>
        <p:spPr>
          <a:xfrm>
            <a:off x="3844800" y="1920960"/>
            <a:ext cx="79704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Independente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Étic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AutoShape 124"/>
          <p:cNvSpPr/>
          <p:nvPr/>
        </p:nvSpPr>
        <p:spPr>
          <a:xfrm>
            <a:off x="4836960" y="1920960"/>
            <a:ext cx="79884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Responsável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Atuant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AutoShape 125"/>
          <p:cNvSpPr/>
          <p:nvPr/>
        </p:nvSpPr>
        <p:spPr>
          <a:xfrm>
            <a:off x="5737320" y="1959120"/>
            <a:ext cx="596880" cy="1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Efe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Line 128"/>
          <p:cNvSpPr/>
          <p:nvPr/>
        </p:nvSpPr>
        <p:spPr>
          <a:xfrm>
            <a:off x="252360" y="1197000"/>
            <a:ext cx="0" cy="1011240"/>
          </a:xfrm>
          <a:prstGeom prst="line">
            <a:avLst/>
          </a:prstGeom>
          <a:ln w="507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Line 129"/>
          <p:cNvSpPr/>
          <p:nvPr/>
        </p:nvSpPr>
        <p:spPr>
          <a:xfrm>
            <a:off x="252360" y="260280"/>
            <a:ext cx="0" cy="865080"/>
          </a:xfrm>
          <a:prstGeom prst="line">
            <a:avLst/>
          </a:prstGeom>
          <a:ln w="507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AutoShape 14"/>
          <p:cNvSpPr/>
          <p:nvPr/>
        </p:nvSpPr>
        <p:spPr>
          <a:xfrm>
            <a:off x="450720" y="2355840"/>
            <a:ext cx="1140120" cy="144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Eficiência Operacional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AutoShape 15"/>
          <p:cNvSpPr/>
          <p:nvPr/>
        </p:nvSpPr>
        <p:spPr>
          <a:xfrm>
            <a:off x="4970520" y="2286000"/>
            <a:ext cx="863640" cy="133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Foco de atuaçã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AutoShape 58">
            <a:hlinkClick r:id="rId26" action="ppaction://hlinksldjump"/>
          </p:cNvPr>
          <p:cNvSpPr/>
          <p:nvPr/>
        </p:nvSpPr>
        <p:spPr>
          <a:xfrm>
            <a:off x="7715160" y="576360"/>
            <a:ext cx="1143000" cy="566640"/>
          </a:xfrm>
          <a:prstGeom prst="roundRect">
            <a:avLst>
              <a:gd name="adj" fmla="val 16667"/>
            </a:avLst>
          </a:prstGeom>
          <a:solidFill>
            <a:srgbClr val="c9e88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Democracia e ordem jurídica garantida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AutoShape 89">
            <a:hlinkClick r:id="rId27" action="ppaction://hlinksldjump"/>
          </p:cNvPr>
          <p:cNvSpPr/>
          <p:nvPr/>
        </p:nvSpPr>
        <p:spPr>
          <a:xfrm>
            <a:off x="4857840" y="4071960"/>
            <a:ext cx="1261800" cy="6429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Fortalecer a rede de proteção da pessoa idos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AutoShape 89">
            <a:hlinkClick r:id="rId28" action="ppaction://hlinksldjump"/>
          </p:cNvPr>
          <p:cNvSpPr/>
          <p:nvPr/>
        </p:nvSpPr>
        <p:spPr>
          <a:xfrm>
            <a:off x="6286680" y="4071960"/>
            <a:ext cx="1261800" cy="6429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Qualificar o combate à corrupção e à improbidade administrativ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AutoShape 19">
            <a:hlinkClick r:id="rId29" action="ppaction://hlinksldjump"/>
          </p:cNvPr>
          <p:cNvSpPr/>
          <p:nvPr/>
        </p:nvSpPr>
        <p:spPr>
          <a:xfrm>
            <a:off x="3571920" y="5448240"/>
            <a:ext cx="1000080" cy="576360"/>
          </a:xfrm>
          <a:prstGeom prst="roundRect">
            <a:avLst>
              <a:gd name="adj" fmla="val 16667"/>
            </a:avLst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perfeiçoar a comunicação intern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AutoShape 88">
            <a:hlinkClick r:id="rId30" action="ppaction://hlinksldjump"/>
          </p:cNvPr>
          <p:cNvSpPr/>
          <p:nvPr/>
        </p:nvSpPr>
        <p:spPr>
          <a:xfrm>
            <a:off x="2014560" y="3571920"/>
            <a:ext cx="1128600" cy="57636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Apoiar alternativas comunitárias de resolução de conflit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AutoShape 89">
            <a:hlinkClick r:id="rId31" action="ppaction://hlinksldjump"/>
          </p:cNvPr>
          <p:cNvSpPr/>
          <p:nvPr/>
        </p:nvSpPr>
        <p:spPr>
          <a:xfrm>
            <a:off x="7643880" y="2500200"/>
            <a:ext cx="1262160" cy="57168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Garantir a proteção dos recursos hídrico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 Box 127"/>
          <p:cNvSpPr/>
          <p:nvPr/>
        </p:nvSpPr>
        <p:spPr>
          <a:xfrm>
            <a:off x="1785960" y="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rebuchet MS"/>
                <a:ea typeface="Arial"/>
              </a:rPr>
              <a:t>Mapa Estratégico do Ministério Público 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4857840" y="5000760"/>
            <a:ext cx="1071360" cy="287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Gestão Administra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  </a:t>
            </a:r>
            <a:r>
              <a:rPr b="1" lang="pt-BR" sz="800" spc="-1" strike="noStrike">
                <a:solidFill>
                  <a:srgbClr val="000000"/>
                </a:solidFill>
                <a:latin typeface="Trebuchet MS"/>
                <a:ea typeface="Arial"/>
              </a:rPr>
              <a:t>e Tecnologi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AutoShape 83">
            <a:hlinkClick r:id="rId32" action="ppaction://hlinksldjump"/>
          </p:cNvPr>
          <p:cNvSpPr/>
          <p:nvPr/>
        </p:nvSpPr>
        <p:spPr>
          <a:xfrm>
            <a:off x="4857840" y="32148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f9b67f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rebuchet MS"/>
                <a:ea typeface="Arial"/>
              </a:rPr>
              <a:t>Zelar pela inclusão social das comunidades negras e indígenas e das pessoas com deficiência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A GESTÃO DO MINISTÉRIO PÚBLICO NO PLANEJAMENTO E GESTÃO SISTÊMICOS </a:t>
            </a:r>
            <a:r>
              <a:rPr b="0" lang="en-US" sz="2500" spc="-1" strike="noStrike" u="sng">
                <a:solidFill>
                  <a:srgbClr val="464646"/>
                </a:solidFill>
                <a:uFillTx/>
                <a:latin typeface="Lucida Sans Unicode"/>
              </a:rPr>
              <a:t>INTERCONEXÕES</a:t>
            </a:r>
            <a:br>
              <a:rPr sz="2500"/>
            </a:br>
            <a:endParaRPr b="1" lang="en-US" sz="2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ociedad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BSC – Primeiro Processo = Tradução da Visão e da Estratégi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-  Primeira Perspectiva: Client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+ Segunda Perspectiva  = Acionist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295280" y="3581280"/>
          <a:ext cx="74534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7453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143000" y="1219320"/>
          <a:ext cx="800100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219320"/>
                    <a:ext cx="8001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PG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GEMP 202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BSC - Segunda Perspectiva  = Acionista/Financeira X Recurs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45600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762120" y="1600200"/>
          <a:ext cx="403848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Espaço Reservado para Título 8"/>
          <p:cNvGraphicFramePr/>
          <p:nvPr/>
        </p:nvGraphicFramePr>
        <p:xfrm>
          <a:off x="685800" y="736560"/>
          <a:ext cx="77724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Espaço Reservado para Título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36560"/>
                    <a:ext cx="77724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90720" y="5790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Sans Unicode"/>
              </a:rPr>
              <a:t>BSC - Terceira Perspectiva - Processo Organizacional Intern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800"/>
            <a:ext cx="823104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PG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GEM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Sans Unicode"/>
              </a:rPr>
              <a:t>BSC - Quarta perspectiva - Aprendizado e Crescimento/Inovaçã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066680" y="4038480"/>
          <a:ext cx="756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038480"/>
                    <a:ext cx="756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343080" y="914400"/>
          <a:ext cx="84596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914400"/>
                    <a:ext cx="8459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profundando um pouco mais a reflexão …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Lucida Sans Unicode"/>
              </a:rPr>
              <a:t>OBS: Os próximos gráficos explicitarão de uma forma mais detalhada a metodologia de Planejamento e de Gestão Sistêmicos através da Metodologia </a:t>
            </a:r>
            <a:r>
              <a:rPr b="0" i="1" lang="pt-BR" sz="1600" spc="-1" strike="noStrike">
                <a:solidFill>
                  <a:srgbClr val="000000"/>
                </a:solidFill>
                <a:latin typeface="Lucida Sans Unicode"/>
              </a:rPr>
              <a:t>Balanced Scorecard</a:t>
            </a:r>
            <a:r>
              <a:rPr b="0" lang="pt-BR" sz="1600" spc="-1" strike="noStrike">
                <a:solidFill>
                  <a:srgbClr val="000000"/>
                </a:solidFill>
                <a:latin typeface="Lucida Sans Unicode"/>
              </a:rPr>
              <a:t> – BSC (usando, de forma circular, um mapa estratégico)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Lucida Sans Unicode"/>
              </a:rPr>
              <a:t>Ademais, demonstrarão a sintonia do que foi antes articulado com os seguintes gráficos: ciclo dos extremos, ciclo do equilíbirio/harmonia e implicações biopsicossociais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60360" y="380520"/>
            <a:ext cx="8763120" cy="71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Lucida Sans Unicode"/>
              </a:rPr>
              <a:t>Instituições Participante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gistratura estadual (juiz com jurisdição na área cível e infânci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 do Est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 do Municíp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vocacia-geral da uniã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ia Regional de Saúde do Est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Municipal da Saú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lho Tutel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pe técnica dos abrig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Programa Rede Famíl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 do Comitê de Gestão Soci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44600" y="152280"/>
            <a:ext cx="847224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Gráfico Planejamento e Gestão Sistêmicos é fomentar a adoção de metodologia que possibilite serem alcançadas a efetividade, a sustentabilidade e a Paz, interna e externa. Levando em consideração que as causas do crescente desrespeito à natureza e à dignidade humana (própria e dos demais), são sistêmicas, ou seja, decorrem de relações interdependentes e interrelacionadas entre diversos componente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econiza-se a adoção da metodologia de Planejamento e de Gestão Sistêmicos,  que possibilit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a partir do(s) foco(s) prioritário(s) escolhido(s) (como, por exemplo, o planejamento familiar,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crac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gripe H1N1, um alagamento, a construção de uma estrad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etc.) e relevando o contexto familiar, a visão e a integração d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rsos multidisciplinares, intersetoriais e transdisciplinares. Assim, pode-se estabelecer o que fazer, como, quem, onde e quando/porque, bem como de que forma mapear e integralizar todos esses componente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Para isso, é importante que seja percebida a missão comum, a ser concretizada com o atendimento integral das necess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siológicas, psicológicas - segurança, pertencimento e autoestima - e de autorrealiz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(diferentemente de desejos), gerando impactos proporcionais nos três eixos da sustentabilidade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ômico, social – saúde, educação, cidadania e segurança – e ambiental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 e através da cooperação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se modo, são produzidos efeitos públicos, agregando valor sustentável às atividades desenvolvida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04920" y="228600"/>
            <a:ext cx="861192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 missão comum, vislumbrada como efeitos públicos, exige e favorece a formação de redes de cooperação para a atuação sistêmica, priorizando a família e permitindo a integração dos três setores (público, privado e sociedade civil organizada) e dos indivíduos da comunidade em geral. Esse contexto, favorece a democracia, participativa e representativa, propiciando o Desenvolvimento Harmônico e Sustentável (DHS) e a sobrevivência de todos os seres vivos. Contudo, para que isso possa ser consolidado, o planejamento e a gestão deverão produzir o pensamento sistêmico, contemplando o mapeamento das necessidades, possibilidades e atividades relacionadas ao(s) foco(s) prioritário(s), com o que se poderá atuar de forma sistêmica. Desse modo, possibilita-se a inclusão  das pessoas principalmente naquelas ações nas quais se sentem entusiasmadas, fazem a diferença (‘slice of heart’) na sociedade, sendo, por isso, lembradas, reconhecidas e valorizadas. Assim, os membros da sociedade constatarão que são úteis no contexto maior, o que aumenta a motivação na busca de aperfeiçoamento, gerando sustentabilidade no ambiente interno e externo. Isso propicia a conscientização da corresponsabilidade e a compreensão do binômio dever-direito, despertando a noção de contexto e afastando práticas imediatistas baseadas exclusivamente na punição ou vitimização. Desenvolve, dessa maneira, o perceber e agir (valores) de forma sistêm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28600" y="533520"/>
            <a:ext cx="8763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termos mais amplos, esse contexto permite o acesso a recursos aptos a implementar ações (voluntariado, CAIXA, BNDES - Redes Sociais, etc.), bem como garante o cumprimento de diversos Tratados, Convenções, Pactos e Planos de Ações das várias Conferências das Nações Unidas (Ag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Municípios, Convenção Sobre os Direitos da Criança, Plano de Ação da Conferência Mundial de População e Desenvolvimento, etc.). Ademais, como a metodologia de Planejamento e de Gestão Sistêmicos embasa-se em metodologias de gestão reconhecidas internacionalmente e utiliza ferramentas e sistemas de avaliação, pode-se elaborar indicadores de desenvolvimento sistêmico e, até mesmo,  um Índice de Desenvolvimento Harmônico e Sustentável (IDHS), transparentes e, portanto, confiáveis. Desse modo, diminui o risco dos investimentos efetivados, o que atrai novos recursos nacionais e internaciona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desenvolve-se um ciclo de efeitos públicos, ambiente no qual são alcançadas a efetividade e a sustentabilidade. Na verdade, a Paz, interna e extern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304920" y="304920"/>
          <a:ext cx="85341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Object 2"/>
          <p:cNvGraphicFramePr/>
          <p:nvPr/>
        </p:nvGraphicFramePr>
        <p:xfrm>
          <a:off x="295200" y="952560"/>
          <a:ext cx="8372520" cy="43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952560"/>
                    <a:ext cx="83725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Object 2"/>
          <p:cNvGraphicFramePr/>
          <p:nvPr/>
        </p:nvGraphicFramePr>
        <p:xfrm>
          <a:off x="152280" y="723960"/>
          <a:ext cx="89917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2396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380880" y="2362320"/>
          <a:ext cx="83836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836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457200" y="457200"/>
          <a:ext cx="7924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924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60360" y="228600"/>
            <a:ext cx="8763120" cy="73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Lucida Sans Unicode"/>
              </a:rPr>
              <a:t>Instituições Participante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ociação de caridade Santa Casa do Rio Grande (diretoria e profissionais médic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spital Universitário Miguel Riet Correa Júnior (diretoria e profissionais médic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EDISA (Assoc.dos Secretários e Dirigentes da Saúd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CON/UNAC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F (Estratégia de Saúde da Famíli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comunitários e Presidentes de Bairr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REM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Arial Narrow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indicato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d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DOS GRÁFICOS QUE SERÃO APRESENTAD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59" name="Espaço Reservado para Texto 29"/>
          <p:cNvGraphicFramePr/>
          <p:nvPr/>
        </p:nvGraphicFramePr>
        <p:xfrm>
          <a:off x="458640" y="1454040"/>
          <a:ext cx="8110800" cy="80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54040"/>
                    <a:ext cx="8110800" cy="80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DOS GRÁFICOS QUE SERÃO APRESENTAD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62" name="Espaço Reservado para Texto 29"/>
          <p:cNvGraphicFramePr/>
          <p:nvPr/>
        </p:nvGraphicFramePr>
        <p:xfrm>
          <a:off x="458640" y="1447920"/>
          <a:ext cx="8196480" cy="80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47920"/>
                    <a:ext cx="8196480" cy="80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DOS GRÁFICOS QUE SERÃO APRESENTAD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65" name="Espaço Reservado para Texto 29"/>
          <p:cNvGraphicFramePr/>
          <p:nvPr/>
        </p:nvGraphicFramePr>
        <p:xfrm>
          <a:off x="409680" y="1473120"/>
          <a:ext cx="8248680" cy="80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6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73120"/>
                    <a:ext cx="8248680" cy="80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64646"/>
                </a:solidFill>
                <a:latin typeface="Lucida Sans Unicode"/>
              </a:rPr>
              <a:t>RESUMO GERAL DOS GRÁFICOS</a:t>
            </a:r>
            <a:endParaRPr b="1" lang="en-US" sz="2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68" name="Espaço Reservado para Texto 29"/>
          <p:cNvGraphicFramePr/>
          <p:nvPr/>
        </p:nvGraphicFramePr>
        <p:xfrm>
          <a:off x="485640" y="1824120"/>
          <a:ext cx="8077320" cy="83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Espaço Reservado para Texto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824120"/>
                    <a:ext cx="8077320" cy="83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"/>
          <p:cNvGraphicFramePr/>
          <p:nvPr/>
        </p:nvGraphicFramePr>
        <p:xfrm>
          <a:off x="0" y="0"/>
          <a:ext cx="91314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1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228600"/>
          <a:ext cx="90043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00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0"/>
          <p:cNvGraphicFramePr/>
          <p:nvPr/>
        </p:nvGraphicFramePr>
        <p:xfrm>
          <a:off x="152280" y="152280"/>
          <a:ext cx="8991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Object 2"/>
          <p:cNvGraphicFramePr/>
          <p:nvPr/>
        </p:nvGraphicFramePr>
        <p:xfrm>
          <a:off x="228600" y="152280"/>
          <a:ext cx="87631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763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Object 2"/>
          <p:cNvGraphicFramePr/>
          <p:nvPr/>
        </p:nvGraphicFramePr>
        <p:xfrm>
          <a:off x="152280" y="257040"/>
          <a:ext cx="8667720" cy="646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7040"/>
                    <a:ext cx="8667720" cy="64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69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-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.2 Materiais sobre o tema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SMPU – Manuais de Atuação Medicamentos excepcion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ota técnica relativa a responsabilidade dos gestores do SUS em assistência farmacêutica do Ministério Público Feder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istema de referências e contra-referências do CENPR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rientação da AGU acerca do cumprimento de decisões judiciais em ações de medicamento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bsídios para auxiliar a União em ações judici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ota técnica n.º 746 do Ministério da Saúd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rtarias ministeri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sta Municipal de medicamentos básico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cordo interinstitucional de cooperação técnica para resolução administrativa de demanda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2" name="Object 2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"/>
          <p:cNvGraphicFramePr/>
          <p:nvPr/>
        </p:nvGraphicFramePr>
        <p:xfrm>
          <a:off x="1219320" y="380880"/>
          <a:ext cx="6476760" cy="617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647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Object 2"/>
          <p:cNvGraphicFramePr/>
          <p:nvPr/>
        </p:nvGraphicFramePr>
        <p:xfrm>
          <a:off x="839880" y="150840"/>
          <a:ext cx="755640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50840"/>
                    <a:ext cx="755640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374760"/>
            <a:ext cx="777240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 és o que és,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sentes o que sente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buscas o que busca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"/>
          <p:cNvSpPr/>
          <p:nvPr/>
        </p:nvSpPr>
        <p:spPr>
          <a:xfrm>
            <a:off x="152280" y="2438280"/>
            <a:ext cx="8153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l a contribuição da família no      traçado deste s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rigo Schoeller de Mora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moraes@mp.rs.gov.b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"/>
          <p:cNvGraphicFramePr/>
          <p:nvPr/>
        </p:nvGraphicFramePr>
        <p:xfrm>
          <a:off x="304920" y="514440"/>
          <a:ext cx="8524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4440"/>
                    <a:ext cx="8524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Object 0"/>
          <p:cNvGraphicFramePr/>
          <p:nvPr/>
        </p:nvGraphicFramePr>
        <p:xfrm>
          <a:off x="0" y="304920"/>
          <a:ext cx="8677440" cy="60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67744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Object 2"/>
          <p:cNvGraphicFramePr/>
          <p:nvPr/>
        </p:nvGraphicFramePr>
        <p:xfrm>
          <a:off x="0" y="668160"/>
          <a:ext cx="9144000" cy="552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9144000" cy="55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Object 2"/>
          <p:cNvGraphicFramePr/>
          <p:nvPr/>
        </p:nvGraphicFramePr>
        <p:xfrm>
          <a:off x="228600" y="685800"/>
          <a:ext cx="8572680" cy="50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726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Object 0"/>
          <p:cNvGraphicFramePr/>
          <p:nvPr/>
        </p:nvGraphicFramePr>
        <p:xfrm>
          <a:off x="0" y="609480"/>
          <a:ext cx="8915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Object 0"/>
          <p:cNvGraphicFramePr/>
          <p:nvPr/>
        </p:nvGraphicFramePr>
        <p:xfrm>
          <a:off x="152280" y="622440"/>
          <a:ext cx="8750520" cy="55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2440"/>
                    <a:ext cx="875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Saúde - Otimização da Rede de Fornecimento de Medicamentos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1 – CRITÉRIOS PARA O ATENDIMENTO INICIAL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1 formulário de justificativa médica para uso de medicamento não padronizado, tanto em âmbito administrativo como judicial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.2 negativa administrativa para o ingresso de demandas judiciais, exceto casos urgentes para os quais basta o protocolo administra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Object 0"/>
          <p:cNvGraphicFramePr/>
          <p:nvPr/>
        </p:nvGraphicFramePr>
        <p:xfrm>
          <a:off x="152280" y="495360"/>
          <a:ext cx="8686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95360"/>
                    <a:ext cx="8686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0"/>
          <p:cNvGraphicFramePr/>
          <p:nvPr/>
        </p:nvGraphicFramePr>
        <p:xfrm>
          <a:off x="152280" y="457200"/>
          <a:ext cx="876312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76312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152280" y="533520"/>
          <a:ext cx="86108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610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Lucida Sans Unicode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Lucida Sans Unicode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119"/>
                </a:solidFill>
                <a:latin typeface="Lucida Sans Unicode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elionara</dc:creator>
  <dc:description/>
  <dc:language>en-US</dc:language>
  <cp:lastModifiedBy>xpadmin</cp:lastModifiedBy>
  <dcterms:modified xsi:type="dcterms:W3CDTF">2010-10-27T15:00:41Z</dcterms:modified>
  <cp:revision>62</cp:revision>
  <dc:subject/>
  <dc:title>RELATÓRIO DE GESTÃO MUNICIPAL SecretariA  DE SAÚDE</dc:title>
</cp:coreProperties>
</file>