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1F3-413D-4464-A7C7-57875634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652-3D46-4A4B-B9B4-6ADBA577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CD5-AE5B-4149-924C-1AB7EBD3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B2B-802B-40F8-B32F-1DCF67F1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A4F-A44A-4A6B-B497-E2CE3AE9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CF8-B5C5-4F30-B1AE-B744C041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619-CA78-48DC-AE1D-0F9352C5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0B3-F1F6-4C63-B4A8-F713E440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BE4-8685-4F2D-B418-6FBCB6D8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8A3-EA26-46C2-9FA3-42AF61B3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A95-BE5B-4B98-8268-9982D18B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6EC-3AF4-42EC-9F56-3B78163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0484D4-3FEE-4454-91B7-3E3F5E8E21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E40A9-900D-49A7-85F2-52D6FBB5592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5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5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48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51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55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8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61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>
              <a:hlinkClick r:id="rId6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8" name="Picture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>
              <a:hlinkClick r:id="rId9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1" name="Picture 12" descr=""/>
            <p:cNvPicPr/>
            <p:nvPr/>
          </p:nvPicPr>
          <p:blipFill>
            <a:blip r:embed="rId10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3">
              <a:hlinkClick r:id="rId11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1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1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1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1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5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8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1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5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8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1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24:59Z</dcterms:created>
  <dc:creator>최봉수</dc:creator>
  <dc:description/>
  <dc:language>en-US</dc:language>
  <cp:lastModifiedBy>맛있다 군만두</cp:lastModifiedBy>
  <dcterms:modified xsi:type="dcterms:W3CDTF">2024-10-01T03:00:40Z</dcterms:modified>
  <cp:revision>5</cp:revision>
  <dc:subject/>
  <dc:title>슬라이드 1</dc:title>
</cp:coreProperties>
</file>