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184-BA62-4EA2-80CC-0148DCF9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454-B7CF-403F-8EF7-341796B6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302-FE09-4363-B63C-991EDE6D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EEB-46E4-48C4-B1E6-24940370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6E1-B7FC-4127-AF9B-AC96E24C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1D4-9037-497A-9127-8A250F15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8EC-D3EE-4A79-BC51-B51167D5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83E-6757-4483-A5FB-A1627647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95C-DBD9-4897-8E89-F4C21DB1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499-9893-4A8B-8E35-A86A3540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880-BCA1-4590-94CA-FF343B7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E78-1A33-4A92-B876-4EB513B9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43120-1748-4366-8034-24307E4BAC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87BC2-38DC-416E-956F-B5ACDA42E47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5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5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8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1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5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8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1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5" name="Picture 6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">
              <a:hlinkClick r:id="rId6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8" name="Picture 9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0">
              <a:hlinkClick r:id="rId9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1" name="Picture 12" descr=""/>
            <p:cNvPicPr/>
            <p:nvPr/>
          </p:nvPicPr>
          <p:blipFill>
            <a:blip r:embed="rId10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3">
              <a:hlinkClick r:id="rId11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1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1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1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1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1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1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1:24:59Z</dcterms:created>
  <dc:creator>최봉수</dc:creator>
  <dc:description/>
  <dc:language>en-US</dc:language>
  <cp:lastModifiedBy>맛있다 군만두</cp:lastModifiedBy>
  <dcterms:modified xsi:type="dcterms:W3CDTF">2024-10-01T03:00:40Z</dcterms:modified>
  <cp:revision>5</cp:revision>
  <dc:subject/>
  <dc:title>슬라이드 1</dc:title>
</cp:coreProperties>
</file>