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werpoints.org/envia.php?pps=9729" TargetMode="External"/><Relationship Id="rId3" Type="http://schemas.openxmlformats.org/officeDocument/2006/relationships/hyperlink" Target="http://www.powerpoints.org/suscripcion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390680" y="1268280"/>
            <a:ext cx="614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C" sz="8800" spc="-1" strike="noStrike">
                <a:solidFill>
                  <a:srgbClr val="ffffff"/>
                </a:solidFill>
                <a:latin typeface="Chiller"/>
              </a:rPr>
              <a:t>EL ABRAZ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C" sz="8800" spc="-1" strike="noStrike">
                <a:solidFill>
                  <a:srgbClr val="ffffff"/>
                </a:solidFill>
                <a:latin typeface="Chiller"/>
              </a:rPr>
              <a:t>SALVADOR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C" sz="8800" spc="-1" strike="noStrike">
                <a:solidFill>
                  <a:srgbClr val="ffffff"/>
                </a:solidFill>
                <a:latin typeface="Chiller"/>
              </a:rPr>
              <a:t>DE VID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46076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632480"/>
            <a:ext cx="936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a confianza nos puede hacer avan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el miedo se imp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nuestro deseo de participar con entusia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algún desafío de la v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8680" y="249228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0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824360" cy="470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5013360"/>
            <a:ext cx="72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transferimos nuestra energía con un abraz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umentan nuestras propias fuerz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263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4583160" cy="460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5229360"/>
            <a:ext cx="72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l contacto físico y el abrazo imparten una energía v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apaz de sanar o aliviar dolencias men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5653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Mediante el abrazo podemos transmitir un mensaje de recono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l valor y la excelencia de cada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1720" y="2602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AUTOVALO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40000" y="297000"/>
            <a:ext cx="4894200" cy="656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6253200"/>
            <a:ext cx="6264360" cy="60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692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35280" y="836640"/>
            <a:ext cx="5025960" cy="5041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1120" y="1268280"/>
            <a:ext cx="319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Jokerman"/>
              </a:rPr>
              <a:t>UN AB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Hace y Dice Muchi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ami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ser queri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s </a:t>
            </a:r>
            <a:r>
              <a:rPr b="1" lang="fr-CA" sz="1800" spc="-1" strike="noStrike">
                <a:solidFill>
                  <a:srgbClr val="ffffff"/>
                </a:solidFill>
                <a:latin typeface="Kristen ITC"/>
              </a:rPr>
              <a:t>niños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s viej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braza a tu mascota…</a:t>
            </a: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Jokerman"/>
              </a:rPr>
              <a:t>ABRAZALO 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4327560"/>
            <a:ext cx="333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ste AbrazoToTo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s todito para ti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!!DISFRUTALO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nvíalo a 10 personas más, incluyendo a la que te lo envió, no rompas la cadena, demuestra que eres un buen amigo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35280" y="5259240"/>
            <a:ext cx="1838520" cy="55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219320"/>
            <a:ext cx="823752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nvía este PowerPoint a un amig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CLICK AQUÍ para env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57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uchas más Presentaciones PPS en www.powerpoin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6453360"/>
            <a:ext cx="71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ff9933"/>
                </a:solidFill>
                <a:latin typeface="Times New Roman"/>
                <a:ea typeface="Arial"/>
              </a:rPr>
              <a:t>Si quieres suscribirte y recibir powerpoints gratis en tu email pulsa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"/>
              </a:rPr>
              <a:t>aqu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607000" cy="568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08720" y="1738440"/>
            <a:ext cx="40482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e ha comprob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e todos necesit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ontacto fís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sentirnos bi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una de las for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más import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de contacto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s el abr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941720"/>
            <a:ext cx="770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Cuando nos tocamos y nos abrazamos, llevamos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nuestros sentidos y reafirmamos la confi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nuestros propios sentimientos.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lgunas veces NO encontramos las palabras adecu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expresar lo que sentimos, el abrazo es la mejor man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260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Hay veces, que no nos atrev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 decir lo que sentim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a sea por timidez o porque los sentimientos nos abrum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esos casos se puede contar con el idioma de los abrazos.</a:t>
            </a:r>
            <a:r>
              <a:rPr b="1" lang="fr-CA" sz="2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82472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73360"/>
            <a:ext cx="293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os abraz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demás de hacernos sentir bi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e emp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ara aliviar el dol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la depresión y la ansie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rovocan alt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fisiológicas posi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n quien t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en quien es tocado.</a:t>
            </a:r>
            <a:r>
              <a:rPr b="0" lang="fr-CA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4954320" cy="49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7280" y="4076640"/>
            <a:ext cx="49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Acrecienta la volunt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de vivir en los enfer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ues debes sab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e CUATRO abrazos al d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on necesarios para sobreviv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OCHO para manten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DOCE para crecer como perso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92720" cy="437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71160" y="333360"/>
            <a:ext cx="483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Kristen ITC"/>
              </a:rPr>
              <a:t>¿</a:t>
            </a:r>
            <a:r>
              <a:rPr b="0" lang="fr-CA" sz="2800" spc="-1" strike="noStrike">
                <a:solidFill>
                  <a:srgbClr val="ffffff"/>
                </a:solidFill>
                <a:latin typeface="Kristen ITC"/>
              </a:rPr>
              <a:t>Que nos brinda un abraz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24600" cy="518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4702320" cy="463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1640" y="5241960"/>
            <a:ext cx="66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El sentirnos protegidos es importante para to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pero lo es más para los niños y los anci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quienes dependen del amor de quienes los rode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5480" y="256536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PROT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497120" cy="4535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4937040"/>
            <a:ext cx="70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Todos necesitamos sentirnos segu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Si no lo conseguimos actuamos de forma in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Kristen ITC"/>
              </a:rPr>
              <a:t>y nuestras relaciones interpersonales declin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75400" y="256536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Jokerman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5:27:20Z</dcterms:created>
  <dc:creator>Marco Villanueva</dc:creator>
  <dc:description/>
  <dc:language>en-US</dc:language>
  <cp:lastModifiedBy>Zamantha</cp:lastModifiedBy>
  <dcterms:modified xsi:type="dcterms:W3CDTF">2009-04-08T11:24:53Z</dcterms:modified>
  <cp:revision>12</cp:revision>
  <dc:subject/>
  <dc:title>Diapositiva 1</dc:title>
</cp:coreProperties>
</file>