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D6C36-3409-40A6-89E3-2D264CE64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42A06-4249-4454-B077-6D2465F47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6D539-D011-4C66-81CD-EE4C6F370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6756D-F202-429E-A31C-0EA0D97C7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18579-72CC-48CE-AAA9-9E1D9D94C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603A4-E58A-46B6-B720-F384A204A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9507E-1450-4916-B5C1-04AE1CD93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1EFD5-5A30-4E69-893E-2FD9BFFCB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1EAB2-D1C6-4B28-8AF8-D37DA37E4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6E85B-AB2A-4FAC-A348-B4F41D486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FC0A1-4F21-4A72-916D-FDB8E4B79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D2F15-1463-4FF8-A9AB-DEABCE801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69C1159-0251-46CA-8A39-677737E58271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-185040" y="6359400"/>
            <a:ext cx="153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11712E-3C9D-47D0-97A0-2F694293ACF1}" type="slidenum"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&lt;number&gt;</a:t>
            </a:fld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/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7.xml"/><Relationship Id="rId3" Type="http://schemas.openxmlformats.org/officeDocument/2006/relationships/image" Target="../media/image3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3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7.xml"/><Relationship Id="rId3" Type="http://schemas.openxmlformats.org/officeDocument/2006/relationships/image" Target="../media/image3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3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7.xml"/><Relationship Id="rId3" Type="http://schemas.openxmlformats.org/officeDocument/2006/relationships/image" Target="../media/image3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3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7.xml"/><Relationship Id="rId3" Type="http://schemas.openxmlformats.org/officeDocument/2006/relationships/image" Target="../media/image3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3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7.xml"/><Relationship Id="rId3" Type="http://schemas.openxmlformats.org/officeDocument/2006/relationships/image" Target="../media/image3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3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" Target="slide7.xml"/><Relationship Id="rId3" Type="http://schemas.openxmlformats.org/officeDocument/2006/relationships/image" Target="../media/image3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3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.png"/><Relationship Id="rId3" Type="http://schemas.openxmlformats.org/officeDocument/2006/relationships/slide" Target="slide5.xml"/><Relationship Id="rId4" Type="http://schemas.openxmlformats.org/officeDocument/2006/relationships/image" Target="../media/image3.png"/><Relationship Id="rId5" Type="http://schemas.openxmlformats.org/officeDocument/2006/relationships/slide" Target="slide5.xml"/><Relationship Id="rId6" Type="http://schemas.openxmlformats.org/officeDocument/2006/relationships/slide" Target="slide3.xml"/><Relationship Id="rId7" Type="http://schemas.openxmlformats.org/officeDocument/2006/relationships/image" Target="../media/image3.png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1.xml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44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47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9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50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2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53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6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57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60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2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63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5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66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9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70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2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73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5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76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8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79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2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83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5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86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8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89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1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92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95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96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8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99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1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02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4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05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8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09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1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12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4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15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7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18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21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22" name="Picture 6" descr=""/>
            <p:cNvPicPr/>
            <p:nvPr/>
          </p:nvPicPr>
          <p:blipFill>
            <a:blip r:embed="rId2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4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25" name="Picture 9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Text Box 10">
              <a:hlinkClick r:id="rId5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7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28" name="Picture 12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Text Box 13">
              <a:hlinkClick r:id="rId8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0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31" name="Picture 15" descr=""/>
            <p:cNvPicPr/>
            <p:nvPr/>
          </p:nvPicPr>
          <p:blipFill>
            <a:blip r:embed="rId9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Text Box 16">
              <a:hlinkClick r:id="rId10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34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35" name="Picture 6" descr=""/>
            <p:cNvPicPr/>
            <p:nvPr/>
          </p:nvPicPr>
          <p:blipFill>
            <a:blip r:embed="rId2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7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38" name="Picture 9" descr=""/>
            <p:cNvPicPr/>
            <p:nvPr/>
          </p:nvPicPr>
          <p:blipFill>
            <a:blip r:embed="rId3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Text Box 10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0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41" name="Picture 12" descr=""/>
            <p:cNvPicPr/>
            <p:nvPr/>
          </p:nvPicPr>
          <p:blipFill>
            <a:blip r:embed="rId4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Text Box 13"/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3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44" name="Picture 15" descr=""/>
            <p:cNvPicPr/>
            <p:nvPr/>
          </p:nvPicPr>
          <p:blipFill>
            <a:blip r:embed="rId5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Text Box 16"/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2T02:29:01Z</dcterms:created>
  <dc:creator>최봉수</dc:creator>
  <dc:description/>
  <dc:language>en-US</dc:language>
  <cp:lastModifiedBy>맛있다 군만두</cp:lastModifiedBy>
  <dcterms:modified xsi:type="dcterms:W3CDTF">2023-07-13T07:49:06Z</dcterms:modified>
  <cp:revision>3</cp:revision>
  <dc:subject/>
  <dc:title>슬라이드 1</dc:title>
</cp:coreProperties>
</file>