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CA3-E677-480C-A1FF-11AE84CF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C98-1D5C-47BD-9B50-77EFE00D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44C-6584-4617-9324-34A3A536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6AF-98F3-4791-97CE-D12FA8B2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24C-EBB0-49D9-800C-F3A71D5B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67A-C5E9-48E3-B7AB-C46070BB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D527-6EB1-4CD9-B57F-10E0A227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FE5B-A41E-488E-947C-08CA3279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8A9-81D0-4594-8059-CE696485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1A2E-C6CE-48EF-AE5B-ABB99C8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B0AC-1D04-4776-9B39-167F14F4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063-2942-4788-8587-DA0FBE7A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0DA26-CD1F-4771-9797-009D1281A12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7810B-068E-46A2-9F69-62832EA9935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02:29:01Z</dcterms:created>
  <dc:creator>최봉수</dc:creator>
  <dc:description/>
  <dc:language>en-US</dc:language>
  <cp:lastModifiedBy>맛있다 군만두</cp:lastModifiedBy>
  <dcterms:modified xsi:type="dcterms:W3CDTF">2023-07-13T07:49:06Z</dcterms:modified>
  <cp:revision>3</cp:revision>
  <dc:subject/>
  <dc:title>슬라이드 1</dc:title>
</cp:coreProperties>
</file>