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18.gif" ContentType="image/gif"/>
  <Override PartName="/ppt/media/image8.jpeg" ContentType="image/jpeg"/>
  <Override PartName="/ppt/media/image10.jpeg" ContentType="image/jpeg"/>
  <Override PartName="/ppt/media/image19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3.jpeg" ContentType="image/jpeg"/>
  <Override PartName="/ppt/media/image5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F245-6169-412C-A382-E70D59D69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7363-C7E5-4DF0-B05C-4467989D6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C2F0-A34A-402A-B78D-B072A7E7A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BE80-32E2-442C-8D6E-5F70F8252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8DDE-1CF4-439D-ACB1-7600F9436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9F64-0AE9-4C42-8134-B6CCD6A01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2EEE-E4B2-4671-93B1-1E41E8A8E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6E17-B80E-40A2-BE0F-CCDFFF520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FB40-18B0-4B32-8AA4-3761DECEC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683A-61A2-4992-BF25-B934F1197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75D7-306B-47A4-85AD-AC9B2E2AB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A254-44D6-44F2-A704-8068DACDF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CE5A9-CB35-4E43-92C8-700B286BD858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file:///tmp/home/.config/libreoffice/4/user/gallery/Les%20violons.wav" TargetMode="External"/><Relationship Id="rId3" Type="http://schemas.microsoft.com/office/2007/relationships/media" Target="file:///tmp/home/.config/libreoffice/4/user/gallery/Les%20violons.wav" TargetMode="External"/><Relationship Id="rId4" Type="http://schemas.openxmlformats.org/officeDocument/2006/relationships/image" Target="../media/image17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ppserickdream.com/" TargetMode="External"/><Relationship Id="rId2" Type="http://schemas.openxmlformats.org/officeDocument/2006/relationships/hyperlink" Target="http://www.ppserickdream.com/" TargetMode="External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400" y="0"/>
            <a:ext cx="91152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8353440" cy="60487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067280" y="1700280"/>
            <a:ext cx="439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3200" spc="-1" strike="noStrike">
                <a:solidFill>
                  <a:srgbClr val="957d38"/>
                </a:solidFill>
                <a:latin typeface="Colonna MT"/>
              </a:rPr>
              <a:t>Comment appelle-t-on un nain qui sort des W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84720" y="3500280"/>
            <a:ext cx="39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3200" spc="-1" strike="noStrike">
                <a:solidFill>
                  <a:srgbClr val="957d38"/>
                </a:solidFill>
                <a:latin typeface="Forte"/>
              </a:rPr>
              <a:t>Un expres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708360" y="4653000"/>
            <a:ext cx="475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3200" spc="-1" strike="noStrike">
                <a:solidFill>
                  <a:srgbClr val="957d38"/>
                </a:solidFill>
                <a:latin typeface="Forte"/>
              </a:rPr>
              <a:t>Car c’est un petit qu’a fa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85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635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4400" y="0"/>
            <a:ext cx="911520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8353440" cy="60487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826920" y="1197000"/>
            <a:ext cx="453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3200" spc="-1" strike="noStrike">
                <a:solidFill>
                  <a:srgbClr val="957d38"/>
                </a:solidFill>
                <a:latin typeface="Colonna MT"/>
              </a:rPr>
              <a:t>Comment appelle-t-on un nain qui distribue le courrier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350028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3200" spc="-1" strike="noStrike">
                <a:solidFill>
                  <a:srgbClr val="957d38"/>
                </a:solidFill>
                <a:latin typeface="Forte"/>
              </a:rPr>
              <a:t>Un tru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71640" y="4653000"/>
            <a:ext cx="468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3200" spc="-1" strike="noStrike">
                <a:solidFill>
                  <a:srgbClr val="957d38"/>
                </a:solidFill>
                <a:latin typeface="Forte"/>
              </a:rPr>
              <a:t>Car c’est un nain poste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3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500"/>
                            </p:stCondLst>
                            <p:childTnLst>
                              <p:par>
                                <p:cTn id="141" nodeType="afterEffect" fill="hold" presetClass="entr" presetID="3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900000" y="5877000"/>
            <a:ext cx="33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>
                <a:solidFill>
                  <a:srgbClr val="957d38"/>
                </a:solidFill>
                <a:latin typeface="Forte"/>
              </a:rPr>
              <a:t>Texte, auteur inconn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435640" y="5877000"/>
            <a:ext cx="309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64000" y="5877000"/>
            <a:ext cx="32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>
                <a:solidFill>
                  <a:srgbClr val="957d38"/>
                </a:solidFill>
                <a:latin typeface="Forte"/>
              </a:rPr>
              <a:t>Montage, Jean Dau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0" y="6858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0" y="7101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2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17"/>
                </p:tgtEl>
              </p:cMediaNode>
            </p:audio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4400" y="0"/>
            <a:ext cx="91152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979640" y="2133720"/>
            <a:ext cx="4897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6600" spc="-1" strike="noStrike">
                <a:solidFill>
                  <a:srgbClr val="957d38"/>
                </a:solidFill>
                <a:latin typeface="Colonna MT"/>
              </a:rPr>
              <a:t>A la prochaine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979640" y="5950080"/>
            <a:ext cx="5388120" cy="428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ransition>
    <p:zoom dir="out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4" dur="500" fill="hold"/>
                                        <p:tgtEl>
                                          <p:spTgt spid="1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4360" y="371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Alfredo's Dance"/>
              </a:rPr>
              <a:t>Des centaines de PPS de BD et bien d’autres choses…</a:t>
            </a:r>
            <a:br>
              <a:rPr sz="4000"/>
            </a:b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 u="sng">
                <a:solidFill>
                  <a:srgbClr val="009999"/>
                </a:solidFill>
                <a:uFillTx/>
                <a:latin typeface="바탕"/>
                <a:hlinkClick r:id="rId1"/>
              </a:rPr>
              <a:t>http://www.ppserickdream.com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195640" y="1052640"/>
            <a:ext cx="4457520" cy="571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4400" y="0"/>
            <a:ext cx="91296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8353440" cy="60487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635280" y="1125360"/>
            <a:ext cx="482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3200" spc="-1" strike="noStrike">
                <a:solidFill>
                  <a:srgbClr val="957d38"/>
                </a:solidFill>
                <a:latin typeface="Colonna MT"/>
              </a:rPr>
              <a:t>Comment appelle-t-on un nain avec un radio sur l’épaul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40360" y="342900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3200" spc="-1" strike="noStrike">
                <a:solidFill>
                  <a:srgbClr val="957d38"/>
                </a:solidFill>
                <a:latin typeface="Forte"/>
              </a:rPr>
              <a:t>Un sl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19640" y="4221000"/>
            <a:ext cx="518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3200" spc="-1" strike="noStrike">
                <a:solidFill>
                  <a:srgbClr val="957d38"/>
                </a:solidFill>
                <a:latin typeface="Forte"/>
              </a:rPr>
              <a:t>Car c’est un petit qu’a le 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500"/>
                            </p:stCondLst>
                            <p:childTnLst>
                              <p:par>
                                <p:cTn id="21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4400" y="0"/>
            <a:ext cx="91152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8353440" cy="6048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900000" y="907920"/>
            <a:ext cx="4680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3200" spc="-1" strike="noStrike">
                <a:solidFill>
                  <a:srgbClr val="957d38"/>
                </a:solidFill>
                <a:latin typeface="Colonna MT"/>
              </a:rPr>
              <a:t>Comment appelle-t-on un nain qui sort d’une boulangerie avec une baguette sous le bra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76360" y="357336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3200" spc="-1" strike="noStrike">
                <a:solidFill>
                  <a:srgbClr val="957d38"/>
                </a:solidFill>
                <a:latin typeface="Forte"/>
              </a:rPr>
              <a:t>Un 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8360" y="4437000"/>
            <a:ext cx="54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3200" spc="-1" strike="noStrike">
                <a:solidFill>
                  <a:srgbClr val="957d38"/>
                </a:solidFill>
                <a:latin typeface="Forte"/>
              </a:rPr>
              <a:t>Car c’est un petit qu’a le p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45">
                                  <p:stCondLst>
                                    <p:cond delay="2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7900"/>
                            </p:stCondLst>
                            <p:childTnLst>
                              <p:par>
                                <p:cTn id="40" nodeType="afterEffect" fill="hold" presetClass="entr" presetID="45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4400" y="0"/>
            <a:ext cx="91152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284720" y="620640"/>
            <a:ext cx="4333680" cy="5715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395280" y="476280"/>
            <a:ext cx="2266920" cy="38098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556000" y="765000"/>
            <a:ext cx="2592360" cy="1368720"/>
          </a:xfrm>
          <a:prstGeom prst="wedgeEllipseCallout">
            <a:avLst>
              <a:gd name="adj1" fmla="val -70819"/>
              <a:gd name="adj2" fmla="val 43157"/>
            </a:avLst>
          </a:prstGeom>
          <a:solidFill>
            <a:srgbClr val="957d38">
              <a:alpha val="1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84360" y="907920"/>
            <a:ext cx="273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800" spc="-1" strike="noStrike">
                <a:solidFill>
                  <a:srgbClr val="957d38"/>
                </a:solidFill>
                <a:latin typeface="Forte"/>
              </a:rPr>
              <a:t>Un peu plus diffic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050920" y="3573360"/>
            <a:ext cx="2378160" cy="1224000"/>
          </a:xfrm>
          <a:prstGeom prst="wedgeEllipseCallout">
            <a:avLst>
              <a:gd name="adj1" fmla="val 75902"/>
              <a:gd name="adj2" fmla="val 17574"/>
            </a:avLst>
          </a:prstGeom>
          <a:solidFill>
            <a:srgbClr val="957d38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79640" y="3860640"/>
            <a:ext cx="252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957d38"/>
                </a:solidFill>
                <a:latin typeface="Forte"/>
              </a:rPr>
              <a:t>Certain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4400" y="0"/>
            <a:ext cx="91296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8353440" cy="60487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851280" y="836640"/>
            <a:ext cx="453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3200" spc="-1" strike="noStrike">
                <a:solidFill>
                  <a:srgbClr val="957d38"/>
                </a:solidFill>
                <a:latin typeface="Colonna MT"/>
              </a:rPr>
              <a:t>Comment appelle-t-on un nain qui vient d’acheter un étang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356000" y="350028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3200" spc="-1" strike="noStrike">
                <a:solidFill>
                  <a:srgbClr val="957d38"/>
                </a:solidFill>
                <a:latin typeface="Forte"/>
              </a:rPr>
              <a:t>Un mollus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916360" y="4724280"/>
            <a:ext cx="561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3200" spc="-1" strike="noStrike">
                <a:solidFill>
                  <a:srgbClr val="957d38"/>
                </a:solidFill>
                <a:latin typeface="Forte"/>
              </a:rPr>
              <a:t>Car c’est un petit qu’a le m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40"/>
                            </p:stCondLst>
                            <p:childTnLst>
                              <p:par>
                                <p:cTn id="55" nodeType="afterEffect" fill="hold" presetClass="entr" presetID="41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6040"/>
                            </p:stCondLst>
                            <p:childTnLst>
                              <p:par>
                                <p:cTn id="63" nodeType="afterEffect" fill="hold" presetClass="entr" presetID="41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8440" y="0"/>
            <a:ext cx="911556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395280" y="476280"/>
            <a:ext cx="8353440" cy="59770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995640" y="1341360"/>
            <a:ext cx="453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3200" spc="-1" strike="noStrike">
                <a:solidFill>
                  <a:srgbClr val="957d38"/>
                </a:solidFill>
                <a:latin typeface="Colonna MT"/>
              </a:rPr>
              <a:t>Comment appelle-t-on un nain dans un bar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0" y="3429000"/>
            <a:ext cx="33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3200" spc="-1" strike="noStrike">
                <a:solidFill>
                  <a:srgbClr val="957d38"/>
                </a:solidFill>
                <a:latin typeface="Forte"/>
              </a:rPr>
              <a:t>Un suppl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843280" y="4797360"/>
            <a:ext cx="583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3200" spc="-1" strike="noStrike">
                <a:solidFill>
                  <a:srgbClr val="957d38"/>
                </a:solidFill>
                <a:latin typeface="Forte"/>
              </a:rPr>
              <a:t>Car c’est un petit qu’a le ver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2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500"/>
                            </p:stCondLst>
                            <p:childTnLst>
                              <p:par>
                                <p:cTn id="82" nodeType="afterEffect" fill="hold" presetClass="entr" presetID="2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4400" y="0"/>
            <a:ext cx="91152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8353440" cy="60483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211640" y="1413000"/>
            <a:ext cx="432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3200" spc="-1" strike="noStrike">
                <a:solidFill>
                  <a:srgbClr val="957d38"/>
                </a:solidFill>
                <a:latin typeface="Colonna MT"/>
              </a:rPr>
              <a:t>Comment appelle-t-on un nain avec une camera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00720" y="3716280"/>
            <a:ext cx="38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3200" spc="-1" strike="noStrike">
                <a:solidFill>
                  <a:srgbClr val="957d38"/>
                </a:solidFill>
                <a:latin typeface="Forte"/>
              </a:rPr>
              <a:t>Un Bru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348000" y="5013360"/>
            <a:ext cx="525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3200" spc="-1" strike="noStrike">
                <a:solidFill>
                  <a:srgbClr val="957d38"/>
                </a:solidFill>
                <a:latin typeface="Forte"/>
              </a:rPr>
              <a:t>Car c’est un petit qu’a le cin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1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38">
                                  <p:stCondLst>
                                    <p:cond delay="15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7500"/>
                            </p:stCondLst>
                            <p:childTnLst>
                              <p:par>
                                <p:cTn id="101" nodeType="afterEffect" fill="hold" presetClass="entr" presetID="38">
                                  <p:stCondLst>
                                    <p:cond delay="15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0T02:57:22Z</dcterms:created>
  <dc:creator>Jean D.</dc:creator>
  <dc:description/>
  <dc:language>en-US</dc:language>
  <cp:lastModifiedBy>Smets</cp:lastModifiedBy>
  <dcterms:modified xsi:type="dcterms:W3CDTF">2008-09-23T19:56:00Z</dcterms:modified>
  <cp:revision>3</cp:revision>
  <dc:subject/>
  <dc:title>Diapositive 1</dc:title>
</cp:coreProperties>
</file>