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18.gif" ContentType="image/gif"/>
  <Override PartName="/ppt/media/image8.jpeg" ContentType="image/jpeg"/>
  <Override PartName="/ppt/media/image10.jpeg" ContentType="image/jpeg"/>
  <Override PartName="/ppt/media/image19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14.jpeg" ContentType="image/jpeg"/>
  <Override PartName="/ppt/media/image4.jpeg" ContentType="image/jpeg"/>
  <Override PartName="/ppt/media/image2.png" ContentType="image/png"/>
  <Override PartName="/ppt/media/image3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FCE55-CED4-4546-B386-CC6455C46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1C1F1-F785-4FA2-B38E-6F89FA624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05C65-DDEB-4468-964D-5375CEEE2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BB970-758D-4812-8334-816F8CB23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8055-4F3D-4C90-A769-742E3062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277E7-FA5C-41CD-B7CC-5C979A119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2E85-6E59-4FB2-8988-D4DCA519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908D-2E39-4974-AAF5-FE179C6B3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7153-ECB6-45AA-B006-EDB358D73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BFD9C-17FC-4A3A-9BAF-B5716CD6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C558-B37E-46CE-9B50-2D9FE9E7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EB89-6333-4E7D-BF23-48DCB692B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ABE6E-A5DD-4C42-9030-9EC2F5F47698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audio" Target="file:///tmp/home/.config/libreoffice/4/user/gallery/Les%20violons.wav" TargetMode="External"/><Relationship Id="rId3" Type="http://schemas.microsoft.com/office/2007/relationships/media" Target="file:///tmp/home/.config/libreoffice/4/user/gallery/Les%20violons.wav" TargetMode="External"/><Relationship Id="rId4" Type="http://schemas.openxmlformats.org/officeDocument/2006/relationships/image" Target="../media/image17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ppserickdream.com/" TargetMode="External"/><Relationship Id="rId2" Type="http://schemas.openxmlformats.org/officeDocument/2006/relationships/hyperlink" Target="http://www.ppserickdream.com/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4067280" y="1700280"/>
            <a:ext cx="4392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Colonna MT"/>
              </a:rPr>
              <a:t>Comment appelle-t-on un nain qui sort des W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284720" y="3500280"/>
            <a:ext cx="3959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Un expres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708360" y="4653000"/>
            <a:ext cx="4751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Car c’est un petit qu’a fa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0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285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35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826920" y="1197000"/>
            <a:ext cx="45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Colonna MT"/>
              </a:rPr>
              <a:t>Comment appelle-t-on un nain qui distribue le courrie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350028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Un tru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971640" y="4653000"/>
            <a:ext cx="468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Car c’est un nain posteu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8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500"/>
                            </p:stCondLst>
                            <p:childTnLst>
                              <p:par>
                                <p:cTn id="141" nodeType="afterEffect" fill="hold" presetClass="entr" presetID="37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8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900000" y="587700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957d38"/>
                </a:solidFill>
                <a:latin typeface="Forte"/>
              </a:rPr>
              <a:t>Texte, auteur incon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435640" y="5877000"/>
            <a:ext cx="309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364000" y="5877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400" spc="-1" strike="noStrike">
                <a:solidFill>
                  <a:srgbClr val="957d38"/>
                </a:solidFill>
                <a:latin typeface="Forte"/>
              </a:rPr>
              <a:t>Montage, Jean Dau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0" y="6858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5"/>
          <a:stretch/>
        </p:blipFill>
        <p:spPr>
          <a:xfrm>
            <a:off x="0" y="710100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2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117"/>
                </p:tgtEl>
              </p:cMediaNode>
            </p:audio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979640" y="2133720"/>
            <a:ext cx="48974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6600" spc="-1" strike="noStrike">
                <a:solidFill>
                  <a:srgbClr val="957d38"/>
                </a:solidFill>
                <a:latin typeface="Colonna MT"/>
              </a:rPr>
              <a:t>A la prochaine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979640" y="595008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>
    <p:zoom dir="out"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1000"/>
                            </p:stCondLst>
                            <p:childTnLst>
                              <p:par>
                                <p:cTn id="163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64" dur="500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360" y="3716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ffffff"/>
                </a:solidFill>
                <a:latin typeface="Alfredo's Dance"/>
              </a:rPr>
              <a:t>Des centaines de PPS de BD et bien d’autres choses…</a:t>
            </a:r>
            <a:br>
              <a:rPr sz="4000"/>
            </a:b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3600" spc="-1" strike="noStrike" u="sng">
                <a:solidFill>
                  <a:srgbClr val="009999"/>
                </a:solidFill>
                <a:uFillTx/>
                <a:latin typeface="바탕"/>
                <a:hlinkClick r:id="rId1"/>
              </a:rPr>
              <a:t>http://www.ppserickdream.com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95640" y="1052640"/>
            <a:ext cx="4457520" cy="571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5280" y="1125360"/>
            <a:ext cx="4824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Colonna MT"/>
              </a:rPr>
              <a:t>Comment appelle-t-on un nain avec un radio sur l’épaule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40360" y="342900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Un sl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19640" y="4221000"/>
            <a:ext cx="518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Car c’est un petit qu’a le s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2000"/>
                            </p:stCondLst>
                            <p:childTnLst>
                              <p:par>
                                <p:cTn id="15" nodeType="afterEffect" fill="hold" presetClass="entr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500"/>
                            </p:stCondLst>
                            <p:childTnLst>
                              <p:par>
                                <p:cTn id="21" nodeType="afterEffect" fill="hold" presetClass="entr" presetID="40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00000" y="907920"/>
            <a:ext cx="468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Colonna MT"/>
              </a:rPr>
              <a:t>Comment appelle-t-on un nain qui sort d’une boulangerie avec une baguette sous le bras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476360" y="3573360"/>
            <a:ext cx="360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Un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68360" y="4437000"/>
            <a:ext cx="5472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Car c’est un petit qu’a le pai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45">
                                  <p:stCondLst>
                                    <p:cond delay="25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7900"/>
                            </p:stCondLst>
                            <p:childTnLst>
                              <p:par>
                                <p:cTn id="40" nodeType="afterEffect" fill="hold" presetClass="entr" presetID="45">
                                  <p:stCondLst>
                                    <p:cond delay="1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284720" y="620640"/>
            <a:ext cx="4333680" cy="571500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395280" y="476280"/>
            <a:ext cx="2266920" cy="38098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556000" y="765000"/>
            <a:ext cx="2592360" cy="1368720"/>
          </a:xfrm>
          <a:prstGeom prst="wedgeEllipseCallout">
            <a:avLst>
              <a:gd name="adj1" fmla="val -70819"/>
              <a:gd name="adj2" fmla="val 43157"/>
            </a:avLst>
          </a:prstGeom>
          <a:solidFill>
            <a:srgbClr val="957d38">
              <a:alpha val="1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484360" y="907920"/>
            <a:ext cx="2735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2800" spc="-1" strike="noStrike">
                <a:solidFill>
                  <a:srgbClr val="957d38"/>
                </a:solidFill>
                <a:latin typeface="Forte"/>
              </a:rPr>
              <a:t>Un peu plus diffic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050920" y="3573360"/>
            <a:ext cx="2378160" cy="1224000"/>
          </a:xfrm>
          <a:prstGeom prst="wedgeEllipseCallout">
            <a:avLst>
              <a:gd name="adj1" fmla="val 75902"/>
              <a:gd name="adj2" fmla="val 17574"/>
            </a:avLst>
          </a:prstGeom>
          <a:solidFill>
            <a:srgbClr val="957d38">
              <a:alpha val="1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3860640"/>
            <a:ext cx="2521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957d38"/>
                </a:solidFill>
                <a:latin typeface="Forte"/>
              </a:rPr>
              <a:t>Certain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91296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3851280" y="836640"/>
            <a:ext cx="453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Colonna MT"/>
              </a:rPr>
              <a:t>Comment appelle-t-on un nain qui vient d’acheter un étang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356000" y="3500280"/>
            <a:ext cx="352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Un mollus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16360" y="4724280"/>
            <a:ext cx="561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Car c’est un petit qu’a le m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1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" dur="80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040"/>
                            </p:stCondLst>
                            <p:childTnLst>
                              <p:par>
                                <p:cTn id="55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6040"/>
                            </p:stCondLst>
                            <p:childTnLst>
                              <p:par>
                                <p:cTn id="63" nodeType="afterEffect" fill="hold" presetClass="entr" presetID="41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28440" y="0"/>
            <a:ext cx="9115560" cy="685800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395280" y="476280"/>
            <a:ext cx="8353440" cy="59770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3995640" y="1341360"/>
            <a:ext cx="453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Colonna MT"/>
              </a:rPr>
              <a:t>Comment appelle-t-on un nain dans un bar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572000" y="3429000"/>
            <a:ext cx="33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Un supp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843280" y="4797360"/>
            <a:ext cx="58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Car c’est un petit qu’a le ver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6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0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500"/>
                            </p:stCondLst>
                            <p:childTnLst>
                              <p:par>
                                <p:cTn id="82" nodeType="afterEffect" fill="hold" presetClass="entr" presetID="2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4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sh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14400" y="0"/>
            <a:ext cx="91152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95280" y="333360"/>
            <a:ext cx="8353440" cy="60483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4211640" y="1413000"/>
            <a:ext cx="432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Colonna MT"/>
              </a:rPr>
              <a:t>Comment appelle-t-on un nain avec une camera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00720" y="3716280"/>
            <a:ext cx="388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Un Brulé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348000" y="5013360"/>
            <a:ext cx="525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3200" spc="-1" strike="noStrike">
                <a:solidFill>
                  <a:srgbClr val="957d38"/>
                </a:solidFill>
                <a:latin typeface="Forte"/>
              </a:rPr>
              <a:t>Car c’est un petit qu’a le ciné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2000"/>
                            </p:stCondLst>
                            <p:childTnLst>
                              <p:par>
                                <p:cTn id="93" nodeType="afterEffect" fill="hold" presetClass="entr" presetID="38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9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7500"/>
                            </p:stCondLst>
                            <p:childTnLst>
                              <p:par>
                                <p:cTn id="101" nodeType="afterEffect" fill="hold" presetClass="entr" presetID="38">
                                  <p:stCondLst>
                                    <p:cond delay="15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0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30T02:57:22Z</dcterms:created>
  <dc:creator>Jean D.</dc:creator>
  <dc:description/>
  <dc:language>en-US</dc:language>
  <cp:lastModifiedBy>Smets</cp:lastModifiedBy>
  <dcterms:modified xsi:type="dcterms:W3CDTF">2008-09-23T19:56:00Z</dcterms:modified>
  <cp:revision>3</cp:revision>
  <dc:subject/>
  <dc:title>Diapositive 1</dc:title>
</cp:coreProperties>
</file>