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10B-457E-4EE0-B32F-03E1EB43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EBC-A52A-4B76-8DF4-07FE02F4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0EA-10C8-4DDB-B361-011BA6C4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E51-8812-4FF2-92A4-318B0A8F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559-7428-4C37-A8CD-FE7EF97B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248-814C-4CB4-BC4A-31938E8E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134-1945-46CF-A697-C92ED949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1E5-7BEF-4CCC-A318-C1CA4373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6FD-24CC-4417-9207-1DF513C0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4BF-67C2-4058-BA89-D7B2054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010-D314-4C71-A731-FF125205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038-A300-4FFC-8F87-FCAE75B8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75C72-6EAB-4348-A41F-13FBBB389A2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8075D-D38D-4F34-8C95-D3EE792F880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5:34:08Z</dcterms:created>
  <dc:creator>최봉수</dc:creator>
  <dc:description/>
  <dc:language>en-US</dc:language>
  <cp:lastModifiedBy>맛있다 군만두</cp:lastModifiedBy>
  <dcterms:modified xsi:type="dcterms:W3CDTF">2024-09-24T07:55:17Z</dcterms:modified>
  <cp:revision>3</cp:revision>
  <dc:subject/>
  <dc:title>슬라이드 1</dc:title>
</cp:coreProperties>
</file>