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7B3-8BFF-4C1E-B4FE-077913D1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38C-0550-4C05-ADD3-0585667B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0EB-AB17-45B2-B0CC-4F7E1122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610-A889-43A1-AF1E-5CDEBA4D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E0C-48EC-472F-A8DB-EDD321C7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3DA-6656-469D-85C1-92F47139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8F6-3CE1-4C4E-8A3F-BA5683E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59E-28CF-4416-9D25-D92376A2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A32-3E99-4E4F-876F-BF31F44F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159-5D26-4346-8939-D1530A76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7E0-21B3-4776-9DCF-50FBDB8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20F-0E86-468A-9B42-E8B5248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1DBD4-4408-428A-93C9-F8D8DDF62B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8671E-0619-4057-962B-E24D1252F21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5:34:08Z</dcterms:created>
  <dc:creator>최봉수</dc:creator>
  <dc:description/>
  <dc:language>en-US</dc:language>
  <cp:lastModifiedBy>맛있다 군만두</cp:lastModifiedBy>
  <dcterms:modified xsi:type="dcterms:W3CDTF">2024-09-24T07:55:17Z</dcterms:modified>
  <cp:revision>3</cp:revision>
  <dc:subject/>
  <dc:title>슬라이드 1</dc:title>
</cp:coreProperties>
</file>