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6B9-B403-4EB8-B371-2FF41FA4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9A7-56EF-44BB-9AF6-AAC3B00D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14BB-52E4-4391-A83C-8710A920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D06D-A1B3-4AA2-9874-8BFE495D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9BC3-7E84-4CE3-8287-26597E6E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F4E5-BC88-4AC8-AF87-80EE7E06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6334-277D-4C2B-8D45-2390B438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2A1-67C1-4F8E-A2E3-8E74CC83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906-5B01-43C1-B46F-072B9E53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2948-0CA4-4D27-933F-0E1E2EB1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87E-B7DD-40E6-B97A-052810C9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935-6166-4169-8B9C-4A2B3A9E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3635-DA16-4303-8CF3-D5E5F2BFF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490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. LI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1699920"/>
            <a:ext cx="820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ngertian Limit dan sifat-sifatny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orema Li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ontinuitas Fung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885960" y="1433520"/>
                <a:ext cx="1568160" cy="35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oh S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ontinuitas Fungsi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2"/>
              <p:cNvSpPr txBox="1"/>
              <p:nvPr/>
            </p:nvSpPr>
            <p:spPr>
              <a:xfrm>
                <a:off x="611280" y="1268280"/>
                <a:ext cx="604836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buah fungsi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dikatakan </m:t>
                        </m:r>
                        <m:r>
                          <m:rPr>
                            <m:lit/>
                            <m:nor/>
                          </m:rPr>
                          <m:t xml:space="preserve">kontinu</m:t>
                        </m:r>
                        <m:r>
                          <m:rPr>
                            <m:lit/>
                            <m:nor/>
                          </m:rPr>
                          <m:t xml:space="preserve"> pada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bila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erdefinis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d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6"/>
              <p:cNvSpPr txBox="1"/>
              <p:nvPr/>
            </p:nvSpPr>
            <p:spPr>
              <a:xfrm>
                <a:off x="547560" y="3213000"/>
                <a:ext cx="732960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inisi Limit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dikatakan mempunyai limit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untuk 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bila limit kanan dan lim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iri dari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dalah sama, yaitu sama dengan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tau dengan kata lain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⇒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18"/>
              <p:cNvSpPr txBox="1"/>
              <p:nvPr/>
            </p:nvSpPr>
            <p:spPr>
              <a:xfrm>
                <a:off x="611280" y="5124600"/>
                <a:ext cx="554508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sal,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bila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o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3"/>
              <p:cNvSpPr txBox="1"/>
              <p:nvPr/>
            </p:nvSpPr>
            <p:spPr>
              <a:xfrm>
                <a:off x="395280" y="1341360"/>
                <a:ext cx="8416800" cy="437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ila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Buktikan bahwa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kontinu pada semua titi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erah definisi / domain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idiki apakah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kontinu pada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idiki apakah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kontinu pada </m:t>
                        </m:r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ngan cara yang sama, selidiki apakah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kontinu pada </m:t>
                        </m:r>
                        <m:r>
                          <m:t xml:space="preserve">b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pakah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kontinu pada 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 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mit Fungsi Istimewa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539640" y="1268280"/>
                <a:ext cx="3351240" cy="516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ntoh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5</m:t>
                            </m:r>
                          </m:lim>
                        </m:limLow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4716360" y="1341360"/>
                <a:ext cx="3756240" cy="39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umus Trigonometri: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os x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in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395280" y="333360"/>
                <a:ext cx="6624720" cy="38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ntuk menentukan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dapat dilakukan dengan 3 cara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ubtitusi langsung 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Jika subtitusi langsung menghasilkan bentuk tak tentu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au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maka perhitungan limit dilakuka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ngan cara pemfaktoran atau rasionalisasi aka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468360" y="3933720"/>
                <a:ext cx="5256000" cy="25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oh: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        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3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4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orema L`Hos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684360" y="907920"/>
                <a:ext cx="6696000" cy="35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ntuk menentukan nilai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yang menghasilkan bentuk tak tentu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pat digunakan teorema L`Hospital yait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pabila nilai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juga menghasilkan bentuk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aka nilai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pat ditentukan dengan turunan kedua, yait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``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``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900000" y="4149720"/>
                <a:ext cx="4017960" cy="23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oh: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        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4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TUGAS</a:t>
            </a:r>
            <a:br>
              <a:rPr sz="3200"/>
            </a:b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Jgn lupa tulis NAMA, NIM, K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0040" y="1285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1. Diketahui f(x)=2x-3 dan g(x)=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id-ID" sz="2800" spc="-1" strike="noStrike">
                <a:solidFill>
                  <a:srgbClr val="000000"/>
                </a:solidFill>
                <a:latin typeface="Arial"/>
              </a:rPr>
              <a:t>2x-3. Tentukan (fᵒg)(x) dan (fᵒg)(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800" spc="-1" strike="noStrike">
                <a:solidFill>
                  <a:srgbClr val="000000"/>
                </a:solidFill>
                <a:latin typeface="Arial"/>
              </a:rPr>
              <a:t>2. f(x)=x+3 dan (fᵒg)(3)=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id-ID" sz="2800" spc="-1" strike="noStrike">
                <a:solidFill>
                  <a:srgbClr val="000000"/>
                </a:solidFill>
                <a:latin typeface="Arial"/>
              </a:rPr>
              <a:t>+6x+7. Tentukan g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800" spc="-1" strike="noStrike">
                <a:solidFill>
                  <a:srgbClr val="000000"/>
                </a:solidFill>
                <a:latin typeface="Arial"/>
              </a:rPr>
              <a:t>3. Tentukan nilai x yang memenu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6"/>
              <p:cNvSpPr txBox="1"/>
              <p:nvPr/>
            </p:nvSpPr>
            <p:spPr>
              <a:xfrm>
                <a:off x="5143680" y="1285920"/>
                <a:ext cx="2857320" cy="500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4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1000080" y="5500800"/>
                <a:ext cx="29368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rad>
                    <m:r>
                      <m:t xml:space="preserve">≥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2087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si Limit Fung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6"/>
              <p:cNvSpPr txBox="1"/>
              <p:nvPr/>
            </p:nvSpPr>
            <p:spPr>
              <a:xfrm>
                <a:off x="468360" y="1197000"/>
                <a:ext cx="820908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ikatakan</m:t>
                        </m:r>
                        <m:r>
                          <m:rPr>
                            <m:lit/>
                            <m:nor/>
                          </m:rPr>
                          <m:t xml:space="preserve">mempunyai</m:t>
                        </m:r>
                        <m:r>
                          <m:rPr>
                            <m:lit/>
                            <m:nor/>
                          </m:rPr>
                          <m:t xml:space="preserve">limit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untuk 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bila untuk setiap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ilangan </m:t>
                        </m:r>
                        <m:r>
                          <m:t xml:space="preserve">h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agaimanapun kecilny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dapat ditunjuk bilangan </m:t>
                        </m:r>
                        <m:r>
                          <m:t xml:space="preserve">δ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demikian hingga untuk semua harga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yang memenuhi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&lt;</m:t>
                        </m:r>
                        <m:r>
                          <m:t xml:space="preserve">δ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erlaku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nyataan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&lt;</m:t>
                        </m:r>
                        <m:r>
                          <m:t xml:space="preserve">δ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berarti untuk semua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yang memenuhi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ntuk 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mempunyai limit L untuk 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tuliskan dengan 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3610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mit K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mit Ka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3"/>
              <p:cNvSpPr txBox="1"/>
              <p:nvPr/>
            </p:nvSpPr>
            <p:spPr>
              <a:xfrm>
                <a:off x="539640" y="692280"/>
                <a:ext cx="7920000" cy="18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pabila 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didekati dari kiri atau ditulis 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,maka limit dina-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kan limit kiri, dan bila harga limit fungsi misalny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, maka dituliska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bagai berikut: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atau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10"/>
              <p:cNvSpPr txBox="1"/>
              <p:nvPr/>
            </p:nvSpPr>
            <p:spPr>
              <a:xfrm>
                <a:off x="539640" y="2925720"/>
                <a:ext cx="792000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pabila 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didekati dari kanan atau ditulis 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,maka limit dina-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kan limit kanan, dan bila harga limit fungsi misalny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, maka dituliska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bagai berikut: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atau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13"/>
              <p:cNvSpPr txBox="1"/>
              <p:nvPr/>
            </p:nvSpPr>
            <p:spPr>
              <a:xfrm>
                <a:off x="550800" y="5229360"/>
                <a:ext cx="77248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dikatakan mempunyai limit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untuk </m:t>
                        </m:r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bila limit kanan dan lim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iri dari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dalah sama, yaitu sama dengan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tau dengan kata lain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⇒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oh S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857160" y="1047600"/>
                <a:ext cx="2214720" cy="533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000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000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000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000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oh S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642960" y="920880"/>
                <a:ext cx="3357720" cy="57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ka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≥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ka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000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000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oh S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500040" y="500040"/>
                <a:ext cx="2643120" cy="586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ka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ka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ka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000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000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/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oh S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500040" y="1028880"/>
                <a:ext cx="3571920" cy="53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ka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ka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ka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000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000000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4786200" y="1643040"/>
                <a:ext cx="3846600" cy="404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ka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ka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ika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oh S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755640" y="1197000"/>
                <a:ext cx="288936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untuk 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untuk 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untuk 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Object 9"/>
              <p:cNvSpPr txBox="1"/>
              <p:nvPr/>
            </p:nvSpPr>
            <p:spPr>
              <a:xfrm>
                <a:off x="250920" y="1628640"/>
                <a:ext cx="4287600" cy="359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±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G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a</m:t>
                                </m:r>
                              </m:lim>
                            </m:limLow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bila </m:t>
                        </m:r>
                        <m:r>
                          <m:t xml:space="preserve">F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1"/>
              <p:cNvSpPr txBox="1"/>
              <p:nvPr/>
            </p:nvSpPr>
            <p:spPr>
              <a:xfrm>
                <a:off x="324000" y="333360"/>
                <a:ext cx="82087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ila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dan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bilangan rii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Maka berlak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etentuan-ketentuan berikut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6"/>
              <p:cNvSpPr txBox="1"/>
              <p:nvPr/>
            </p:nvSpPr>
            <p:spPr>
              <a:xfrm>
                <a:off x="4643280" y="1557360"/>
                <a:ext cx="4032360" cy="29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a</m:t>
                                </m:r>
                              </m:lim>
                            </m:limLow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a</m:t>
                                </m:r>
                              </m:lim>
                            </m:limLow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bila </m:t>
                        </m:r>
                        <m:r>
                          <m:t xml:space="preserve">G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ad>
                          <m:deg>
                            <m:r>
                              <m:t xml:space="preserve">n</m:t>
                            </m:r>
                          </m:deg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n</m:t>
                            </m:r>
                          </m:deg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a</m:t>
                                </m:r>
                              </m:lim>
                            </m:limLow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n</m:t>
                            </m:r>
                          </m:deg>
                          <m:e>
                            <m:r>
                              <m:t xml:space="preserve">F</m:t>
                            </m:r>
                          </m:e>
                        </m:ra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bila </m:t>
                        </m:r>
                        <m:rad>
                          <m:deg>
                            <m:r>
                              <m:t xml:space="preserve">n</m:t>
                            </m:r>
                          </m:deg>
                          <m:e>
                            <m:r>
                              <m:t xml:space="preserve">F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rii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a</m:t>
                                </m:r>
                              </m:lim>
                            </m:limLow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1:48Z</dcterms:created>
  <dc:creator>abdul malik</dc:creator>
  <dc:description/>
  <dc:language>en-US</dc:language>
  <cp:lastModifiedBy>compaq</cp:lastModifiedBy>
  <dcterms:modified xsi:type="dcterms:W3CDTF">2013-10-04T03:25:23Z</dcterms:modified>
  <cp:revision>92</cp:revision>
  <dc:subject/>
  <dc:title>1. HIMPUNAN</dc:title>
</cp:coreProperties>
</file>