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1D9F-EDDE-4D07-8A39-2E9CEAFEC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A3B6-D415-48D6-8DEC-02B9AAF73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573E-249A-4C4F-97A3-E4BF2B59E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FE25-AC5D-4D0A-9B12-D145CA27C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6696-B274-412C-A1E8-F7311273A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9285-6017-485A-8840-4EFD65343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D4D6-B752-41CA-A5A4-D2BFF2063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03F3-0E25-4A5E-ADD5-257EC8C4B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A266-800E-4B16-A58F-33D2355A4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862B-3C7D-45E2-BC99-0811D3320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DA3E-AAE5-426C-93EE-BBD2C9579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21F1-B268-44C3-BBEC-F9C30ECF7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10A18-A2C2-4CDC-866E-DE0F6D8E05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549000"/>
            <a:ext cx="74901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4. LIM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9280" y="1699920"/>
            <a:ext cx="82090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ngertian Limit dan sifat-sifatny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orema Lim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Kontinuitas Fung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3" name="Object 6"/>
              <p:cNvSpPr txBox="1"/>
              <p:nvPr/>
            </p:nvSpPr>
            <p:spPr>
              <a:xfrm>
                <a:off x="885960" y="1433520"/>
                <a:ext cx="1568160" cy="357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r>
                              <m:t xml:space="preserve">1</m:t>
                            </m:r>
                          </m:lim>
                        </m:limLow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4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?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r>
                              <m:t xml:space="preserve">1</m:t>
                            </m:r>
                          </m:lim>
                        </m:limLow>
                        <m:f>
                          <m:num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?</m:t>
                        </m:r>
                      </m:e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r>
                              <m:t xml:space="preserve">2</m:t>
                            </m:r>
                          </m:lim>
                        </m:limLow>
                        <m:f>
                          <m:num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?</m:t>
                        </m:r>
                      </m:e>
                      <m:e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r>
                              <m:t xml:space="preserve">0</m:t>
                            </m:r>
                          </m:lim>
                        </m:limLow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x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t xml:space="preserve">?</m:t>
                        </m:r>
                      </m:e>
                      <m:e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r>
                              <m:t xml:space="preserve">0</m:t>
                            </m:r>
                          </m:lim>
                        </m:limLow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?</m:t>
                        </m:r>
                      </m:e>
                      <m:e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r>
                              <m:t xml:space="preserve">∞</m:t>
                            </m:r>
                          </m:lim>
                        </m:limLow>
                        <m:f>
                          <m:num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?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ntoh So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Kontinuitas Fungsi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Object 12"/>
              <p:cNvSpPr txBox="1"/>
              <p:nvPr/>
            </p:nvSpPr>
            <p:spPr>
              <a:xfrm>
                <a:off x="611280" y="1268280"/>
                <a:ext cx="6048360" cy="173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ebuah fungsi 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dikatakan </m:t>
                        </m:r>
                        <m:r>
                          <m:rPr>
                            <m:lit/>
                            <m:nor/>
                          </m:rPr>
                          <m:t xml:space="preserve">kontinu</m:t>
                        </m:r>
                        <m:r>
                          <m:rPr>
                            <m:lit/>
                            <m:nor/>
                          </m:rPr>
                          <m:t xml:space="preserve"> pada 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 bila</m:t>
                        </m:r>
                      </m:e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terdefinisi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r>
                              <m:t xml:space="preserve">a</m:t>
                            </m:r>
                          </m:lim>
                        </m:limLow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ad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r>
                              <m:t xml:space="preserve">a</m:t>
                            </m:r>
                          </m:lim>
                        </m:limLow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Object 16"/>
              <p:cNvSpPr txBox="1"/>
              <p:nvPr/>
            </p:nvSpPr>
            <p:spPr>
              <a:xfrm>
                <a:off x="547560" y="3213000"/>
                <a:ext cx="7329600" cy="15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efinisi Limit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dikatakan mempunyai limit 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 untuk </m:t>
                        </m:r>
                        <m:r>
                          <m:t xml:space="preserve">x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,bila limit kanan dan limi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kiri dari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adalah sama, yaitu sama dengan 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Atau dengan kata lain</m:t>
                        </m:r>
                      </m:e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+</m:t>
                                </m:r>
                              </m:sup>
                            </m:sSubSup>
                          </m:lim>
                        </m:limLow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−</m:t>
                                </m:r>
                              </m:sup>
                            </m:sSubSup>
                          </m:lim>
                        </m:limLow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⇒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lim>
                        </m:limLow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Object 18"/>
              <p:cNvSpPr txBox="1"/>
              <p:nvPr/>
            </p:nvSpPr>
            <p:spPr>
              <a:xfrm>
                <a:off x="611280" y="5124600"/>
                <a:ext cx="5545080" cy="12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sal,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eqAr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 bila 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≠</m:t>
                                </m:r>
                                <m:r>
                                  <m:t xml:space="preserve">0</m:t>
                                </m:r>
                              </m:e>
                              <m:e/>
                            </m:d>
                          </m:e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ontoh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Object 3"/>
              <p:cNvSpPr txBox="1"/>
              <p:nvPr/>
            </p:nvSpPr>
            <p:spPr>
              <a:xfrm>
                <a:off x="395280" y="1341360"/>
                <a:ext cx="8416800" cy="437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Bila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Buktikan bahwa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kontinu pada semua titik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aerah definisi / domain 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|</m:t>
                            </m:r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  <m:r>
                              <m:t xml:space="preserve">&lt;</m:t>
                            </m:r>
                            <m:r>
                              <m:t xml:space="preserve">x</m:t>
                            </m:r>
                            <m:r>
                              <m:t xml:space="preserve">&lt;</m:t>
                            </m:r>
                            <m:r>
                              <m:t xml:space="preserve">∞</m:t>
                            </m:r>
                          </m:e>
                        </m:d>
                      </m:e>
                      <m:e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Selidiki apakah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kontinu pada 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?</m:t>
                        </m:r>
                      </m:e>
                      <m:e>
                        <m:r>
                          <m:t xml:space="preserve">b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Selidiki apakah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kontinu pada </m:t>
                        </m:r>
                        <m:r>
                          <m:t xml:space="preserve">a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  <m:r>
                          <m:t xml:space="preserve">?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</m:e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r>
                              <m:t xml:space="preserve">a</m:t>
                            </m:r>
                          </m:lim>
                        </m:limLow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</m:e>
                      <m:e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Dengan cara yang sama, selidiki apakah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kontinu pada </m:t>
                        </m:r>
                        <m:r>
                          <m:t xml:space="preserve">b</m:t>
                        </m:r>
                        <m:r>
                          <m:t xml:space="preserve">&lt;</m:t>
                        </m:r>
                        <m:r>
                          <m:t xml:space="preserve">0</m:t>
                        </m:r>
                        <m:r>
                          <m:t xml:space="preserve">?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Apakah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kontinu pada 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 ?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Limit Fungsi Istimewa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Object 3"/>
              <p:cNvSpPr txBox="1"/>
              <p:nvPr/>
            </p:nvSpPr>
            <p:spPr>
              <a:xfrm>
                <a:off x="539640" y="1268280"/>
                <a:ext cx="3351240" cy="516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r>
                              <m:t xml:space="preserve">0</m:t>
                            </m:r>
                          </m:lim>
                        </m:limLow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=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r>
                              <m:t xml:space="preserve">0</m:t>
                            </m:r>
                          </m:lim>
                        </m:limLow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r>
                              <m:t xml:space="preserve">0</m:t>
                            </m:r>
                          </m:lim>
                        </m:limLow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=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r>
                              <m:t xml:space="preserve">0</m:t>
                            </m:r>
                          </m:lim>
                        </m:limLow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Contoh</m:t>
                        </m:r>
                        <m:r>
                          <m:t xml:space="preserve">:</m:t>
                        </m:r>
                      </m:e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r>
                              <m:t xml:space="preserve">0</m:t>
                            </m:r>
                          </m:lim>
                        </m:limLow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5</m:t>
                            </m:r>
                            <m:r>
                              <m:t xml:space="preserve">x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3</m:t>
                            </m:r>
                            <m:r>
                              <m:t xml:space="preserve">x</m:t>
                            </m:r>
                          </m:den>
                        </m:f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r>
                              <m:t xml:space="preserve">0</m:t>
                            </m:r>
                          </m:lim>
                        </m:limLow>
                        <m:f>
                          <m:num>
                            <m:r>
                              <m:t xml:space="preserve">x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</m:den>
                        </m:f>
                      </m:e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r>
                              <m:t xml:space="preserve">5</m:t>
                            </m:r>
                          </m:lim>
                        </m:limLow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4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  <m:r>
                              <m:t xml:space="preserve">)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Object 4"/>
              <p:cNvSpPr txBox="1"/>
              <p:nvPr/>
            </p:nvSpPr>
            <p:spPr>
              <a:xfrm>
                <a:off x="4716360" y="1341360"/>
                <a:ext cx="3756240" cy="397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Rumus Trigonometri:</m:t>
                        </m:r>
                      </m:e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cos x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sin 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x</m:t>
                        </m:r>
                      </m:e>
                      <m:e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</m:e>
                      <m:e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4" name="Object 3"/>
              <p:cNvSpPr txBox="1"/>
              <p:nvPr/>
            </p:nvSpPr>
            <p:spPr>
              <a:xfrm>
                <a:off x="395280" y="333360"/>
                <a:ext cx="6624720" cy="380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Untuk menentukan 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r>
                              <m:t xml:space="preserve">a</m:t>
                            </m:r>
                          </m:lim>
                        </m:limLow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dapat dilakukan dengan 3 cara</m:t>
                        </m:r>
                      </m:e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subtitusi langsung </m:t>
                        </m:r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Jika subtitusi langsung menghasilkan bentuk tak tentu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0</m:t>
                                </m:r>
                              </m:num>
                              <m:den>
                                <m:r>
                                  <m:t xml:space="preserve">0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tau 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r>
                              <m:t xml:space="preserve">a</m:t>
                            </m:r>
                          </m:lim>
                        </m:limLow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0</m:t>
                                </m:r>
                              </m:num>
                              <m:den>
                                <m:r>
                                  <m:t xml:space="preserve">0</m:t>
                                </m:r>
                              </m:den>
                            </m:f>
                          </m:e>
                        </m:d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maka perhitungan limit dilakukan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engan cara pemfaktoran atau rasionalisasi akar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Object 6"/>
              <p:cNvSpPr txBox="1"/>
              <p:nvPr/>
            </p:nvSpPr>
            <p:spPr>
              <a:xfrm>
                <a:off x="468360" y="3933720"/>
                <a:ext cx="5256000" cy="254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ntoh:</m:t>
                        </m:r>
                      </m:e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r>
                              <m:t xml:space="preserve">2</m:t>
                            </m:r>
                          </m:lim>
                        </m:limLow>
                        <m:f>
                          <m:num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                   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r>
                              <m:t xml:space="preserve">3</m:t>
                            </m:r>
                          </m:lim>
                        </m:limLow>
                        <m:f>
                          <m:num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9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6</m:t>
                                </m:r>
                              </m:e>
                            </m:rad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den>
                        </m:f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r>
                              <m:t xml:space="preserve">2</m:t>
                            </m:r>
                          </m:lim>
                        </m:limLow>
                        <m:f>
                          <m:num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8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           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r>
                              <m:t xml:space="preserve">2</m:t>
                            </m:r>
                          </m:lim>
                        </m:limLow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8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r>
                              <m:t xml:space="preserve">4</m:t>
                            </m:r>
                          </m:lim>
                        </m:limLow>
                        <m:f>
                          <m:num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8</m:t>
                            </m:r>
                          </m:num>
                          <m:den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806436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orema L`Hospit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Object 4"/>
              <p:cNvSpPr txBox="1"/>
              <p:nvPr/>
            </p:nvSpPr>
            <p:spPr>
              <a:xfrm>
                <a:off x="684360" y="907920"/>
                <a:ext cx="6696000" cy="356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Untuk menentukan nilai 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r>
                              <m:t xml:space="preserve">a</m:t>
                            </m:r>
                          </m:lim>
                        </m:limLow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yang menghasilkan bentuk tak tentu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0</m:t>
                                </m:r>
                              </m:num>
                              <m:den>
                                <m:r>
                                  <m:t xml:space="preserve">0</m:t>
                                </m:r>
                              </m:den>
                            </m:f>
                          </m:e>
                        </m:d>
                        <m:r>
                          <m:t xml:space="preserve">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apat digunakan teorema L`Hospital yaitu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r>
                              <m:t xml:space="preserve">a</m:t>
                            </m:r>
                          </m:lim>
                        </m:limLow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=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r>
                              <m:t xml:space="preserve">a</m:t>
                            </m:r>
                          </m:lim>
                        </m:limLow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 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g</m:t>
                            </m:r>
                            <m:r>
                              <m:t xml:space="preserve"> 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pabila nilai 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r>
                              <m:t xml:space="preserve">a</m:t>
                            </m:r>
                          </m:lim>
                        </m:limLow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 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g</m:t>
                            </m:r>
                            <m:r>
                              <m:t xml:space="preserve"> 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juga menghasilkan bentuk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0</m:t>
                                </m:r>
                              </m:num>
                              <m:den>
                                <m:r>
                                  <m:t xml:space="preserve">0</m:t>
                                </m:r>
                              </m:den>
                            </m:f>
                          </m:e>
                        </m:d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maka nilai 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r>
                              <m:t xml:space="preserve">a</m:t>
                            </m:r>
                          </m:lim>
                        </m:limLow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apat ditentukan dengan turunan kedua, yaitu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r>
                              <m:t xml:space="preserve">a</m:t>
                            </m:r>
                          </m:lim>
                        </m:limLow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=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r>
                              <m:t xml:space="preserve">a</m:t>
                            </m:r>
                          </m:lim>
                        </m:limLow>
                        <m:f>
                          <m:num>
                            <m:r>
                              <m:t xml:space="preserve">f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``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g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``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Object 6"/>
              <p:cNvSpPr txBox="1"/>
              <p:nvPr/>
            </p:nvSpPr>
            <p:spPr>
              <a:xfrm>
                <a:off x="900000" y="4149720"/>
                <a:ext cx="4017960" cy="230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ntoh:</m:t>
                        </m:r>
                      </m:e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r>
                              <m:t xml:space="preserve">2</m:t>
                            </m:r>
                          </m:lim>
                        </m:limLow>
                        <m:f>
                          <m:num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                   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r>
                              <m:t xml:space="preserve">1</m:t>
                            </m:r>
                          </m:lim>
                        </m:limLow>
                        <m:f>
                          <m:num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den>
                        </m:f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r>
                              <m:t xml:space="preserve">2</m:t>
                            </m:r>
                          </m:lim>
                        </m:limLow>
                        <m:f>
                          <m:num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8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           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r>
                              <m:t xml:space="preserve">0</m:t>
                            </m:r>
                          </m:lim>
                        </m:limLow>
                        <m:f>
                          <m:num>
                            <m:r>
                              <m:t xml:space="preserve">4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r>
                              <m:t xml:space="preserve">4</m:t>
                            </m:r>
                          </m:lim>
                        </m:limLow>
                        <m:f>
                          <m:num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8</m:t>
                            </m:r>
                          </m:num>
                          <m:den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Arial"/>
              </a:rPr>
              <a:t>TUGAS</a:t>
            </a:r>
            <a:br>
              <a:rPr sz="3200"/>
            </a:br>
            <a:r>
              <a:rPr b="0" lang="id-ID" sz="3200" spc="-1" strike="noStrike">
                <a:solidFill>
                  <a:srgbClr val="000000"/>
                </a:solidFill>
                <a:latin typeface="Arial"/>
              </a:rPr>
              <a:t>Jgn lupa tulis NAMA, NIM, K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500040" y="12859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1. Diketahui f(x)=2x-3 dan g(x)=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i="1" lang="en-GB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i="1" lang="id-ID" sz="2800" spc="-1" strike="noStrike">
                <a:solidFill>
                  <a:srgbClr val="000000"/>
                </a:solidFill>
                <a:latin typeface="Arial"/>
              </a:rPr>
              <a:t>2x-3. Tentukan (fᵒg)(x) dan (fᵒg)(2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2800" spc="-1" strike="noStrike">
                <a:solidFill>
                  <a:srgbClr val="000000"/>
                </a:solidFill>
                <a:latin typeface="Arial"/>
              </a:rPr>
              <a:t>2. f(x)=x+3 dan (fᵒg)(3)=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GB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id-ID" sz="2800" spc="-1" strike="noStrike">
                <a:solidFill>
                  <a:srgbClr val="000000"/>
                </a:solidFill>
                <a:latin typeface="Arial"/>
              </a:rPr>
              <a:t>+6x+7. Tentukan g(x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2800" spc="-1" strike="noStrike">
                <a:solidFill>
                  <a:srgbClr val="000000"/>
                </a:solidFill>
                <a:latin typeface="Arial"/>
              </a:rPr>
              <a:t>3. Tentukan nilai x yang memenuh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Object 6"/>
              <p:cNvSpPr txBox="1"/>
              <p:nvPr/>
            </p:nvSpPr>
            <p:spPr>
              <a:xfrm>
                <a:off x="5143680" y="1285920"/>
                <a:ext cx="2857320" cy="500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r>
                              <m:t xml:space="preserve">2</m:t>
                            </m:r>
                          </m:lim>
                        </m:limLow>
                        <m:f>
                          <m:num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        </m:t>
                        </m:r>
                      </m:e>
                      <m:e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r>
                              <m:t xml:space="preserve">2</m:t>
                            </m:r>
                          </m:lim>
                        </m:limLow>
                        <m:f>
                          <m:num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8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e>
                      <m:e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r>
                              <m:t xml:space="preserve">4</m:t>
                            </m:r>
                          </m:lim>
                        </m:limLow>
                        <m:f>
                          <m:num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8</m:t>
                            </m:r>
                          </m:num>
                          <m:den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den>
                        </m:f>
                      </m:e>
                      <m:e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r>
                              <m:t xml:space="preserve">1</m:t>
                            </m:r>
                          </m:lim>
                        </m:limLow>
                        <m:f>
                          <m:num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den>
                        </m:f>
                      </m:e>
                      <m:e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r>
                              <m:t xml:space="preserve">0</m:t>
                            </m:r>
                          </m:lim>
                        </m:limLow>
                        <m:f>
                          <m:num>
                            <m:r>
                              <m:t xml:space="preserve">4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Object 4"/>
              <p:cNvSpPr txBox="1"/>
              <p:nvPr/>
            </p:nvSpPr>
            <p:spPr>
              <a:xfrm>
                <a:off x="1000080" y="5500800"/>
                <a:ext cx="293688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rad>
                    <m:r>
                      <m:t xml:space="preserve">≥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11280" y="404280"/>
            <a:ext cx="8208720" cy="568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efinisi Limit Fung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" name="Object 6"/>
              <p:cNvSpPr txBox="1"/>
              <p:nvPr/>
            </p:nvSpPr>
            <p:spPr>
              <a:xfrm>
                <a:off x="468360" y="1197000"/>
                <a:ext cx="8209080" cy="417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ikatakan</m:t>
                        </m:r>
                        <m:r>
                          <m:rPr>
                            <m:lit/>
                            <m:nor/>
                          </m:rPr>
                          <m:t xml:space="preserve">mempunyai</m:t>
                        </m:r>
                        <m:r>
                          <m:rPr>
                            <m:lit/>
                            <m:nor/>
                          </m:rPr>
                          <m:t xml:space="preserve">limit</m:t>
                        </m:r>
                        <m:r>
                          <m:t xml:space="preserve">L</m:t>
                        </m:r>
                        <m:r>
                          <m:rPr>
                            <m:lit/>
                            <m:nor/>
                          </m:rPr>
                          <m:t xml:space="preserve">untuk </m:t>
                        </m:r>
                        <m:r>
                          <m:t xml:space="preserve">x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bila untuk setiap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bilangan </m:t>
                        </m:r>
                        <m:r>
                          <m:t xml:space="preserve">h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bagaimanapun kecilny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, dapat ditunjuk bilangan </m:t>
                        </m:r>
                        <m:r>
                          <m:t xml:space="preserve">δ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edemikian hingga untuk semua harga 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 yang memenuhi </m:t>
                        </m:r>
                        <m:r>
                          <m:t xml:space="preserve">0</m:t>
                        </m:r>
                        <m:r>
                          <m:t xml:space="preserve">&lt;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r>
                          <m:t xml:space="preserve">&lt;</m:t>
                        </m:r>
                        <m:r>
                          <m:t xml:space="preserve">δ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berlaku 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L</m:t>
                            </m:r>
                          </m:e>
                        </m:d>
                        <m:r>
                          <m:t xml:space="preserve">&lt;</m:t>
                        </m:r>
                        <m:r>
                          <m:t xml:space="preserve">h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ernyataan </m:t>
                        </m:r>
                        <m:r>
                          <m:t xml:space="preserve">0</m:t>
                        </m:r>
                        <m:r>
                          <m:t xml:space="preserve">&lt;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r>
                          <m:t xml:space="preserve">&lt;</m:t>
                        </m:r>
                        <m:r>
                          <m:t xml:space="preserve">δ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berarti untuk semua 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 yang memenuhi 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δ</m:t>
                        </m:r>
                        <m:r>
                          <m:t xml:space="preserve">&lt;</m:t>
                        </m:r>
                        <m:r>
                          <m:t xml:space="preserve">x</m:t>
                        </m:r>
                        <m:r>
                          <m:t xml:space="preserve">&lt;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δ</m:t>
                        </m:r>
                        <m:r>
                          <m:t xml:space="preserve">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Untuk </m:t>
                        </m:r>
                        <m:r>
                          <m:t xml:space="preserve">x</m:t>
                        </m:r>
                        <m:r>
                          <m:t xml:space="preserve">≠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mempunyai limit L untuk </m:t>
                        </m:r>
                        <m:r>
                          <m:t xml:space="preserve">x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ituliskan dengan </m:t>
                        </m:r>
                      </m:e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lim>
                        </m:limLow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361008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imit Ki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imit Kan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" name="Object 3"/>
              <p:cNvSpPr txBox="1"/>
              <p:nvPr/>
            </p:nvSpPr>
            <p:spPr>
              <a:xfrm>
                <a:off x="539640" y="692280"/>
                <a:ext cx="7920000" cy="18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pabila </m:t>
                        </m:r>
                        <m:r>
                          <m:t xml:space="preserve">x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didekati dari kiri atau ditulis </m:t>
                        </m:r>
                        <m:r>
                          <m:t xml:space="preserve">x</m:t>
                        </m:r>
                        <m:r>
                          <m:t xml:space="preserve">→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  <m:r>
                          <m:rPr>
                            <m:lit/>
                            <m:nor/>
                          </m:rPr>
                          <m:t xml:space="preserve">,maka limit dina-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makan limit kiri, dan bila harga limit fungsi misalnya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, maka dituliska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ebagai berikut:</m:t>
                        </m:r>
                      </m:e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−</m:t>
                                </m:r>
                              </m:sup>
                            </m:sSubSup>
                          </m:lim>
                        </m:limLow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 atau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" name="Object 10"/>
              <p:cNvSpPr txBox="1"/>
              <p:nvPr/>
            </p:nvSpPr>
            <p:spPr>
              <a:xfrm>
                <a:off x="539640" y="2925720"/>
                <a:ext cx="7920000" cy="17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pabila </m:t>
                        </m:r>
                        <m:r>
                          <m:t xml:space="preserve">x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didekati dari kanan atau ditulis </m:t>
                        </m:r>
                        <m:r>
                          <m:t xml:space="preserve">x</m:t>
                        </m:r>
                        <m:r>
                          <m:t xml:space="preserve">→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  <m:r>
                          <m:rPr>
                            <m:lit/>
                            <m:nor/>
                          </m:rPr>
                          <m:t xml:space="preserve">,maka limit dina-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makan limit kanan, dan bila harga limit fungsi misalnya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, maka dituliska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ebagai berikut:</m:t>
                        </m:r>
                      </m:e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+</m:t>
                                </m:r>
                              </m:sup>
                            </m:sSubSup>
                          </m:lim>
                        </m:limLow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 atau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" name="Object 13"/>
              <p:cNvSpPr txBox="1"/>
              <p:nvPr/>
            </p:nvSpPr>
            <p:spPr>
              <a:xfrm>
                <a:off x="550800" y="5229360"/>
                <a:ext cx="772488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dikatakan mempunyai limit 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 untuk </m:t>
                        </m:r>
                        <m:r>
                          <m:t xml:space="preserve">x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,bila limit kanan dan limi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kiri dari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adalah sama, yaitu sama dengan 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Atau dengan kata lain</m:t>
                        </m:r>
                      </m:e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+</m:t>
                                </m:r>
                              </m:sup>
                            </m:sSubSup>
                          </m:lim>
                        </m:limLow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−</m:t>
                                </m:r>
                              </m:sup>
                            </m:sSubSup>
                          </m:lim>
                        </m:limLow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⇒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lim>
                        </m:limLow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ntoh So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Object 4"/>
              <p:cNvSpPr txBox="1"/>
              <p:nvPr/>
            </p:nvSpPr>
            <p:spPr>
              <a:xfrm>
                <a:off x="857160" y="1047600"/>
                <a:ext cx="2214720" cy="533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</m:e>
                      <m:e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sSup>
                              <m:e>
                                <m:r>
                                  <m:t xml:space="preserve">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lim>
                        </m:limLow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</m:e>
                      <m:e>
                        <m:r>
                          <m:t xml:space="preserve">b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0000001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</m:e>
                      <m:e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sSup>
                              <m:e>
                                <m:r>
                                  <m:t xml:space="preserve">0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lim>
                        </m:limLow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</m:e>
                      <m:e>
                        <m:r>
                          <m:t xml:space="preserve">d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0000001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</m:e>
                      <m:e>
                        <m:r>
                          <m:t xml:space="preserve">e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</m:e>
                      <m:e/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</m:e>
                      <m:e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sSup>
                              <m:e>
                                <m:r>
                                  <m:t xml:space="preserve">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lim>
                        </m:limLow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</m:e>
                      <m:e>
                        <m:r>
                          <m:t xml:space="preserve">b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0000001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</m:e>
                      <m:e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sSup>
                              <m:e>
                                <m:r>
                                  <m:t xml:space="preserve">0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lim>
                        </m:limLow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</m:e>
                      <m:e>
                        <m:r>
                          <m:t xml:space="preserve">d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0000001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</m:e>
                      <m:e>
                        <m:r>
                          <m:t xml:space="preserve">e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ntoh So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Object 4"/>
              <p:cNvSpPr txBox="1"/>
              <p:nvPr/>
            </p:nvSpPr>
            <p:spPr>
              <a:xfrm>
                <a:off x="642960" y="920880"/>
                <a:ext cx="3357720" cy="571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t xml:space="preserve">,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jika</m:t>
                                  </m:r>
                                  <m:r>
                                    <m:t xml:space="preserve">x</m:t>
                                  </m:r>
                                  <m:r>
                                    <m:t xml:space="preserve">≥</m:t>
                                  </m:r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,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jika</m:t>
                                  </m:r>
                                  <m:r>
                                    <m:t xml:space="preserve">x</m:t>
                                  </m:r>
                                  <m:r>
                                    <m:t xml:space="preserve">&lt;</m:t>
                                  </m:r>
                                  <m:r>
                                    <m:t xml:space="preserve">0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sSup>
                              <m:e>
                                <m:r>
                                  <m:t xml:space="preserve">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lim>
                        </m:limLow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</m:e>
                      <m:e>
                        <m:r>
                          <m:t xml:space="preserve">b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0000001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</m:e>
                      <m:e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sSup>
                              <m:e>
                                <m:r>
                                  <m:t xml:space="preserve">0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lim>
                        </m:limLow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</m:e>
                      <m:e>
                        <m:r>
                          <m:t xml:space="preserve">d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0000001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</m:e>
                      <m:e>
                        <m:r>
                          <m:t xml:space="preserve">e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</m:e>
                      <m:e/>
                      <m:e>
                        <m:r>
                          <m:t xml:space="preserve">f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sSup>
                              <m:e>
                                <m:r>
                                  <m:t xml:space="preserve">1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lim>
                        </m:limLow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</m:e>
                      <m:e>
                        <m:r>
                          <m:t xml:space="preserve">g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sSup>
                              <m:e>
                                <m:r>
                                  <m:t xml:space="preserve">1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lim>
                        </m:limLow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ntoh So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Object 4"/>
              <p:cNvSpPr txBox="1"/>
              <p:nvPr/>
            </p:nvSpPr>
            <p:spPr>
              <a:xfrm>
                <a:off x="500040" y="500040"/>
                <a:ext cx="2643120" cy="586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t xml:space="preserve">,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jika</m:t>
                                  </m:r>
                                  <m:r>
                                    <m:t xml:space="preserve">x</m:t>
                                  </m:r>
                                  <m:r>
                                    <m:t xml:space="preserve">&gt;</m:t>
                                  </m:r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t xml:space="preserve">,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jika</m:t>
                                  </m:r>
                                  <m:r>
                                    <m:t xml:space="preserve">x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,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jika</m:t>
                                  </m:r>
                                  <m:r>
                                    <m:t xml:space="preserve">x</m:t>
                                  </m:r>
                                  <m:r>
                                    <m:t xml:space="preserve">&lt;</m:t>
                                  </m:r>
                                  <m:r>
                                    <m:t xml:space="preserve">0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sSup>
                              <m:e>
                                <m:r>
                                  <m:t xml:space="preserve">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lim>
                        </m:limLow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0000001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</m:e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sSup>
                              <m:e>
                                <m:r>
                                  <m:t xml:space="preserve">0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lim>
                        </m:limLow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0000001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</m:e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r>
                              <m:t xml:space="preserve">0</m:t>
                            </m:r>
                          </m:lim>
                        </m:limLow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</m:e>
                      <m:e/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sSup>
                              <m:e>
                                <m:r>
                                  <m:t xml:space="preserve">1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lim>
                        </m:limLow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</m:e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sSup>
                              <m:e>
                                <m:r>
                                  <m:t xml:space="preserve">1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lim>
                        </m:limLow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</m:e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r>
                              <m:t xml:space="preserve">1</m:t>
                            </m:r>
                          </m:lim>
                        </m:limLow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ntoh So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Object 4"/>
              <p:cNvSpPr txBox="1"/>
              <p:nvPr/>
            </p:nvSpPr>
            <p:spPr>
              <a:xfrm>
                <a:off x="500040" y="1028880"/>
                <a:ext cx="3571920" cy="534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t xml:space="preserve">,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jika</m:t>
                                  </m:r>
                                  <m:r>
                                    <m:t xml:space="preserve">x</m:t>
                                  </m:r>
                                  <m:r>
                                    <m:t xml:space="preserve">&gt;</m:t>
                                  </m:r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t xml:space="preserve">,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jika</m:t>
                                  </m:r>
                                  <m:r>
                                    <m:t xml:space="preserve">x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,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jika</m:t>
                                  </m:r>
                                  <m:r>
                                    <m:t xml:space="preserve">x</m:t>
                                  </m:r>
                                  <m:r>
                                    <m:t xml:space="preserve">&lt;</m:t>
                                  </m:r>
                                  <m:r>
                                    <m:t xml:space="preserve">0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sSup>
                              <m:e>
                                <m:r>
                                  <m:t xml:space="preserve">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lim>
                        </m:limLow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0000001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</m:e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sSup>
                              <m:e>
                                <m:r>
                                  <m:t xml:space="preserve">0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lim>
                        </m:limLow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0000001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</m:e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r>
                              <m:t xml:space="preserve">0</m:t>
                            </m:r>
                          </m:lim>
                        </m:limLow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Object 3"/>
              <p:cNvSpPr txBox="1"/>
              <p:nvPr/>
            </p:nvSpPr>
            <p:spPr>
              <a:xfrm>
                <a:off x="4786200" y="1643040"/>
                <a:ext cx="3846600" cy="404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t xml:space="preserve">,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jika</m:t>
                                  </m:r>
                                  <m:r>
                                    <m:t xml:space="preserve">x</m:t>
                                  </m:r>
                                  <m:r>
                                    <m:t xml:space="preserve">&gt;</m:t>
                                  </m:r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t xml:space="preserve">,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jika</m:t>
                                  </m:r>
                                  <m:r>
                                    <m:t xml:space="preserve">x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,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jika</m:t>
                                  </m:r>
                                  <m:r>
                                    <m:t xml:space="preserve">x</m:t>
                                  </m:r>
                                  <m:r>
                                    <m:t xml:space="preserve">&lt;</m:t>
                                  </m:r>
                                  <m:r>
                                    <m:t xml:space="preserve">0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sSup>
                              <m:e>
                                <m:r>
                                  <m:t xml:space="preserve">1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lim>
                        </m:limLow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</m:e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sSup>
                              <m:e>
                                <m:r>
                                  <m:t xml:space="preserve">1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lim>
                        </m:limLow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</m:e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r>
                              <m:t xml:space="preserve">1</m:t>
                            </m:r>
                          </m:lim>
                        </m:limLow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ntoh So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4"/>
              <p:cNvSpPr txBox="1"/>
              <p:nvPr/>
            </p:nvSpPr>
            <p:spPr>
              <a:xfrm>
                <a:off x="755640" y="1197000"/>
                <a:ext cx="2889360" cy="482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sSup>
                              <m:e>
                                <m:r>
                                  <m:t xml:space="preserve">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lim>
                        </m:limLow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?</m:t>
                        </m:r>
                      </m:e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sSup>
                              <m:e>
                                <m:r>
                                  <m:t xml:space="preserve">0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lim>
                        </m:limLow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?</m:t>
                        </m:r>
                      </m:e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r>
                              <m:t xml:space="preserve">0</m:t>
                            </m:r>
                          </m:lim>
                        </m:limLow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?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,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untuk </m:t>
                                  </m:r>
                                  <m:r>
                                    <m:t xml:space="preserve">x</m:t>
                                  </m:r>
                                  <m:r>
                                    <m:t xml:space="preserve">&lt;</m:t>
                                  </m:r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t xml:space="preserve">,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untuk </m:t>
                                  </m:r>
                                  <m:r>
                                    <m:t xml:space="preserve">x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t xml:space="preserve">,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untuk </m:t>
                                  </m:r>
                                  <m:r>
                                    <m:t xml:space="preserve">x</m:t>
                                  </m:r>
                                  <m:r>
                                    <m:t xml:space="preserve">&gt;</m:t>
                                  </m:r>
                                  <m:r>
                                    <m:t xml:space="preserve">0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sSup>
                              <m:e>
                                <m:r>
                                  <m:t xml:space="preserve">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lim>
                        </m:limLow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?</m:t>
                        </m:r>
                      </m:e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sSup>
                              <m:e>
                                <m:r>
                                  <m:t xml:space="preserve">0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lim>
                        </m:limLow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?</m:t>
                        </m:r>
                      </m:e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r>
                              <m:t xml:space="preserve">0</m:t>
                            </m:r>
                          </m:lim>
                        </m:limLow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?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0" name="Object 9"/>
              <p:cNvSpPr txBox="1"/>
              <p:nvPr/>
            </p:nvSpPr>
            <p:spPr>
              <a:xfrm>
                <a:off x="250920" y="1628640"/>
                <a:ext cx="4287600" cy="359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r>
                              <m:t xml:space="preserve">a</m:t>
                            </m:r>
                          </m:lim>
                        </m:limLow>
                        <m:r>
                          <m:rPr>
                            <m:lit/>
                            <m:nor/>
                          </m:rPr>
                          <m:t xml:space="preserve">k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k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r>
                              <m:t xml:space="preserve">a</m:t>
                            </m:r>
                          </m:lim>
                        </m:limLow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F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r>
                              <m:t xml:space="preserve">a</m:t>
                            </m:r>
                          </m:lim>
                        </m:limLow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±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r>
                              <m:t xml:space="preserve">a</m:t>
                            </m:r>
                          </m:lim>
                        </m:limLow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±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r>
                              <m:t xml:space="preserve">a</m:t>
                            </m:r>
                          </m:lim>
                        </m:limLow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±</m:t>
                        </m:r>
                        <m:r>
                          <m:t xml:space="preserve">G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r>
                              <m:t xml:space="preserve">a</m:t>
                            </m:r>
                          </m:lim>
                        </m:limLow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r>
                              <m:t xml:space="preserve">a</m:t>
                            </m:r>
                          </m:lim>
                        </m:limLow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r>
                              <m:t xml:space="preserve">a</m:t>
                            </m:r>
                          </m:lim>
                        </m:limLow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FG</m:t>
                        </m:r>
                      </m:e>
                      <m:e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r>
                              <m:t xml:space="preserve">a</m:t>
                            </m:r>
                          </m:lim>
                        </m:limLow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(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r>
                              <m:t xml:space="preserve">a</m:t>
                            </m:r>
                          </m:lim>
                        </m:limLow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e>
                      <m:e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r>
                              <m:t xml:space="preserve">a</m:t>
                            </m:r>
                          </m:lim>
                        </m:limLow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limLow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im</m:t>
                                </m:r>
                              </m:e>
                              <m:lim>
                                <m:r>
                                  <m:t xml:space="preserve">x</m:t>
                                </m:r>
                                <m:r>
                                  <m:t xml:space="preserve">→</m:t>
                                </m:r>
                                <m:r>
                                  <m:t xml:space="preserve">a</m:t>
                                </m:r>
                              </m:lim>
                            </m:limLow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bila </m:t>
                        </m:r>
                        <m:r>
                          <m:t xml:space="preserve">F</m:t>
                        </m:r>
                        <m:r>
                          <m:t xml:space="preserve">≠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11"/>
              <p:cNvSpPr txBox="1"/>
              <p:nvPr/>
            </p:nvSpPr>
            <p:spPr>
              <a:xfrm>
                <a:off x="324000" y="333360"/>
                <a:ext cx="8208720" cy="94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Bila 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r>
                              <m:t xml:space="preserve">a</m:t>
                            </m:r>
                          </m:lim>
                        </m:limLow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rPr>
                            <m:lit/>
                            <m:nor/>
                          </m:rPr>
                          <m:t xml:space="preserve"> dan 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r>
                              <m:t xml:space="preserve">a</m:t>
                            </m:r>
                          </m:lim>
                        </m:limLow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G</m:t>
                        </m:r>
                        <m:r>
                          <m:rPr>
                            <m:lit/>
                            <m:nor/>
                          </m:rPr>
                          <m:t xml:space="preserve">, 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 bilangan riil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Maka berlaku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ketentuan-ketentuan berikut: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16"/>
              <p:cNvSpPr txBox="1"/>
              <p:nvPr/>
            </p:nvSpPr>
            <p:spPr>
              <a:xfrm>
                <a:off x="4643280" y="1557360"/>
                <a:ext cx="4032360" cy="291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r>
                              <m:t xml:space="preserve">a</m:t>
                            </m:r>
                          </m:lim>
                        </m:limLow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limLow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im</m:t>
                                </m:r>
                              </m:e>
                              <m:lim>
                                <m:r>
                                  <m:t xml:space="preserve">x</m:t>
                                </m:r>
                                <m:r>
                                  <m:t xml:space="preserve">→</m:t>
                                </m:r>
                                <m:r>
                                  <m:t xml:space="preserve">a</m:t>
                                </m:r>
                              </m:lim>
                            </m:limLow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num>
                          <m:den>
                            <m:limLow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im</m:t>
                                </m:r>
                              </m:e>
                              <m:lim>
                                <m:r>
                                  <m:t xml:space="preserve">x</m:t>
                                </m:r>
                                <m:r>
                                  <m:t xml:space="preserve">→</m:t>
                                </m:r>
                                <m:r>
                                  <m:t xml:space="preserve">a</m:t>
                                </m:r>
                              </m:lim>
                            </m:limLow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G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bila </m:t>
                        </m:r>
                        <m:r>
                          <m:t xml:space="preserve">G</m:t>
                        </m:r>
                        <m:r>
                          <m:t xml:space="preserve">≠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r>
                              <m:t xml:space="preserve">a</m:t>
                            </m:r>
                          </m:lim>
                        </m:limLow>
                        <m:rad>
                          <m:deg>
                            <m:r>
                              <m:t xml:space="preserve">n</m:t>
                            </m:r>
                          </m:deg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rad>
                        <m:r>
                          <m:t xml:space="preserve">=</m:t>
                        </m:r>
                        <m:rad>
                          <m:deg>
                            <m:r>
                              <m:t xml:space="preserve">n</m:t>
                            </m:r>
                          </m:deg>
                          <m:e>
                            <m:limLow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im</m:t>
                                </m:r>
                              </m:e>
                              <m:lim>
                                <m:r>
                                  <m:t xml:space="preserve">x</m:t>
                                </m:r>
                                <m:r>
                                  <m:t xml:space="preserve">→</m:t>
                                </m:r>
                                <m:r>
                                  <m:t xml:space="preserve">a</m:t>
                                </m:r>
                              </m:lim>
                            </m:limLow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rad>
                        <m:r>
                          <m:t xml:space="preserve">=</m:t>
                        </m:r>
                        <m:rad>
                          <m:deg>
                            <m:r>
                              <m:t xml:space="preserve">n</m:t>
                            </m:r>
                          </m:deg>
                          <m:e>
                            <m:r>
                              <m:t xml:space="preserve">F</m:t>
                            </m:r>
                          </m:e>
                        </m:rad>
                        <m:r>
                          <m:t xml:space="preserve">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bila </m:t>
                        </m:r>
                        <m:rad>
                          <m:deg>
                            <m:r>
                              <m:t xml:space="preserve">n</m:t>
                            </m:r>
                          </m:deg>
                          <m:e>
                            <m:r>
                              <m:t xml:space="preserve">F</m:t>
                            </m:r>
                          </m:e>
                        </m:rad>
                        <m:r>
                          <m:rPr>
                            <m:lit/>
                            <m:nor/>
                          </m:rPr>
                          <m:t xml:space="preserve"> riil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r>
                              <m:t xml:space="preserve">a</m:t>
                            </m:r>
                          </m:lim>
                        </m:limLow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r>
                              <m:t xml:space="preserve">a</m:t>
                            </m:r>
                          </m:lim>
                        </m:limLow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F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r>
                              <m:t xml:space="preserve">a</m:t>
                            </m:r>
                          </m:lim>
                        </m:limLow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limLow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im</m:t>
                                </m:r>
                              </m:e>
                              <m:lim>
                                <m:r>
                                  <m:t xml:space="preserve">x</m:t>
                                </m:r>
                                <m:r>
                                  <m:t xml:space="preserve">→</m:t>
                                </m:r>
                                <m:r>
                                  <m:t xml:space="preserve">a</m:t>
                                </m:r>
                              </m:lim>
                            </m:limLow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F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7T14:11:48Z</dcterms:created>
  <dc:creator>abdul malik</dc:creator>
  <dc:description/>
  <dc:language>en-US</dc:language>
  <cp:lastModifiedBy>compaq</cp:lastModifiedBy>
  <dcterms:modified xsi:type="dcterms:W3CDTF">2013-10-04T03:25:23Z</dcterms:modified>
  <cp:revision>92</cp:revision>
  <dc:subject/>
  <dc:title>1. HIMPUNAN</dc:title>
</cp:coreProperties>
</file>