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sound001.wav" ContentType="audio/x-wav"/>
  <Override PartName="/ppt/media/image12.jpeg" ContentType="image/jpeg"/>
  <Override PartName="/ppt/media/image31.png" ContentType="image/png"/>
  <Override PartName="/ppt/media/image11.jpeg" ContentType="image/jpeg"/>
  <Override PartName="/ppt/media/image33.gif" ContentType="image/gif"/>
  <Override PartName="/ppt/media/image8.gif" ContentType="image/gif"/>
  <Override PartName="/ppt/media/image18.jpeg" ContentType="image/jpeg"/>
  <Override PartName="/ppt/media/image34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2D3A-55D1-4D7E-AFB4-2CA3BDB1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3E8-62DE-4A60-982E-DBC73F5C9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8DA-3D98-4BE3-9545-3B3CCBF0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A551-0459-45F6-B03F-37180C865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5204-0645-4143-9DC4-3855852A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A2B-299A-47E1-9274-78D7E71BE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B72-DA04-44BA-AF72-71452F70F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826-EB38-440C-A71C-18B028DC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40E-E3F6-4A14-B80B-24B3B9AE3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EE07-E15E-48E0-A1AA-CAE96616A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199C-0902-49A3-A71F-3C000352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7840-AAD4-4568-A137-F156BA27F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8C3C-1F3D-4BD7-8215-5549EA51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19A-A2AF-4323-A2A8-51E20DB8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298B-267F-4AB2-924F-596E914D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6A75-2226-4B5F-8C48-788F34A3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FB5C-5CBB-4AE8-BD48-672A4968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660-2F37-48D7-B14A-568103009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7CC6-E1AB-4A2A-96E3-C5B1278F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5509-7A80-48B1-8001-99340F5C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CD16-1FF7-45EF-8D54-264B21E0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4D5-E8A9-4922-9EDD-363750F78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DDFC-54B8-4047-A6FB-F68F5E229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323-CC84-4332-8875-99AB7F77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0B85-ECED-42B9-835F-D254FC25B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4854-C1D9-4446-80E2-B3F62D462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02E-9493-4AED-9F21-2C7DEA46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231-EE4F-444A-930A-6C436A1A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707E-54DD-4F66-938C-09DDB9DB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526-FB86-4C24-B178-0C60CCCD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1A54-77A9-4BB7-82CF-7350E9A7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BA0-F0D2-4A2A-AC9D-33D526E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770-0DDC-400F-893E-3E888F3C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41A-A1FA-44CF-9024-910697C6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838-D579-41CC-821F-F1D8D0C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ACC-AF2D-4F36-92F1-22FE0364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9DB-6AE8-4FA9-9204-05704B4E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B0A-0F14-4ECD-AB8E-7F26802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D70-EAC9-4601-B496-8586136D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130-7E39-4027-B0A4-E97D2E1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3ED-9DD9-47A1-B890-7E99FA1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E0C-5DEC-4708-A444-531E6127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754-D5E3-4DB9-9284-216A2AE8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1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11280" y="198900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800" spc="-1" strike="noStrike">
                <a:solidFill>
                  <a:srgbClr val="ffffff"/>
                </a:solidFill>
                <a:latin typeface="Comic Sans MS"/>
              </a:rPr>
              <a:t>SYMfON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800" spc="-1" strike="noStrike">
                <a:solidFill>
                  <a:srgbClr val="ffffff"/>
                </a:solidFill>
                <a:latin typeface="Comic Sans MS"/>
              </a:rPr>
              <a:t>IN ‘</a:t>
            </a:r>
            <a:r>
              <a:rPr b="1" i="1" lang="nl-BE" sz="8800" spc="-1" strike="noStrike">
                <a:solidFill>
                  <a:srgbClr val="ffffff"/>
                </a:solidFill>
                <a:latin typeface="Comic Sans MS"/>
              </a:rPr>
              <a:t>T W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6877080" y="5661000"/>
            <a:ext cx="1890720" cy="94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b2b2b2"/>
                </a:solidFill>
                <a:latin typeface="Comic Sans MS"/>
              </a:rPr>
              <a:t>Niet klik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osa blanca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vegyesvirag-372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anff_Nemzeti_Park-US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Jegesmedvebocsok_a_Wapusk_Nemzeti_Parkban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tel-03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!cid_8D4E8D45ACF542B1A9FD7F3370F6D51C@Laptop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vajci_feher_juhaszkutya_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2" descr="hovirag-006"/>
          <p:cNvPicPr/>
          <p:nvPr/>
        </p:nvPicPr>
        <p:blipFill>
          <a:blip r:embed="rId1"/>
          <a:stretch/>
        </p:blipFill>
        <p:spPr>
          <a:xfrm>
            <a:off x="0" y="0"/>
            <a:ext cx="932508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vizimadar-12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vegyesvirag-334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vegyesvirag-336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eher_csini"/>
          <p:cNvPicPr/>
          <p:nvPr/>
        </p:nvPicPr>
        <p:blipFill>
          <a:blip r:embed="rId1"/>
          <a:stretch/>
        </p:blipFill>
        <p:spPr>
          <a:xfrm>
            <a:off x="0" y="0"/>
            <a:ext cx="954072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eskuvoi_dekoracio_1"/>
          <p:cNvPicPr/>
          <p:nvPr/>
        </p:nvPicPr>
        <p:blipFill>
          <a:blip r:embed="rId1"/>
          <a:stretch/>
        </p:blipFill>
        <p:spPr>
          <a:xfrm>
            <a:off x="-181080" y="-243000"/>
            <a:ext cx="9577440" cy="741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rozsa-174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Jostedalsbreen-gleccser-Norvégi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Micó-a_félperzsa_cica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orchidea-086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SCN46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43280" y="1916280"/>
            <a:ext cx="419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4"/>
          <p:cNvPicPr/>
          <p:nvPr/>
        </p:nvPicPr>
        <p:blipFill>
          <a:blip r:embed="rId2"/>
          <a:stretch/>
        </p:blipFill>
        <p:spPr>
          <a:xfrm>
            <a:off x="6659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4"/>
          <p:cNvPicPr/>
          <p:nvPr/>
        </p:nvPicPr>
        <p:blipFill>
          <a:blip r:embed="rId3"/>
          <a:stretch/>
        </p:blipFill>
        <p:spPr>
          <a:xfrm>
            <a:off x="1547640" y="6896160"/>
            <a:ext cx="503280" cy="26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4"/>
          <p:cNvPicPr/>
          <p:nvPr/>
        </p:nvPicPr>
        <p:blipFill>
          <a:blip r:embed="rId4"/>
          <a:stretch/>
        </p:blipFill>
        <p:spPr>
          <a:xfrm>
            <a:off x="4211640" y="6858000"/>
            <a:ext cx="42228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4"/>
          <p:cNvPicPr/>
          <p:nvPr/>
        </p:nvPicPr>
        <p:blipFill>
          <a:blip r:embed="rId5"/>
          <a:stretch/>
        </p:blipFill>
        <p:spPr>
          <a:xfrm>
            <a:off x="2700360" y="6858000"/>
            <a:ext cx="42228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4"/>
          <p:cNvPicPr/>
          <p:nvPr/>
        </p:nvPicPr>
        <p:blipFill>
          <a:blip r:embed="rId6"/>
          <a:stretch/>
        </p:blipFill>
        <p:spPr>
          <a:xfrm>
            <a:off x="8244000" y="6858000"/>
            <a:ext cx="43164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"/>
          <p:cNvPicPr/>
          <p:nvPr/>
        </p:nvPicPr>
        <p:blipFill>
          <a:blip r:embed="rId7"/>
          <a:stretch/>
        </p:blipFill>
        <p:spPr>
          <a:xfrm>
            <a:off x="5508720" y="6858000"/>
            <a:ext cx="422280" cy="28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"/>
          <p:cNvPicPr/>
          <p:nvPr/>
        </p:nvPicPr>
        <p:blipFill>
          <a:blip r:embed="rId8"/>
          <a:stretch/>
        </p:blipFill>
        <p:spPr>
          <a:xfrm>
            <a:off x="826920" y="6858000"/>
            <a:ext cx="349560" cy="2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4"/>
          <p:cNvPicPr/>
          <p:nvPr/>
        </p:nvPicPr>
        <p:blipFill>
          <a:blip r:embed="rId9"/>
          <a:stretch/>
        </p:blipFill>
        <p:spPr>
          <a:xfrm>
            <a:off x="327672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4"/>
          <p:cNvPicPr/>
          <p:nvPr/>
        </p:nvPicPr>
        <p:blipFill>
          <a:blip r:embed="rId10"/>
          <a:stretch/>
        </p:blipFill>
        <p:spPr>
          <a:xfrm>
            <a:off x="464328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"/>
          <p:cNvPicPr/>
          <p:nvPr/>
        </p:nvPicPr>
        <p:blipFill>
          <a:blip r:embed="rId11"/>
          <a:stretch/>
        </p:blipFill>
        <p:spPr>
          <a:xfrm>
            <a:off x="7093080" y="685800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4"/>
          <p:cNvPicPr/>
          <p:nvPr/>
        </p:nvPicPr>
        <p:blipFill>
          <a:blip r:embed="rId12"/>
          <a:stretch/>
        </p:blipFill>
        <p:spPr>
          <a:xfrm>
            <a:off x="5003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4"/>
          <p:cNvPicPr/>
          <p:nvPr/>
        </p:nvPicPr>
        <p:blipFill>
          <a:blip r:embed="rId13"/>
          <a:stretch/>
        </p:blipFill>
        <p:spPr>
          <a:xfrm>
            <a:off x="1979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4"/>
          <p:cNvPicPr/>
          <p:nvPr/>
        </p:nvPicPr>
        <p:blipFill>
          <a:blip r:embed="rId14"/>
          <a:stretch/>
        </p:blipFill>
        <p:spPr>
          <a:xfrm>
            <a:off x="586728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4"/>
          <p:cNvPicPr/>
          <p:nvPr/>
        </p:nvPicPr>
        <p:blipFill>
          <a:blip r:embed="rId15"/>
          <a:stretch/>
        </p:blipFill>
        <p:spPr>
          <a:xfrm>
            <a:off x="7451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4"/>
          <p:cNvPicPr/>
          <p:nvPr/>
        </p:nvPicPr>
        <p:blipFill>
          <a:blip r:embed="rId16"/>
          <a:stretch/>
        </p:blipFill>
        <p:spPr>
          <a:xfrm>
            <a:off x="0" y="685800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4"/>
          <p:cNvPicPr/>
          <p:nvPr/>
        </p:nvPicPr>
        <p:blipFill>
          <a:blip r:embed="rId17"/>
          <a:stretch/>
        </p:blipFill>
        <p:spPr>
          <a:xfrm>
            <a:off x="-360360" y="616572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4"/>
          <p:cNvPicPr/>
          <p:nvPr/>
        </p:nvPicPr>
        <p:blipFill>
          <a:blip r:embed="rId18"/>
          <a:stretch/>
        </p:blipFill>
        <p:spPr>
          <a:xfrm>
            <a:off x="8783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4"/>
          <p:cNvPicPr/>
          <p:nvPr/>
        </p:nvPicPr>
        <p:blipFill>
          <a:blip r:embed="rId19"/>
          <a:stretch/>
        </p:blipFill>
        <p:spPr>
          <a:xfrm>
            <a:off x="46836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4"/>
          <p:cNvPicPr/>
          <p:nvPr/>
        </p:nvPicPr>
        <p:blipFill>
          <a:blip r:embed="rId20"/>
          <a:stretch/>
        </p:blipFill>
        <p:spPr>
          <a:xfrm>
            <a:off x="3635280" y="6858000"/>
            <a:ext cx="360360" cy="2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3 -1.02312 C -0.05001 -0.9926 -0.05869 -0.96208 -0.05556 -0.93456 C -0.05244 -0.90659 -0.02067 -0.89248 -0.02223 -0.85595 C -0.02379 -0.81942 -0.05869 -0.75907 -0.06511 -0.71445 C -0.07153 -0.66982 -0.06858 -0.62867 -0.06042 -0.58751 C -0.05226 -0.54636 -0.02101 -0.50474 -0.01598 -0.46728 C -0.01094 -0.42936 -0.03004 -0.4037 -0.03022 -0.36138 C -0.03039 -0.31907 -0.02258 -0.27352 -0.01754 -0.21341 C -0.01251 -0.15329 -0.00261 -0.0363 -6.38889E-006 -2.31214E-006 E">
                                      <p:cBhvr>
                                        <p:cTn id="3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333 -1.01366 C 0.04514 -0.97917 0.05694 -0.94468 0.05399 -0.90579 C 0.05104 -0.8669 0.02083 -0.8206 0.0158 -0.78079 C 0.01076 -0.74097 0.01823 -0.70625 0.02378 -0.66667 C 0.02934 -0.62709 0.05573 -0.59375 0.04913 -0.54375 C 0.04253 -0.49375 -0.0033 -0.41783 -0.01597 -0.36597 C -0.02865 -0.31412 -0.02865 -0.28125 -0.02708 -0.23264 C -0.02552 -0.18403 -0.01094 -0.11273 -0.00643 -0.07408 C -0.00191 -0.03542 -0.00104 -0.01783 1.66667E-006 2.59259E-006 E">
                                      <p:cBhvr>
                                        <p:cTn id="3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42 -0.99492 C -0.04357 -0.94752 -0.05295 -0.89989 -0.05 -0.85757 C -0.04704 -0.81526 -0.0177 -0.77757 -0.01666 -0.74127 C -0.01562 -0.70497 -0.04218 -0.67422 -0.04357 -0.63977 C -0.04496 -0.60532 -0.02326 -0.57711 -0.02465 -0.53411 C -0.02604 -0.4911 -0.04809 -0.43307 -0.05156 -0.38197 C -0.05503 -0.33087 -0.05382 -0.29226 -0.04531 -0.22775 C -0.0368 -0.16324 -0.0085 -0.03399 -0.00086 0.00485 E">
                                      <p:cBhvr>
                                        <p:cTn id="3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552 -1.0104 C 0.00677 -0.96647 -0.01181 -0.92254 -0.01424 -0.8793 C -0.01667 -0.83607 0.00243 -0.79306 0.01111 -0.75052 C 0.01979 -0.70797 0.03784 -0.66728 0.03819 -0.62358 C 0.03854 -0.57988 0.0151 -0.52878 0.01267 -0.48832 C 0.01024 -0.44786 0.02639 -0.42358 0.02378 -0.38057 C 0.02118 -0.33757 0.00087 -0.29364 -0.00313 -0.23029 C -0.00712 -0.16693 -0.00365 -0.08346 3.61111E-006 6.93642E-007 E">
                                      <p:cBhvr>
                                        <p:cTn id="3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1441 -1.00741 C 0.00226 -0.96227 -0.00989 -0.9169 -0.00937 -0.88264 C -0.00885 -0.84838 0.01701 -0.84074 0.01754 -0.80232 C 0.01806 -0.76389 -0.00226 -0.7125 -0.00625 -0.65209 C -0.01024 -0.59121 -0.01319 -0.49954 -0.00625 -0.4382 C 0.0007 -0.37709 0.03316 -0.33496 0.03507 -0.2838 C 0.03698 -0.23264 0.01076 -0.17847 0.00486 -0.13125 C -0.00104 -0.08403 0.00052 -0.02107 -8.33333E-007 2.59259E-006 E">
                                      <p:cBhvr>
                                        <p:cTn id="40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1.00532 C -0.01528 -0.97477 -0.02274 -0.94398 -0.02222 -0.925 C -0.0217 -0.90602 -0.00347 -0.91736 -0.00469 -0.8912 C -0.0059 -0.86481 -0.0184 -0.82917 -0.03003 -0.76829 C -0.04167 -0.70833 -0.07691 -0.59259 -0.07448 -0.52917 C -0.07205 -0.46574 -0.01875 -0.44097 -0.0158 -0.38727 C -0.01285 -0.33356 -0.05972 -0.27199 -0.05712 -0.20764 C -0.05451 -0.14282 -0.00972 -0.03426 -8.33333E-007 -3.7037E-007 E">
                                      <p:cBhvr>
                                        <p:cTn id="42" dur="29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8055 -1.02593 C -0.06892 -0.98658 -0.05711 -0.94722 -0.05954 -0.89884 C -0.06197 -0.85047 -0.0927 -0.78634 -0.09513 -0.73542 C -0.09756 -0.68449 -0.08333 -0.64329 -0.07413 -0.59352 C -0.06492 -0.54375 -0.04131 -0.4838 -0.04027 -0.43658 C -0.03923 -0.38935 -0.06909 -0.35301 -0.0677 -0.30972 C -0.06631 -0.26644 -0.0434 -0.22801 -0.03211 -0.17639 C -0.02083 -0.12477 -0.00538 -0.02894 8.61111E-006 -1.85185E-006 E">
                                      <p:cBhvr>
                                        <p:cTn id="44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441 -1.02384 C -0.01666 -1.0243 -0.01892 -1.02476 -0.01441 -1.00671 C -0.00989 -0.98842 0.01337 -0.94953 0.01302 -0.91412 C 0.01268 -0.8787 -0.00729 -0.83055 -0.01614 -0.79398 C -0.025 -0.75717 -0.04184 -0.72476 -0.04028 -0.6949 C -0.03871 -0.66504 -0.01475 -0.63125 -0.00642 -0.61504 C 0.00191 -0.59884 0.01111 -0.61643 0.00972 -0.59791 C 0.00834 -0.57939 -0.01093 -0.53541 -0.01441 -0.50324 C -0.01788 -0.47106 -0.0151 -0.45092 -0.01128 -0.40439 C -0.00746 -0.3581 0.01198 -0.26851 0.00816 -0.22407 C 0.00434 -0.17963 -0.03246 -0.175 -0.03385 -0.13773 C -0.03524 -0.10046 -0.01771 -0.05023 8.67362E-019 -1.85185E-006 E">
                                      <p:cBhvr>
                                        <p:cTn id="46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14357 -1.00648 C 0.15451 -0.9743 0.16545 -0.94212 0.16458 -0.91388 C 0.16371 -0.88564 0.14895 -0.8662 0.13871 -0.83657 C 0.12847 -0.80717 0.10451 -0.78564 0.10312 -0.73773 C 0.10173 -0.68981 0.13263 -0.60161 0.13055 -0.5486 C 0.12847 -0.49536 0.10295 -0.46666 0.09027 -0.41944 C 0.0776 -0.37245 0.07882 -0.31249 0.05486 -0.26458 C 0.0309 -0.21666 -0.0441 -0.17523 -0.0533 -0.13124 C -0.0625 -0.08726 -0.03125 -0.04374 2.77778E-006 5.18519E-006 E">
                                      <p:cBhvr>
                                        <p:cTn id="4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3212 -0.92222 C 0.12153 -0.89652 0.11111 -0.87037 0.10972 -0.83634 C 0.10816 -0.80208 0.12292 -0.7618 0.1224 -0.71782 C 0.12205 -0.67384 0.10504 -0.62754 0.10643 -0.57152 C 0.10781 -0.51597 0.13854 -0.43657 0.13056 -0.38263 C 0.1224 -0.32824 0.07465 -0.29444 0.05799 -0.24699 C 0.04132 -0.19953 0.04028 -0.13958 0.03056 -0.09861 C 0.02084 -0.05717 0.01042 -0.02847 2.77778E-007 0.00024 E">
                                      <p:cBhvr>
                                        <p:cTn id="50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01719 -1.01968 C -0.02361 -0.98588 -0.03004 -0.95209 -0.02847 -0.91852 C -0.02691 -0.88496 -0.01198 -0.85255 -0.00747 -0.81783 C -0.00295 -0.78287 -0.00018 -0.74838 -0.00104 -0.70996 C -0.00191 -0.67153 -0.00799 -0.62269 -0.01233 -0.58774 C -0.01667 -0.55255 -0.02448 -0.53912 -0.02691 -0.49931 C -0.02934 -0.45949 -0.03091 -0.39815 -0.02691 -0.34862 C -0.02292 -0.29908 -0.01094 -0.24422 -0.00261 -0.20255 C 0.00573 -0.16112 0.02257 -0.13311 0.02309 -0.09931 C 0.02361 -0.06551 0.01198 -0.03287 0.00052 -0.00024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2413 -1.01297 C 0.01163 -0.97339 -0.00069 -0.9338 -0.00156 -0.89931 C -0.00243 -0.86436 0.00695 -0.84376 0.01927 -0.80441 C 0.0316 -0.76505 0.07049 -0.71667 0.07257 -0.66251 C 0.07465 -0.60834 0.04115 -0.52362 0.03229 -0.47964 C 0.02344 -0.43566 0.01615 -0.43589 0.01927 -0.39792 C 0.0224 -0.35996 0.04653 -0.28843 0.05156 -0.25163 C 0.0566 -0.21482 0.05781 -0.20441 0.05 -0.1764 C 0.04219 -0.14862 0.01285 -0.10695 0.00486 -0.08403 C -0.00312 -0.06112 0.00243 -0.05255 0.00156 -0.03866 C 0.0007 -0.02478 -5.55556E-007 -0.00579 -5.55556E-007 -7.03704E-006 E">
                                      <p:cBhvr>
                                        <p:cTn id="54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385 -1.02362 C -0.14566 -0.98519 -0.15729 -0.94654 -0.14514 -0.89237 C -0.13299 -0.8382 -0.07344 -0.75904 -0.06128 -0.69885 C -0.04913 -0.63867 -0.06215 -0.58751 -0.07257 -0.53126 C -0.08299 -0.47501 -0.12031 -0.41413 -0.12413 -0.36135 C -0.12795 -0.30857 -0.11076 -0.26066 -0.09514 -0.21506 C -0.07951 -0.16945 -0.04635 -0.12408 -0.03055 -0.0882 C -0.01476 -0.05232 -0.00746 -0.02617 -5.55556E-007 -5.18519E-006 E">
                                      <p:cBhvr>
                                        <p:cTn id="56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14531 -1.02153 C -0.15156 -0.99838 -0.15781 -0.975 -0.1533 -0.93982 C -0.14879 -0.90463 -0.12622 -0.85394 -0.11788 -0.81065 C -0.10955 -0.76736 -0.09983 -0.71806 -0.1033 -0.6794 C -0.10677 -0.64074 -0.12934 -0.61574 -0.13872 -0.57847 C -0.14809 -0.5412 -0.16233 -0.49954 -0.15972 -0.45579 C -0.15712 -0.41204 -0.1349 -0.35579 -0.12274 -0.31597 C -0.11059 -0.27616 -0.10538 -0.24468 -0.08715 -0.21713 C -0.06892 -0.18958 -0.0276 -0.18657 -0.01302 -0.15046 C 0.00156 -0.11435 0.00069 -0.05718 -8.33333E-007 -3.7037E-006 E">
                                      <p:cBhvr>
                                        <p:cTn id="5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7257 -1.00209 C 0.06267 -0.97477 0.05277 -0.94746 0.05486 -0.91621 C 0.05694 -0.88496 0.07378 -0.85371 0.08541 -0.81505 C 0.09705 -0.77686 0.12569 -0.72663 0.12413 -0.68612 C 0.12257 -0.64538 0.09548 -0.61204 0.07569 -0.56991 C 0.0559 -0.52801 0.0151 -0.46876 0.00486 -0.43426 C -0.00539 -0.39977 0.00798 -0.3963 0.01441 -0.36343 C 0.02083 -0.33079 0.03489 -0.27269 0.04357 -0.23889 C 0.05225 -0.2051 0.06857 -0.19723 0.06614 -0.16158 C 0.06371 -0.12547 0.03993 -0.05047 0.02899 -0.02362 C 0.01805 0.00324 0.00486 -0.00463 4.72222E-006 -8.88889E-006 E">
                                      <p:cBhvr>
                                        <p:cTn id="60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2083 -1.01505 C 0.10417 -0.97014 0.08767 -0.925 0.09028 -0.8838 C 0.09288 -0.84259 0.1474 -0.81528 0.13698 -0.76759 C 0.12656 -0.71991 0.04878 -0.64653 0.02726 -0.59769 C 0.00573 -0.54884 -0.00417 -0.53032 0.00799 -0.47546 C 0.02014 -0.42014 0.10139 -0.34583 0.1 -0.26667 C 0.09861 -0.1875 0.01632 -0.04444 -5.55556E-007 -3.7037E-006 E">
                                      <p:cBhvr>
                                        <p:cTn id="62" dur="39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3541 -1.02361 C 0.02621 -0.98681 0.01718 -0.95 0.02743 -0.90533 C 0.03767 -0.86065 0.0835 -0.79422 0.0967 -0.75486 C 0.10989 -0.71551 0.121 -0.71852 0.10625 -0.66875 C 0.09149 -0.61898 0.02118 -0.53264 0.00798 -0.45602 C -0.00539 -0.3794 0.02708 -0.28449 0.02586 -0.20857 C 0.0243 -0.13264 0.01215 -0.06644 2.22222E-006 4.81481E-006 E">
                                      <p:cBhvr>
                                        <p:cTn id="6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rosa blanca"/>
          <p:cNvPicPr/>
          <p:nvPr/>
        </p:nvPicPr>
        <p:blipFill>
          <a:blip r:embed="rId2"/>
          <a:stretch/>
        </p:blipFill>
        <p:spPr>
          <a:xfrm>
            <a:off x="-23760" y="-237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116000" y="314172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Tot nog es</a:t>
            </a:r>
            <a:r>
              <a:rPr b="1" i="1" lang="fr-BE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hu-HU" sz="54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estrella2"/>
          <p:cNvPicPr/>
          <p:nvPr/>
        </p:nvPicPr>
        <p:blipFill>
          <a:blip r:embed="rId3"/>
          <a:stretch/>
        </p:blipFill>
        <p:spPr>
          <a:xfrm>
            <a:off x="3564000" y="47628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strella2"/>
          <p:cNvPicPr/>
          <p:nvPr/>
        </p:nvPicPr>
        <p:blipFill>
          <a:blip r:embed="rId4"/>
          <a:stretch/>
        </p:blipFill>
        <p:spPr>
          <a:xfrm>
            <a:off x="7740720" y="105264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estrella2"/>
          <p:cNvPicPr/>
          <p:nvPr/>
        </p:nvPicPr>
        <p:blipFill>
          <a:blip r:embed="rId5"/>
          <a:stretch/>
        </p:blipFill>
        <p:spPr>
          <a:xfrm>
            <a:off x="7812000" y="558972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strella2"/>
          <p:cNvPicPr/>
          <p:nvPr/>
        </p:nvPicPr>
        <p:blipFill>
          <a:blip r:embed="rId6"/>
          <a:stretch/>
        </p:blipFill>
        <p:spPr>
          <a:xfrm>
            <a:off x="324000" y="5157720"/>
            <a:ext cx="828360" cy="8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strella2"/>
          <p:cNvPicPr/>
          <p:nvPr/>
        </p:nvPicPr>
        <p:blipFill>
          <a:blip r:embed="rId7"/>
          <a:stretch/>
        </p:blipFill>
        <p:spPr>
          <a:xfrm>
            <a:off x="324000" y="189000"/>
            <a:ext cx="828360" cy="79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7"/>
          <p:cNvSpPr/>
          <p:nvPr/>
        </p:nvSpPr>
        <p:spPr>
          <a:xfrm>
            <a:off x="2916360" y="52293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fbeelding 11" descr="ijsbeertje.GIF"/>
          <p:cNvPicPr/>
          <p:nvPr/>
        </p:nvPicPr>
        <p:blipFill>
          <a:blip r:embed="rId8"/>
          <a:stretch/>
        </p:blipFill>
        <p:spPr>
          <a:xfrm>
            <a:off x="5214960" y="4567320"/>
            <a:ext cx="214308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3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acska-084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tel-059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liliom-085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_ungfraujoch%20Image%20Gallery_JJ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!cid_8D4E8D45ACF542B1A9FD7F3370F6D51C@Laptop"/>
          <p:cNvPicPr/>
          <p:nvPr/>
        </p:nvPicPr>
        <p:blipFill>
          <a:blip r:embed="rId2"/>
          <a:stretch/>
        </p:blipFill>
        <p:spPr>
          <a:xfrm>
            <a:off x="0" y="836640"/>
            <a:ext cx="294336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!cid_8173380D855C41EEAC90032AAD5E674F@LT200701"/>
          <p:cNvPicPr/>
          <p:nvPr/>
        </p:nvPicPr>
        <p:blipFill>
          <a:blip r:embed="rId3"/>
          <a:stretch/>
        </p:blipFill>
        <p:spPr>
          <a:xfrm>
            <a:off x="2843280" y="5950080"/>
            <a:ext cx="160164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cska-16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3:08:50Z</dcterms:created>
  <dc:creator/>
  <dc:description/>
  <dc:language>en-US</dc:language>
  <cp:lastModifiedBy>XXODD</cp:lastModifiedBy>
  <dcterms:modified xsi:type="dcterms:W3CDTF">2009-07-21T12:55:43Z</dcterms:modified>
  <cp:revision>60</cp:revision>
  <dc:subject/>
  <dc:title>Fehér szimfónia</dc:title>
</cp:coreProperties>
</file>