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0D0-6940-407E-A579-2679B475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A74-26B2-4D61-9C4B-F58484F4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538-A2FE-40B2-B246-30D87445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66C-ACA3-4401-BE97-F14CB16F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BE67-904B-4E44-A5B5-C6D89DD5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A7C6-9DC3-47E8-B045-A00AC282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4F65-E394-46D7-99EC-CDF6E83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4F5C-D1F5-4059-BF0C-7430EE4F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DAC7-EAEE-42F4-BB8D-F0E8C38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CD6D-9D61-4C93-B4BE-FC81978D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A071-5474-43A2-8D41-9450068C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897-7714-40BC-AC91-A014B3A9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1133-8F88-4595-AF20-4EF94EE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0DBB-BC22-44BA-9803-F454308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C5A1-3C98-4FBA-B68D-019EC1F4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384-E5BC-4F9C-B3D4-004F49BD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4623-5905-4F49-B05E-E624CACE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8E5-58AF-418B-B189-48558BE9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871-7588-426B-8294-290B936A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B15-26B4-4092-8DEE-960D7595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FE1-2639-436D-9F8F-B9D355BD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71C-4633-424A-BCE3-F3DFC7A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5A7-0046-41D8-BD76-6C5FE03E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C44-7C69-4807-948A-6C4C57E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8B73-0E7A-4A17-9C9A-679C33E886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BB39-FA42-4E90-BD22-C364B2B7A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Rapid Control of Arterial Pressure by Nervous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. Rasjad I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b. Ilmu Faal FK UNIBR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papa10"/>
          <p:cNvPicPr/>
          <p:nvPr/>
        </p:nvPicPr>
        <p:blipFill>
          <a:blip r:embed="rId1"/>
          <a:srcRect l="5164" t="2566" r="0" b="26929"/>
          <a:stretch/>
        </p:blipFill>
        <p:spPr>
          <a:xfrm>
            <a:off x="1295280" y="34920"/>
            <a:ext cx="6553440" cy="5869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28600" y="6054840"/>
            <a:ext cx="86868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11397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quency of MAP for 24 hours in NORMAL dog and some weeks after baroreceptor denerv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receptors Refle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ceptors sensitiv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 of oxygens;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ess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d in the wall of small arteries; Carotid Bodies &amp; Aortic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powerful control in a normal arterial pressure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in below 80 mm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-pressure Recep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tch recep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wall of: Pulmonary arteries &amp; At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: to minimize arterial pressure changes in response to changes in blood volu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 Mechanism for Maintaining Normal Arterial Pressure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Reflex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rial Reflex that Activate the Kid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ation: Stretch of the a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26820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atation of the afferent arteriole in the kid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26820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ypothalam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crease ADH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2520" indent="-26820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 of Atrial Natriuretic Peptide (AN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inbridge Ref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mulation: Stretch of the a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970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: n. Vag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. Oblongat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the heart rate &amp; strength of the heart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 Mechanism for Maintaining Normal Arterial Pressure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4"/>
          <p:cNvSpPr/>
          <p:nvPr/>
        </p:nvSpPr>
        <p:spPr>
          <a:xfrm>
            <a:off x="4267080" y="609480"/>
            <a:ext cx="1905120" cy="99072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5486400" y="1295280"/>
            <a:ext cx="685800" cy="4572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5105520" y="1066680"/>
            <a:ext cx="457200" cy="381240"/>
          </a:xfrm>
          <a:custGeom>
            <a:avLst/>
            <a:gdLst>
              <a:gd name="textAreaLeft" fmla="*/ 66960 w 457200"/>
              <a:gd name="textAreaRight" fmla="*/ 390240 w 457200"/>
              <a:gd name="textAreaTop" fmla="*/ 55800 h 381240"/>
              <a:gd name="textAreaBottom" fmla="*/ 32544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4800600" y="990720"/>
            <a:ext cx="457200" cy="3808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8"/>
          <p:cNvSpPr/>
          <p:nvPr/>
        </p:nvSpPr>
        <p:spPr>
          <a:xfrm>
            <a:off x="5486400" y="15238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336">
                <a:moveTo>
                  <a:pt x="0" y="0"/>
                </a:moveTo>
                <a:cubicBezTo>
                  <a:pt x="44" y="120"/>
                  <a:pt x="88" y="240"/>
                  <a:pt x="192" y="3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5791320" y="2057400"/>
            <a:ext cx="7617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6095880" y="1295280"/>
            <a:ext cx="129564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5791320" y="1523880"/>
            <a:ext cx="457200" cy="38124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6553080" y="1066680"/>
            <a:ext cx="457200" cy="304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858000" y="1523880"/>
            <a:ext cx="457200" cy="304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6248520" y="1676520"/>
            <a:ext cx="609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5867280" y="137160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5105520" y="380880"/>
            <a:ext cx="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791320" y="228600"/>
            <a:ext cx="2666880" cy="3808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HIGH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5105520" y="38088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2819520" y="1752480"/>
            <a:ext cx="2057400" cy="6858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ASOM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3048120" y="2438280"/>
            <a:ext cx="838080" cy="38124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3886200" y="2438280"/>
            <a:ext cx="762120" cy="38124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2971800" y="3276720"/>
            <a:ext cx="1828800" cy="3808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JAN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3429000" y="28195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>
            <a:off x="4267080" y="28195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3886200" y="1219320"/>
            <a:ext cx="99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3886200" y="1219320"/>
            <a:ext cx="0" cy="533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4038480" y="3962520"/>
            <a:ext cx="609840" cy="4572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>
            <a:off x="3429000" y="36576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0"/>
          <p:cNvSpPr/>
          <p:nvPr/>
        </p:nvSpPr>
        <p:spPr>
          <a:xfrm>
            <a:off x="4267080" y="36576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3124080" y="4572000"/>
            <a:ext cx="1524240" cy="3049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.O.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2"/>
          <p:cNvSpPr/>
          <p:nvPr/>
        </p:nvSpPr>
        <p:spPr>
          <a:xfrm>
            <a:off x="4648320" y="4267080"/>
            <a:ext cx="152280" cy="457200"/>
          </a:xfrm>
          <a:custGeom>
            <a:avLst/>
            <a:gdLst>
              <a:gd name="textAreaLeft" fmla="*/ 20160 w 152280"/>
              <a:gd name="textAreaRight" fmla="*/ 132120 w 1522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3"/>
          <p:cNvSpPr/>
          <p:nvPr/>
        </p:nvSpPr>
        <p:spPr>
          <a:xfrm>
            <a:off x="2895480" y="42670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34"/>
          <p:cNvSpPr/>
          <p:nvPr/>
        </p:nvSpPr>
        <p:spPr>
          <a:xfrm>
            <a:off x="3733920" y="4952880"/>
            <a:ext cx="304560" cy="30492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3124080" y="5334120"/>
            <a:ext cx="1524240" cy="30456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2819520" y="6095880"/>
            <a:ext cx="205740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lood Press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2590920" y="6172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8"/>
          <p:cNvSpPr/>
          <p:nvPr/>
        </p:nvSpPr>
        <p:spPr>
          <a:xfrm>
            <a:off x="4876920" y="6172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6324480" y="5791320"/>
            <a:ext cx="838440" cy="3808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0"/>
          <p:cNvSpPr/>
          <p:nvPr/>
        </p:nvSpPr>
        <p:spPr>
          <a:xfrm>
            <a:off x="6934320" y="5791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6629400" y="5334120"/>
            <a:ext cx="685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46d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7b46d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42"/>
          <p:cNvSpPr/>
          <p:nvPr/>
        </p:nvSpPr>
        <p:spPr>
          <a:xfrm>
            <a:off x="6705720" y="5334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7162920" y="5791320"/>
            <a:ext cx="1143000" cy="4572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4"/>
          <p:cNvSpPr/>
          <p:nvPr/>
        </p:nvSpPr>
        <p:spPr>
          <a:xfrm>
            <a:off x="8077320" y="58672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7315200" y="5334120"/>
            <a:ext cx="990720" cy="4572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6"/>
          <p:cNvSpPr/>
          <p:nvPr/>
        </p:nvSpPr>
        <p:spPr>
          <a:xfrm>
            <a:off x="8001000" y="54100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7"/>
          <p:cNvSpPr/>
          <p:nvPr/>
        </p:nvSpPr>
        <p:spPr>
          <a:xfrm>
            <a:off x="6172200" y="4952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8"/>
          <p:cNvSpPr/>
          <p:nvPr/>
        </p:nvSpPr>
        <p:spPr>
          <a:xfrm>
            <a:off x="6172200" y="4952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9"/>
          <p:cNvSpPr/>
          <p:nvPr/>
        </p:nvSpPr>
        <p:spPr>
          <a:xfrm>
            <a:off x="8534520" y="4952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51"/>
          <p:cNvSpPr/>
          <p:nvPr/>
        </p:nvSpPr>
        <p:spPr>
          <a:xfrm>
            <a:off x="6172200" y="6629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2"/>
          <p:cNvSpPr/>
          <p:nvPr/>
        </p:nvSpPr>
        <p:spPr>
          <a:xfrm>
            <a:off x="6324480" y="4572000"/>
            <a:ext cx="2667240" cy="60948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OREC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3"/>
          <p:cNvSpPr/>
          <p:nvPr/>
        </p:nvSpPr>
        <p:spPr>
          <a:xfrm>
            <a:off x="6705720" y="2666880"/>
            <a:ext cx="0" cy="1905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54"/>
          <p:cNvSpPr/>
          <p:nvPr/>
        </p:nvSpPr>
        <p:spPr>
          <a:xfrm>
            <a:off x="5105520" y="2362320"/>
            <a:ext cx="380880" cy="2286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5"/>
          <p:cNvSpPr/>
          <p:nvPr/>
        </p:nvSpPr>
        <p:spPr>
          <a:xfrm>
            <a:off x="3809880" y="5715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56"/>
          <p:cNvSpPr/>
          <p:nvPr/>
        </p:nvSpPr>
        <p:spPr>
          <a:xfrm>
            <a:off x="4876920" y="640080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57"/>
          <p:cNvSpPr/>
          <p:nvPr/>
        </p:nvSpPr>
        <p:spPr>
          <a:xfrm flipH="1">
            <a:off x="4647960" y="266688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58"/>
          <p:cNvSpPr/>
          <p:nvPr/>
        </p:nvSpPr>
        <p:spPr>
          <a:xfrm>
            <a:off x="5181480" y="5257800"/>
            <a:ext cx="685800" cy="38088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V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9"/>
          <p:cNvSpPr/>
          <p:nvPr/>
        </p:nvSpPr>
        <p:spPr>
          <a:xfrm>
            <a:off x="4267080" y="297180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60"/>
          <p:cNvSpPr/>
          <p:nvPr/>
        </p:nvSpPr>
        <p:spPr>
          <a:xfrm>
            <a:off x="5410080" y="297180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61"/>
          <p:cNvSpPr/>
          <p:nvPr/>
        </p:nvSpPr>
        <p:spPr>
          <a:xfrm flipH="1">
            <a:off x="4647960" y="5486400"/>
            <a:ext cx="533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2"/>
          <p:cNvSpPr/>
          <p:nvPr/>
        </p:nvSpPr>
        <p:spPr>
          <a:xfrm>
            <a:off x="2057400" y="5257800"/>
            <a:ext cx="609480" cy="38088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V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63"/>
          <p:cNvSpPr/>
          <p:nvPr/>
        </p:nvSpPr>
        <p:spPr>
          <a:xfrm flipH="1">
            <a:off x="2438280" y="2971800"/>
            <a:ext cx="990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2438280" y="2971800"/>
            <a:ext cx="0" cy="2286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65"/>
          <p:cNvSpPr/>
          <p:nvPr/>
        </p:nvSpPr>
        <p:spPr>
          <a:xfrm>
            <a:off x="2666880" y="548640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66"/>
          <p:cNvSpPr/>
          <p:nvPr/>
        </p:nvSpPr>
        <p:spPr>
          <a:xfrm>
            <a:off x="685800" y="2895480"/>
            <a:ext cx="380880" cy="2286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67"/>
          <p:cNvSpPr/>
          <p:nvPr/>
        </p:nvSpPr>
        <p:spPr>
          <a:xfrm>
            <a:off x="1905120" y="6629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8"/>
          <p:cNvSpPr/>
          <p:nvPr/>
        </p:nvSpPr>
        <p:spPr>
          <a:xfrm>
            <a:off x="0" y="2286000"/>
            <a:ext cx="1828800" cy="53352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Barorecepto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69"/>
          <p:cNvSpPr/>
          <p:nvPr/>
        </p:nvSpPr>
        <p:spPr>
          <a:xfrm>
            <a:off x="1143000" y="640080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70"/>
          <p:cNvSpPr/>
          <p:nvPr/>
        </p:nvSpPr>
        <p:spPr>
          <a:xfrm>
            <a:off x="5105520" y="6400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71"/>
          <p:cNvSpPr/>
          <p:nvPr/>
        </p:nvSpPr>
        <p:spPr>
          <a:xfrm>
            <a:off x="1371600" y="670572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72"/>
          <p:cNvSpPr/>
          <p:nvPr/>
        </p:nvSpPr>
        <p:spPr>
          <a:xfrm flipV="1">
            <a:off x="1143000" y="2895120"/>
            <a:ext cx="0" cy="3505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73"/>
          <p:cNvSpPr/>
          <p:nvPr/>
        </p:nvSpPr>
        <p:spPr>
          <a:xfrm>
            <a:off x="1828800" y="266688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74"/>
          <p:cNvSpPr/>
          <p:nvPr/>
        </p:nvSpPr>
        <p:spPr>
          <a:xfrm flipV="1">
            <a:off x="1371600" y="2895480"/>
            <a:ext cx="0" cy="3810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75"/>
          <p:cNvSpPr/>
          <p:nvPr/>
        </p:nvSpPr>
        <p:spPr>
          <a:xfrm>
            <a:off x="1447920" y="2895480"/>
            <a:ext cx="304560" cy="22860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76"/>
          <p:cNvSpPr/>
          <p:nvPr/>
        </p:nvSpPr>
        <p:spPr>
          <a:xfrm>
            <a:off x="76320" y="76320"/>
            <a:ext cx="3886200" cy="685800"/>
          </a:xfrm>
          <a:prstGeom prst="rect">
            <a:avLst/>
          </a:prstGeom>
          <a:solidFill>
            <a:srgbClr val="7b46d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ORES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OL “Blood Press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rculation Control by Nervou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le of nervous system in controlling local blood flow is very li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ous system has more role in global fun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tributing blood to particular part of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trength of heart as a p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pid control of blood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Major Chang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ympathetic nervous system are stimu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l arterioles are constr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the total peripheral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eins especially &amp; other large vessels are strongly constr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venous retur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cardiac out put (Starling La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rt enhancing cardiac pum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hear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6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cardiac contrac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papa6"/>
          <p:cNvPicPr/>
          <p:nvPr/>
        </p:nvPicPr>
        <p:blipFill>
          <a:blip r:embed="rId1"/>
          <a:srcRect l="0" t="0" r="34784" b="0"/>
          <a:stretch/>
        </p:blipFill>
        <p:spPr>
          <a:xfrm>
            <a:off x="457200" y="36360"/>
            <a:ext cx="8077320" cy="5931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457200" y="6070680"/>
            <a:ext cx="80773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nal anesthesia causes decreasing of blood pressure due to  vasomotor tonus 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 Mechanism for Maintaining Normal Arterial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receptor Reflex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eptors: Baroreceptors or Pressorece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wall of several of large systemic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us carotic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 Herin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 Glossopharynge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. Solitariu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. Oblong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us aorta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. V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ponse: Feedback signals to reduce arterial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dilatation of the veins and arteri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reased heart rate &amp; the strength of heart con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apa8"/>
          <p:cNvPicPr/>
          <p:nvPr/>
        </p:nvPicPr>
        <p:blipFill>
          <a:blip r:embed="rId1"/>
          <a:srcRect l="0" t="0" r="0" b="12500"/>
          <a:stretch/>
        </p:blipFill>
        <p:spPr>
          <a:xfrm>
            <a:off x="914400" y="0"/>
            <a:ext cx="5638680" cy="5035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228600" y="5334120"/>
            <a:ext cx="8686800" cy="133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ect of changes in arterial pressure (</a:t>
            </a:r>
            <a:r>
              <a:rPr b="1" lang="el-GR" sz="1800" spc="-1" strike="noStrike">
                <a:solidFill>
                  <a:srgbClr val="ffffff"/>
                </a:solidFill>
                <a:latin typeface="바탕"/>
                <a:ea typeface="바탕"/>
              </a:rPr>
              <a:t>Δ</a:t>
            </a:r>
            <a:r>
              <a:rPr b="1" lang="en-US" sz="1800" spc="-1" strike="noStrike">
                <a:solidFill>
                  <a:srgbClr val="ffffff"/>
                </a:solidFill>
                <a:latin typeface="바탕"/>
                <a:ea typeface="바탕"/>
              </a:rPr>
              <a:t>P) to the changes of impulse transmission. Hering from  carotid sinus  (</a:t>
            </a:r>
            <a:r>
              <a:rPr b="1" lang="el-GR" sz="1800" spc="-1" strike="noStrike">
                <a:solidFill>
                  <a:srgbClr val="ffffff"/>
                </a:solidFill>
                <a:latin typeface="바탕"/>
                <a:ea typeface="바탕"/>
              </a:rPr>
              <a:t>Δ</a:t>
            </a:r>
            <a:r>
              <a:rPr b="1" lang="en-US" sz="1800" spc="-1" strike="noStrike">
                <a:solidFill>
                  <a:srgbClr val="ffffff"/>
                </a:solidFill>
                <a:latin typeface="바탕"/>
                <a:ea typeface="바탕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바탕"/>
                <a:ea typeface="바탕"/>
              </a:rPr>
              <a:t>Baroreceptor performs better response to the changes  of pressure than static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papa7"/>
          <p:cNvPicPr/>
          <p:nvPr/>
        </p:nvPicPr>
        <p:blipFill>
          <a:blip r:embed="rId1"/>
          <a:srcRect l="6556" t="0" r="9833" b="21721"/>
          <a:stretch/>
        </p:blipFill>
        <p:spPr>
          <a:xfrm>
            <a:off x="1219320" y="-17640"/>
            <a:ext cx="6781680" cy="6120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609480" y="6130800"/>
            <a:ext cx="7925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5560" indent="-11955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mping of a. carotis communis increases in arterial pressure mean (MAP), releasing of clamp  decreases arterial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ction of Baroreceptor Refl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changes in Body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intain relatively constant arterial pressure in the upper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ssure Buff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es eithe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rterial pres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mportance of Baroreceptor System for Long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etting of barorecepto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apa9"/>
          <p:cNvPicPr/>
          <p:nvPr/>
        </p:nvPicPr>
        <p:blipFill>
          <a:blip r:embed="rId1"/>
          <a:srcRect l="6871" t="1223" r="0" b="22842"/>
          <a:stretch/>
        </p:blipFill>
        <p:spPr>
          <a:xfrm>
            <a:off x="1600200" y="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04920" y="5410080"/>
            <a:ext cx="86868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5560" indent="-11955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ing of blood pressure for 2 hours in NORMAL condition (upper figure) and some weeks after sinus caroticus and Sinus aorticus DENERVATION  (lower figu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9:44:26Z</dcterms:created>
  <dc:creator>dr. Rasyad Indra</dc:creator>
  <dc:description/>
  <dc:language>en-US</dc:language>
  <cp:lastModifiedBy>Dian Hasanah</cp:lastModifiedBy>
  <dcterms:modified xsi:type="dcterms:W3CDTF">2011-03-26T15:44:33Z</dcterms:modified>
  <cp:revision>25</cp:revision>
  <dc:subject/>
  <dc:title>Rapid Control of Arterial Pressure by Nervous System</dc:title>
</cp:coreProperties>
</file>