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CEF6-6B46-4D12-A3F7-99894D3BB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DBCC-BA97-457E-B9B0-D85AEA44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4E3B-43A4-4394-9307-5C73BDD93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19A0-61F8-4D6B-8801-FAAB908D4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2999-019C-416F-A1E8-632012D65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B34A-292A-4E2E-A92E-D9AEFCCC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C75B-9C37-4BC1-B407-08197211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4D14-8A0C-4B0C-B22F-55472D57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99D8-6AFF-482C-87E1-6748B09C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8E5E-6448-4EAD-B8EA-37A19468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E56B-51AC-4CDC-AB45-E0D870FE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29B6-EFAD-472F-8BD4-5A66CAA1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56E3-D845-46DB-A7F3-1E970A0D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E7D0-9B21-45C3-8214-BBA9503A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6095-89BE-4E2D-8339-ED364081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7DCD-0F0C-44D9-9E3E-295B0C66C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6BE9-2C3D-4287-9E78-222E2DE54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366B-AB70-4B75-A3EB-E79D8E89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7B2D-57A7-478F-87BA-236B67AE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1810-BF59-4B65-9A18-803E9396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6576-3625-48D3-B4E1-3AC2C6D4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5A68-E235-4233-A9CC-334AB9B4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996E-76A4-431B-8C9B-06E39038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3E2D-5777-4546-ABFC-BE790F23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4b269"/>
                </a:gs>
                <a:gs pos="50000">
                  <a:srgbClr val="e9d47d"/>
                </a:gs>
                <a:gs pos="100000">
                  <a:srgbClr val="c4b2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16542"/>
                </a:gs>
                <a:gs pos="50000">
                  <a:srgbClr val="d4dd91"/>
                </a:gs>
                <a:gs pos="100000">
                  <a:srgbClr val="6165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10B8-8D27-4E97-BBF9-67E64A753D44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4b269"/>
                </a:gs>
                <a:gs pos="50000">
                  <a:srgbClr val="e9d47d"/>
                </a:gs>
                <a:gs pos="100000">
                  <a:srgbClr val="c4b2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16542"/>
                </a:gs>
                <a:gs pos="50000">
                  <a:srgbClr val="d4dd91"/>
                </a:gs>
                <a:gs pos="100000">
                  <a:srgbClr val="6165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A282-49EC-4F7E-97A0-CB781AF7E3BA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6.png"/><Relationship Id="rId1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.png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369800"/>
            <a:ext cx="7194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8000" spc="-1" strike="noStrike">
                <a:solidFill>
                  <a:srgbClr val="666729"/>
                </a:solidFill>
                <a:latin typeface="Monotype Corsiva"/>
                <a:cs typeface="PT Bold Heading"/>
              </a:rPr>
              <a:t>السيفالوسبورينات</a:t>
            </a:r>
            <a:endParaRPr b="0" lang="en-US" sz="8000" spc="-1" strike="noStrike">
              <a:solidFill>
                <a:srgbClr val="6667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7334280" cy="40179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489480" y="2552760"/>
            <a:ext cx="1234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stera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09880" y="3400560"/>
            <a:ext cx="8384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666729"/>
                </a:solidFill>
                <a:latin typeface="Monotype Corsiva"/>
                <a:ea typeface="PT Bold Heading"/>
              </a:rPr>
              <a:t>4- </a:t>
            </a:r>
            <a:r>
              <a:rPr b="0" lang="ar-SY" sz="3600" spc="-1" strike="noStrike">
                <a:solidFill>
                  <a:srgbClr val="666729"/>
                </a:solidFill>
                <a:latin typeface="Monotype Corsiva"/>
                <a:cs typeface="PT Bold Heading"/>
              </a:rPr>
              <a:t>خواص تعود لمجموعة الأمين في الموقع </a:t>
            </a:r>
            <a:r>
              <a:rPr b="0" lang="ar-SY" sz="3600" spc="-1" strike="noStrike">
                <a:solidFill>
                  <a:srgbClr val="666729"/>
                </a:solidFill>
                <a:latin typeface="Monotype Corsiva"/>
                <a:ea typeface="PT Bold Heading"/>
              </a:rPr>
              <a:t>7</a:t>
            </a:r>
            <a:r>
              <a:rPr b="0" lang="ar-SY" sz="3600" spc="-1" strike="noStrike">
                <a:solidFill>
                  <a:srgbClr val="666729"/>
                </a:solidFill>
                <a:latin typeface="Monotype Corsiva"/>
                <a:ea typeface="PT Bold Heading"/>
              </a:rPr>
              <a:t>: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لا يعرف حتى الآن أي أنزيم أميداز يستطيع أن يحلمه الوظيفة الأميدية على الفحم 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7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, ولاكن ذلك يحدث بتأثير الحموض, ويعطي حمض أمينو سيفالوسبوراني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000" spc="-1" strike="noStrike">
                <a:solidFill>
                  <a:srgbClr val="666729"/>
                </a:solidFill>
                <a:latin typeface="Monotype Corsiva"/>
                <a:cs typeface="PT Bold Heading"/>
              </a:rPr>
              <a:t>علاقة البنية بالتأثير: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خلال البحث عن سيفالوسبورينات جديدة كان الاهتمام منصباً تحو مركبات جديدة بغية مقاومتها لأنزيم البنسليناز, لاستخدامها في الإنتانات المعندة على المعندة على البنسلين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وقد تركز البحث في </a:t>
            </a:r>
            <a:r>
              <a:rPr b="1" lang="ar-SY" sz="36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عدة اتجاهات</a:t>
            </a:r>
            <a:r>
              <a:rPr b="0" lang="ar-SA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 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716292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just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الاتجاه الأول: إدخال جذر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R</a:t>
            </a:r>
            <a:r>
              <a:rPr b="1" lang="ar-SY" sz="40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 على الموقع </a:t>
            </a:r>
            <a:r>
              <a:rPr b="1" lang="ar-SY" sz="40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7</a:t>
            </a:r>
            <a:r>
              <a:rPr b="1" lang="ar-SY" sz="40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just" rtl="1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الطريق المعتمد هنا هو: أسيلة حمض </a:t>
            </a:r>
            <a:r>
              <a:rPr b="0" lang="ar-SY" sz="36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7</a:t>
            </a:r>
            <a:r>
              <a:rPr b="0" lang="ar-SY" sz="36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-أمينو سيفالوسبورانيك, وقد تم الحصول على الجيل الأول من السيفالوسبورينات نصف الصنعية مثل سيفالوتي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 algn="just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الاتجاه الثاني: استبدال جذر مكان الأسيتوكسي "موقع </a:t>
            </a:r>
            <a:r>
              <a:rPr b="1" lang="ar-SY" sz="40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3</a:t>
            </a:r>
            <a:r>
              <a:rPr b="1" lang="ar-SY" sz="40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”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just" rtl="1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حيث تم استبدال مجموعات ذات خواص قلوية ضعيفة مكان هذا الجذر, وتم الحصول على السيفالوريدين بمعالجة السيفالوتين مع البيريدي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6840" y="762120"/>
            <a:ext cx="716292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r" rtl="1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7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الاتجاه الثالث: إدخال جذر من نموذج               "موقع </a:t>
            </a:r>
            <a:r>
              <a:rPr b="1" lang="ar-SY" sz="37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7</a:t>
            </a:r>
            <a:r>
              <a:rPr b="1" lang="ar-SY" sz="37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"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just" rtl="1">
              <a:lnSpc>
                <a:spcPct val="10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3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وذلك بالمشابهة مع الأمبيسلين ...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just" rtl="1">
              <a:lnSpc>
                <a:spcPct val="100000"/>
              </a:lnSpc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3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وتم الحصول على السيفالوغاميسين. إذاً إدخال هذا الجذر أضفى على السيفالوسبورينات إمكانية الاستخدام عن طريق الفم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just" rtl="1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7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الاتجاه الرابع: مقارنة ببنية البنسللينات: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just" rtl="1">
              <a:lnSpc>
                <a:spcPct val="100000"/>
              </a:lnSpc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3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يعتمد على تحويل النواة الخماسية إلى سداسية ولكن هذا الاتجاه تعثر لصعوبة الاصطناع وقلة المردود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1371600" y="609480"/>
            <a:ext cx="123840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-36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000" spc="-1" strike="noStrike">
                <a:solidFill>
                  <a:srgbClr val="666729"/>
                </a:solidFill>
                <a:latin typeface="Monotype Corsiva"/>
                <a:cs typeface="PT Bold Heading"/>
              </a:rPr>
              <a:t>العائلة الأولى: (الجيل الأول)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866960" y="-544680"/>
            <a:ext cx="1427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66960" y="-544680"/>
            <a:ext cx="1427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66960" y="-544680"/>
            <a:ext cx="1427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866960" y="-544680"/>
            <a:ext cx="1212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866960" y="-544680"/>
            <a:ext cx="1427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866960" y="-544680"/>
            <a:ext cx="1212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866960" y="-544680"/>
            <a:ext cx="1427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866960" y="-544680"/>
            <a:ext cx="1212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66960" y="-544680"/>
            <a:ext cx="1427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52280" y="990720"/>
          <a:ext cx="8382240" cy="5549760"/>
        </p:xfrm>
        <a:graphic>
          <a:graphicData uri="http://schemas.openxmlformats.org/drawingml/2006/table">
            <a:tbl>
              <a:tblPr/>
              <a:tblGrid>
                <a:gridCol w="1316160"/>
                <a:gridCol w="2211480"/>
                <a:gridCol w="1877760"/>
                <a:gridCol w="884520"/>
                <a:gridCol w="1012680"/>
                <a:gridCol w="1079640"/>
              </a:tblGrid>
              <a:tr h="77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9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مركب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R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R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5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جرع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5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استعما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5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امتصاص والإطراح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سفادروكسي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CH</a:t>
                      </a:r>
                      <a:r>
                        <a:rPr b="0" lang="en-US" sz="15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3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0.2-0.6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gr</a:t>
                      </a:r>
                      <a:r>
                        <a:rPr b="0" lang="ar-SY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كل </a:t>
                      </a:r>
                      <a:r>
                        <a:rPr b="0" lang="ar-SY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6</a:t>
                      </a:r>
                      <a:r>
                        <a:rPr b="0" lang="ar-SY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ساعات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1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جميعها فعالة ضد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G</a:t>
                      </a:r>
                      <a:r>
                        <a:rPr b="0" lang="en-US" sz="2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+</a:t>
                      </a:r>
                      <a:r>
                        <a:rPr b="0" lang="ar-SY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و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G</a:t>
                      </a:r>
                      <a:r>
                        <a:rPr b="0" lang="en-US" sz="2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مقاومة للبنسليناز ضد </a:t>
                      </a:r>
                      <a:r>
                        <a:rPr b="0" lang="en-US" sz="2100" spc="-1" strike="noStrike">
                          <a:solidFill>
                            <a:srgbClr val="993300"/>
                          </a:solidFill>
                          <a:latin typeface="Times New Roman"/>
                          <a:ea typeface="Traditional Arabic"/>
                        </a:rPr>
                        <a:t>E.coli</a:t>
                      </a:r>
                      <a:r>
                        <a:rPr b="0" lang="ar-SY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المكورات العنقودية الذهبي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يعد امتصاص </a:t>
                      </a:r>
                      <a:r>
                        <a:rPr b="0" lang="ar-SY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500</a:t>
                      </a:r>
                      <a:r>
                        <a:rPr b="0" lang="ar-SY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مغ يصل للتركيز الأعظمي بعد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2h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أدوية الجيل الثالث قادرة على دخول الدماغ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يمكن الإعطاء الفموي لكن الأغلب حقناً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يتم الطرح عن طريق الرشح الكبيبي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9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سفالكسين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CH</a:t>
                      </a:r>
                      <a:r>
                        <a:rPr b="0" lang="en-US" sz="15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3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0.25-0.5gr</a:t>
                      </a:r>
                      <a:r>
                        <a:rPr b="0" lang="ar-SY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كل </a:t>
                      </a:r>
                      <a:r>
                        <a:rPr b="0" lang="ar-SY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6</a:t>
                      </a:r>
                      <a:r>
                        <a:rPr b="0" lang="ar-SY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ساعات فموي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9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سفرادين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CH</a:t>
                      </a:r>
                      <a:r>
                        <a:rPr b="0" lang="en-US" sz="15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3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0.25-0.5g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9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سيفابيرين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2-6g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Max 12g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9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سفالوتين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-4g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5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حتى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2g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33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سيفازولين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0.5-1g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P.O, IM, I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2133720" y="1600200"/>
          <a:ext cx="1162080" cy="6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00200"/>
                    <a:ext cx="11620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2133720" y="2514600"/>
          <a:ext cx="1009440" cy="70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2514600"/>
                    <a:ext cx="100944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2057400" y="3429000"/>
          <a:ext cx="106668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3429000"/>
                    <a:ext cx="10666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1981080" y="4267080"/>
          <a:ext cx="1285920" cy="428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4267080"/>
                    <a:ext cx="128592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2057400" y="4952880"/>
          <a:ext cx="981000" cy="428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7400" y="4952880"/>
                    <a:ext cx="9810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2109960" y="5781600"/>
          <a:ext cx="981000" cy="466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09960" y="5781600"/>
                    <a:ext cx="98100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4167360" y="5781600"/>
          <a:ext cx="1076040" cy="45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67360" y="5781600"/>
                    <a:ext cx="10760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4114800" y="4876920"/>
          <a:ext cx="1047600" cy="495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14800" y="4876920"/>
                    <a:ext cx="10476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4114800" y="4191120"/>
          <a:ext cx="1047600" cy="495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14800" y="4191120"/>
                    <a:ext cx="10476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6840" y="533520"/>
            <a:ext cx="7086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- يعطى السيفالوتين فموياً ووريدياً ومع المصل لكنه يحدث ألماً شديداً في الحقن العضل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0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- كل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1mg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 سيفالوتين تعادل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938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 وحدة دول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0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- يعطى السيفرادين فموياً ووريدياً وعضليا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الاستخدا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تجرثم الدم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Bactremia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التهاب الأذن الوسطى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Otitis media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التهاب الجهاز التنفسي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Respiratory tract infections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التهاب العظام والمفاص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التهاب الجلد والأنسجة الرخو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228600" y="533520"/>
            <a:ext cx="739152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يترافق استخدام السيفالوسبورينات مع تفاعلات تحسسية أرجية: طفح جلد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عندما يكون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R3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R7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 تساعد على انحلالية سريعة مع الحفاظ على الفعالية العلاجية, يكون المركب أقل سم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تسبب هذه المركبات وخاصة الأملاح الأمينية ألماً أثناء الحقن العضلي, وتكون عادة عالية السمية, وتزداد تلك السمية عند مشاركتها مع مركبات مثل الأمينو غليكوزيد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تسبب الأدوية التي تحوي زمرة مثل ثيوتترازول نقصاً في البروثرومب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تكون هذه المركبات وحسب طبيعة الملح ذات تأثير مديد أو سريعة الانطراح, وإن أكثر الأملاح المستخدمة صودية, ومتوسط عمرها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2h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000" spc="-1" strike="noStrike">
                <a:solidFill>
                  <a:srgbClr val="666729"/>
                </a:solidFill>
                <a:latin typeface="Monotype Corsiva"/>
                <a:cs typeface="PT Bold Heading"/>
              </a:rPr>
              <a:t>العائلة الثانية: (الجيل الثاني)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2590920" y="3048120"/>
          <a:ext cx="1009440" cy="7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3048120"/>
                    <a:ext cx="100944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4724280" y="4267080"/>
          <a:ext cx="1086120" cy="73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4267080"/>
                    <a:ext cx="1086120" cy="7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2666880" y="4191120"/>
          <a:ext cx="1028880" cy="60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4191120"/>
                    <a:ext cx="102888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4648320" y="5638680"/>
          <a:ext cx="1047600" cy="4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5638680"/>
                    <a:ext cx="10476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2590920" y="5486400"/>
          <a:ext cx="1295280" cy="561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90920" y="5486400"/>
                    <a:ext cx="12952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866960" y="942840"/>
            <a:ext cx="142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66960" y="942840"/>
            <a:ext cx="1220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866960" y="942840"/>
            <a:ext cx="142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66960" y="942840"/>
            <a:ext cx="1220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866960" y="942840"/>
            <a:ext cx="142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609480" y="1295280"/>
          <a:ext cx="8001000" cy="5380200"/>
        </p:xfrm>
        <a:graphic>
          <a:graphicData uri="http://schemas.openxmlformats.org/drawingml/2006/table">
            <a:tbl>
              <a:tblPr/>
              <a:tblGrid>
                <a:gridCol w="1623960"/>
                <a:gridCol w="2113200"/>
                <a:gridCol w="1805040"/>
                <a:gridCol w="1095120"/>
                <a:gridCol w="1363680"/>
              </a:tblGrid>
              <a:tr h="105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21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مركب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R7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R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21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استعمال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21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امتصاص والإطراح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5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سيفاكلور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Cefachlor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Cl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9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سيفاكلور هو الوحيد الذي يعطى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P.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عند حقن </a:t>
                      </a:r>
                      <a:r>
                        <a:rPr b="0" lang="ar-SY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r>
                        <a:rPr b="0" lang="ar-SY" sz="19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غرام: يصل إلى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25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g/m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9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و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20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g/ml</a:t>
                      </a:r>
                      <a:r>
                        <a:rPr b="0" lang="ar-SY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للثاني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9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قد تصل الجرعة لـ </a:t>
                      </a:r>
                      <a:r>
                        <a:rPr b="0" lang="ar-SY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9</a:t>
                      </a:r>
                      <a:r>
                        <a:rPr b="0" lang="ar-SY" sz="19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غرام\يوم</a:t>
                      </a:r>
                      <a:r>
                        <a:rPr b="0" lang="ar-SY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5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متوسط عمر هذه الأدوية يختلف حسب المركب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5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وغالباً بين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7-8h</a:t>
                      </a:r>
                      <a:r>
                        <a:rPr b="0" lang="ar-SY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ويصل إلى حوالي 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8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2</a:t>
                      </a:r>
                      <a:r>
                        <a:rPr b="0" lang="ar-SY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ساعة في السفوروكسيم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5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سيفامندول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Cefamendo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5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سيفوروكسيم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Ceforoxim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152280" y="761760"/>
            <a:ext cx="7467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r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الاستعمال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 rtl="1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تعطى هذه المركبات للحالات التي لم تستجب للأمبيسللين والأموكسيسللين, وتستخدم بشكل فعال ضد جراثيم الأنفلونزا, إلتهاب السحايا, الجراثيم اللاهوائية, إضافة إلى تأثيرها على جراثيم الكلبسيلا وإيجابيات الغرام الـ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E.coli</a:t>
            </a:r>
            <a:r>
              <a:rPr b="0" lang="ar-SY" sz="36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ملاحظة:</a:t>
            </a:r>
            <a:r>
              <a:rPr b="0" lang="ar-SY" sz="36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 rtl="1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مركبات الجيل الثاني تمتاز بطيف أوسع وخاصة على سلبيات الغرام "من الجيل الأول"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63520" y="12193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 rtl="1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ازدات المقاومة الجرثومية تجاه البنسلينات مما أدى لإجراء بعض التعديلات على بنيتها مما لفت الأنظار إلى السيفالوسبورينات, التي تملك بنية مشابهة للبنسلين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 rtl="1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الهدف من التفكير فيها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- زيادة المقاومة لأنزيم البنسلينا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- زيادة زمن التأثي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666729"/>
                </a:solidFill>
                <a:latin typeface="Monotype Corsiva"/>
                <a:cs typeface="PT Bold Heading"/>
              </a:rPr>
              <a:t>العائلة الثالثة</a:t>
            </a:r>
            <a:r>
              <a:rPr b="1" lang="ar-SY" sz="4000" spc="-1" strike="noStrike">
                <a:solidFill>
                  <a:srgbClr val="666729"/>
                </a:solidFill>
                <a:latin typeface="Monotype Corsiva"/>
                <a:ea typeface="PT Bold Heading"/>
              </a:rPr>
              <a:t>: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تمتاز بقدرة عالية على اجتياز الـ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B.B.B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, كما تمتاز بفعالية زائدة نحو الجراثيم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-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, ومعظمها فعال ضد الأنتروباكتريوم. الصيغة العامة لهذه المركبا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ملاحظة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: وجود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OCH3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- يعني أن المركب من العائلة الثالثة, ولكن ليس بالضرورة وجود هذه الزمرة في جميع مركبات الجيل الثالث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2514600" y="2895480"/>
            <a:ext cx="285768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2057400" y="1828800"/>
            <a:ext cx="2647800" cy="554040"/>
            <a:chOff x="2057400" y="1828800"/>
            <a:chExt cx="2647800" cy="554040"/>
          </a:xfrm>
        </p:grpSpPr>
        <p:graphicFrame>
          <p:nvGraphicFramePr>
            <p:cNvPr id="273" name=""/>
            <p:cNvGraphicFramePr/>
            <p:nvPr/>
          </p:nvGraphicFramePr>
          <p:xfrm>
            <a:off x="3657600" y="1905120"/>
            <a:ext cx="1047600" cy="477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57600" y="1905120"/>
                      <a:ext cx="104760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5" name=""/>
            <p:cNvGraphicFramePr/>
            <p:nvPr/>
          </p:nvGraphicFramePr>
          <p:xfrm>
            <a:off x="2057400" y="1828800"/>
            <a:ext cx="885960" cy="468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57400" y="1828800"/>
                      <a:ext cx="885960" cy="4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77" name=""/>
          <p:cNvGrpSpPr/>
          <p:nvPr/>
        </p:nvGrpSpPr>
        <p:grpSpPr>
          <a:xfrm>
            <a:off x="1752480" y="3124080"/>
            <a:ext cx="3124080" cy="974520"/>
            <a:chOff x="1752480" y="3124080"/>
            <a:chExt cx="3124080" cy="974520"/>
          </a:xfrm>
        </p:grpSpPr>
        <p:graphicFrame>
          <p:nvGraphicFramePr>
            <p:cNvPr id="278" name=""/>
            <p:cNvGraphicFramePr/>
            <p:nvPr/>
          </p:nvGraphicFramePr>
          <p:xfrm>
            <a:off x="3809880" y="3352680"/>
            <a:ext cx="1066680" cy="487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09880" y="3352680"/>
                      <a:ext cx="1066680" cy="48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0" name=""/>
            <p:cNvGraphicFramePr/>
            <p:nvPr/>
          </p:nvGraphicFramePr>
          <p:xfrm>
            <a:off x="1752480" y="3124080"/>
            <a:ext cx="1333440" cy="974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752480" y="3124080"/>
                      <a:ext cx="1333440" cy="97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2" name=""/>
          <p:cNvGrpSpPr/>
          <p:nvPr/>
        </p:nvGrpSpPr>
        <p:grpSpPr>
          <a:xfrm>
            <a:off x="1828800" y="4419720"/>
            <a:ext cx="3029040" cy="533160"/>
            <a:chOff x="1828800" y="4419720"/>
            <a:chExt cx="3029040" cy="533160"/>
          </a:xfrm>
        </p:grpSpPr>
        <p:graphicFrame>
          <p:nvGraphicFramePr>
            <p:cNvPr id="283" name=""/>
            <p:cNvGraphicFramePr/>
            <p:nvPr/>
          </p:nvGraphicFramePr>
          <p:xfrm>
            <a:off x="3809880" y="4419720"/>
            <a:ext cx="1047960" cy="477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8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809880" y="4419720"/>
                      <a:ext cx="104796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5" name=""/>
            <p:cNvGraphicFramePr/>
            <p:nvPr/>
          </p:nvGraphicFramePr>
          <p:xfrm>
            <a:off x="1828800" y="4419720"/>
            <a:ext cx="1295280" cy="533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8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828800" y="4419720"/>
                      <a:ext cx="129528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7" name=""/>
          <p:cNvGrpSpPr/>
          <p:nvPr/>
        </p:nvGrpSpPr>
        <p:grpSpPr>
          <a:xfrm>
            <a:off x="1909800" y="5153040"/>
            <a:ext cx="2752560" cy="725400"/>
            <a:chOff x="1909800" y="5153040"/>
            <a:chExt cx="2752560" cy="725400"/>
          </a:xfrm>
        </p:grpSpPr>
        <p:graphicFrame>
          <p:nvGraphicFramePr>
            <p:cNvPr id="288" name=""/>
            <p:cNvGraphicFramePr/>
            <p:nvPr/>
          </p:nvGraphicFramePr>
          <p:xfrm>
            <a:off x="3586320" y="5153040"/>
            <a:ext cx="1076040" cy="7254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586320" y="5153040"/>
                      <a:ext cx="1076040" cy="72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0" name=""/>
            <p:cNvGraphicFramePr/>
            <p:nvPr/>
          </p:nvGraphicFramePr>
          <p:xfrm>
            <a:off x="1909800" y="5229360"/>
            <a:ext cx="1181160" cy="5238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91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909800" y="5229360"/>
                      <a:ext cx="118116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92" name=""/>
          <p:cNvSpPr/>
          <p:nvPr/>
        </p:nvSpPr>
        <p:spPr>
          <a:xfrm>
            <a:off x="-457200" y="-142920"/>
            <a:ext cx="121284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-457200" y="-142920"/>
            <a:ext cx="147168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-457200" y="-142920"/>
            <a:ext cx="121284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-457200" y="-142920"/>
            <a:ext cx="147168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-457200" y="-142920"/>
            <a:ext cx="121284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-457200" y="-142920"/>
            <a:ext cx="147168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-457200" y="-142920"/>
            <a:ext cx="121284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0"/>
            <a:ext cx="1471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7560" y="2544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76320" y="534960"/>
          <a:ext cx="7619760" cy="5408640"/>
        </p:xfrm>
        <a:graphic>
          <a:graphicData uri="http://schemas.openxmlformats.org/drawingml/2006/table">
            <a:tbl>
              <a:tblPr/>
              <a:tblGrid>
                <a:gridCol w="1371240"/>
                <a:gridCol w="1727280"/>
                <a:gridCol w="1881360"/>
                <a:gridCol w="1550880"/>
                <a:gridCol w="1089000"/>
              </a:tblGrid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مركب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R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R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استعمال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امتصاص والإطراح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5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سيفوكسيتين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يدخل السفوكسيتين المراكز العصبية فيمكن استخدامه لالتهاب السحايا مع السيفوبيرازون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h</a:t>
                      </a:r>
                      <a:r>
                        <a:rPr b="0" lang="en-US" sz="19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/2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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7-8h</a:t>
                      </a:r>
                      <a:r>
                        <a:rPr b="0" lang="ar-SY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يمكن أخذه حقنة عضلية كل </a:t>
                      </a:r>
                      <a:r>
                        <a:rPr b="0" lang="ar-SY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2</a:t>
                      </a:r>
                      <a:r>
                        <a:rPr b="0" lang="ar-SY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</a:t>
                      </a:r>
                      <a:r>
                        <a:rPr b="0" lang="ar-SY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24</a:t>
                      </a:r>
                      <a:r>
                        <a:rPr b="0" lang="ar-SY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ساعة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5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سيفوبيرازون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h</a:t>
                      </a:r>
                      <a:r>
                        <a:rPr b="0" lang="en-US" sz="19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/2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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2h</a:t>
                      </a:r>
                      <a:r>
                        <a:rPr b="0" lang="ar-SY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تؤخذ حقنة كل </a:t>
                      </a:r>
                      <a:r>
                        <a:rPr b="0" lang="ar-SY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8</a:t>
                      </a:r>
                      <a:r>
                        <a:rPr b="0" lang="ar-SY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ساعات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5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سيفوتاكسيم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19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تطرح عن طريق البول والجهاز الهضمي..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5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موكسالاكتون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02" name=""/>
          <p:cNvSpPr/>
          <p:nvPr/>
        </p:nvSpPr>
        <p:spPr>
          <a:xfrm>
            <a:off x="-674640" y="6171480"/>
            <a:ext cx="93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Arial"/>
              </a:rPr>
              <a:t>وتمتاز مركبات هذه العائلة بثبات عال ضد أنزيمات البنسلليناز والسفالوسبوريناز وتمتلك طيفاً واسعا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-36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000" spc="-1" strike="noStrike">
                <a:solidFill>
                  <a:srgbClr val="666729"/>
                </a:solidFill>
                <a:latin typeface="Monotype Corsiva"/>
                <a:cs typeface="PT Bold Heading"/>
              </a:rPr>
              <a:t>الصيغة العامة</a:t>
            </a:r>
            <a:r>
              <a:rPr b="0" lang="ar-SY" sz="4000" spc="-1" strike="noStrike">
                <a:solidFill>
                  <a:srgbClr val="666729"/>
                </a:solidFill>
                <a:latin typeface="Monotype Corsiva"/>
                <a:ea typeface="PT Bold Heading"/>
              </a:rPr>
              <a:t>: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33508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مقارنة بالبنسلينات تمتاز السيفالوسبورينات ب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تحول الحلقة الثيازولية الخماسية إلى حلقة ثيازين سداس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يوجد جذران متغيران في بنية السيفالوسبورينات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R3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 و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R7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 بينما كان يوجد جذر وحيد في البنسلين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كما يتضح أن السيفالوسبورينات يمكن أن تعتبر مشتقة من حمض أمينو-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7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 سيفالوسبورانيك, والانطلاق في اصطناعها منه بالأسيل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2104920" y="876240"/>
            <a:ext cx="367056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6840" y="685800"/>
            <a:ext cx="716292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 rtl="1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0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 ونظراً لهذه الصيغة: يمكن تغيير عدة جذور في البنية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R3</a:t>
            </a:r>
            <a:r>
              <a:rPr b="0" lang="ar-SY" sz="40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R7</a:t>
            </a:r>
            <a:r>
              <a:rPr b="0" lang="ar-SY" sz="40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, كما يمكن إدخال الجذر الجديد على الموقع </a:t>
            </a:r>
            <a:r>
              <a:rPr b="0" lang="ar-SY" sz="40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2</a:t>
            </a:r>
            <a:r>
              <a:rPr b="0" lang="ar-SY" sz="40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 بدل الهيدروجين في توسيع الطيف الجرثومي, أما الجذر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R3</a:t>
            </a:r>
            <a:r>
              <a:rPr b="0" lang="ar-SY" sz="40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 فأهميته مزدوجة ف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0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 الحرائ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0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 وفي تقوية الرابطة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ar-SY" sz="40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-لاكتا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000" spc="-1" strike="noStrike">
                <a:solidFill>
                  <a:srgbClr val="666729"/>
                </a:solidFill>
                <a:latin typeface="Monotype Corsiva"/>
                <a:cs typeface="PT Bold Heading"/>
              </a:rPr>
              <a:t>آلية التأثير</a:t>
            </a:r>
            <a:r>
              <a:rPr b="0" lang="ar-SY" sz="4000" spc="-1" strike="noStrike">
                <a:solidFill>
                  <a:srgbClr val="666729"/>
                </a:solidFill>
                <a:latin typeface="Monotype Corsiva"/>
                <a:ea typeface="PT Bold Heading"/>
              </a:rPr>
              <a:t>: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تعمل بآلية تثبيط اصطناع الجدار الخلوي, حيث تكون آلية التأثير المشابهة للبنسلينات, عن طريق تثبيط اصطناع الـ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PBPs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 (البروتينات الرابطة للبنسلين), ومن ثم تثبيط اصطناع الجدار </a:t>
            </a:r>
            <a:r>
              <a:rPr b="0" lang="ar-SA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الخلو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99600" y="2886120"/>
            <a:ext cx="7045560" cy="16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7200" spc="-1" strike="noStrike">
                <a:solidFill>
                  <a:srgbClr val="000000"/>
                </a:solidFill>
                <a:latin typeface="Monotype Corsiva"/>
                <a:cs typeface="PT Bold Heading"/>
              </a:rPr>
              <a:t>الخواص الكيميائي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666729"/>
                </a:solidFill>
                <a:latin typeface="Monotype Corsiva"/>
                <a:ea typeface="PT Bold Heading"/>
              </a:rPr>
              <a:t>1</a:t>
            </a:r>
            <a:r>
              <a:rPr b="0" lang="ar-SY" sz="3600" spc="-1" strike="noStrike">
                <a:solidFill>
                  <a:srgbClr val="666729"/>
                </a:solidFill>
                <a:latin typeface="Monotype Corsiva"/>
                <a:ea typeface="PT Bold Heading"/>
              </a:rPr>
              <a:t>- خواص تعود لحلقة الـ </a:t>
            </a:r>
            <a:r>
              <a:rPr b="0" lang="en-US" sz="3600" spc="-1" strike="noStrike">
                <a:solidFill>
                  <a:srgbClr val="666729"/>
                </a:solidFill>
                <a:latin typeface="Symbol"/>
                <a:ea typeface="Symbol"/>
              </a:rPr>
              <a:t></a:t>
            </a:r>
            <a:r>
              <a:rPr b="0" lang="ar-SY" sz="3600" spc="-1" strike="noStrike">
                <a:solidFill>
                  <a:srgbClr val="666729"/>
                </a:solidFill>
                <a:latin typeface="Monotype Corsiva"/>
                <a:ea typeface="PT Bold Heading"/>
              </a:rPr>
              <a:t>- لاكتام: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 rtl="1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إن حلقة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-لاكتام هي المركز الأكثر أهمية وضعفاً في بنية السيفالوسبورينات فهي سهلة الفتح بالكواشف المحبة للإلكترونات والمحبة للنواة, ورغم ذلك فهي أشد مقاومة للحلمهة من حلقة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-لاكتام الموجودة في البنسلينات والسبب هو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 rtl="1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الحلقة السداسية في بنية السفالوسبورين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 rtl="1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إضافة إلى الجذر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R3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 الذي يلعب دوراً في التوزع الألكتروني وتقوية حلقة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-لاكتام عدا عن دوره بالحرك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000" spc="-1" strike="noStrike">
                <a:solidFill>
                  <a:srgbClr val="666729"/>
                </a:solidFill>
                <a:latin typeface="Monotype Corsiva"/>
                <a:ea typeface="PT Bold Heading"/>
              </a:rPr>
              <a:t>2</a:t>
            </a:r>
            <a:r>
              <a:rPr b="0" lang="ar-SY" sz="4000" spc="-1" strike="noStrike">
                <a:solidFill>
                  <a:srgbClr val="666729"/>
                </a:solidFill>
                <a:latin typeface="Monotype Corsiva"/>
                <a:ea typeface="PT Bold Heading"/>
              </a:rPr>
              <a:t>- خواص تعود للجذر في الموقع </a:t>
            </a:r>
            <a:r>
              <a:rPr b="0" lang="ar-SY" sz="4000" spc="-1" strike="noStrike">
                <a:solidFill>
                  <a:srgbClr val="666729"/>
                </a:solidFill>
                <a:latin typeface="Monotype Corsiva"/>
                <a:ea typeface="PT Bold Heading"/>
              </a:rPr>
              <a:t>4</a:t>
            </a:r>
            <a:r>
              <a:rPr b="0" lang="ar-SY" sz="4000" spc="-1" strike="noStrike">
                <a:solidFill>
                  <a:srgbClr val="666729"/>
                </a:solidFill>
                <a:latin typeface="Monotype Corsiva"/>
                <a:ea typeface="PT Bold Heading"/>
              </a:rPr>
              <a:t>: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وهي غالباً كاربوكسيل "رغم كون الكاربوكسيل في البنية العامة الدائمة", ويعطى بواسطتها أملاح قلوية (سريعة الطرح) وأمينية وإسترات (مديدة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666729"/>
                </a:solidFill>
                <a:latin typeface="Monotype Corsiva"/>
                <a:ea typeface="PT Bold Heading"/>
              </a:rPr>
              <a:t>3- </a:t>
            </a:r>
            <a:r>
              <a:rPr b="0" lang="ar-SY" sz="3600" spc="-1" strike="noStrike">
                <a:solidFill>
                  <a:srgbClr val="666729"/>
                </a:solidFill>
                <a:latin typeface="Monotype Corsiva"/>
                <a:cs typeface="PT Bold Heading"/>
              </a:rPr>
              <a:t>خواص تعود لجذر أسيتوكسي متيل</a:t>
            </a:r>
            <a:r>
              <a:rPr b="0" lang="ar-SY" sz="3600" spc="-1" strike="noStrike">
                <a:solidFill>
                  <a:srgbClr val="666729"/>
                </a:solidFill>
                <a:latin typeface="Monotype Corsiva"/>
                <a:ea typeface="PT Bold Heading"/>
              </a:rPr>
              <a:t>: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قرب هذا الجذر من الرابط المضاعف الموجود في حلقة الثيازين يجعل منه إستراً ذا فعالية كيميائية نشيطة, فالسيفالوسبورين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C</a:t>
            </a:r>
            <a:r>
              <a:rPr b="0" lang="ar-SY" sz="3200" spc="-1" strike="noStrike">
                <a:solidFill>
                  <a:srgbClr val="000000"/>
                </a:solidFill>
                <a:latin typeface="Monotype Corsiva"/>
                <a:ea typeface="Traditional Arabic"/>
              </a:rPr>
              <a:t> يتحلمه بسهولة بتأثي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أ- إنزيمات الإستراز                  الغول المرافق 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Monotype Corsiva"/>
                <a:cs typeface="Traditional Arabic"/>
              </a:rPr>
              <a:t>ب- الحموض                   غولاً يكون إستراً داخلياً يعرف بالاكتون وذلك مع جذر الكاربوكسيل المجاو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3808080" y="3462480"/>
            <a:ext cx="16016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265280" y="4086360"/>
            <a:ext cx="16016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ehna</cp:lastModifiedBy>
  <dcterms:modified xsi:type="dcterms:W3CDTF">2005-12-29T16:11:13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