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1CE-7DAE-4435-AFD0-64781510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6FC-A39D-47EC-AB2A-7EB5BB67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06B-D7BD-4BBF-8D51-E0AD3197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F81-C3C6-4A70-83C1-2878C2DA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6738-5328-4BFC-AB32-F0C7757B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3C2D-5B74-4420-8CEE-289283C9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BE8A-57AB-4DD5-B153-AE120B29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BF53-7478-46C0-9F05-4EAB4A36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BC5B-338E-462E-AB84-04E240BE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4613-5BA1-4541-AB7D-8647128E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0FF3-DC98-4496-B674-D3574F1C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138-4A8D-41E4-B755-B2E3FFC8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2666-789E-46B6-8718-CD0B4590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57CD-F3F1-4482-8A48-7586C8B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09E9-201D-4400-8105-7B673A72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CA7B-D2E0-4DDD-A753-5D4F281A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FD08-343A-47D7-884D-57665C51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884-2EAD-4DEF-A4A1-5AEA455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313-E006-4C47-AFDA-27A8B72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2C1-C294-4A9F-A895-CA1CA519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D0F-DA0C-4677-8B21-FC974F55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67E-0D0D-4420-9880-00C9BC3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AD1-0805-4718-A839-A0CA5C5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100-50D2-4E3E-9B7A-D06D8743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FC60-5CAA-4CD7-A094-0A843E877BE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9D77-BF92-479D-A8E4-4BBEF58D7B1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369800"/>
            <a:ext cx="7194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8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سيفالوسبورينات</a:t>
            </a:r>
            <a:endParaRPr b="0" lang="en-US" sz="80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334280" cy="4017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89480" y="2552760"/>
            <a:ext cx="1234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stera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3400560"/>
            <a:ext cx="838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4- 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خواص تعود لمجموعة الأمين في الموقع 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7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لا يعرف حتى الآن أي أنزيم أميداز يستطيع أن يحلمه الوظيفة الأميدية على الفحم 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ولاكن ذلك يحدث بتأثير الحموض, ويعطي حمض أمينو سيفالوسبوراني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علاقة البنية بالتأثير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خلال البحث عن سيفالوسبورينات جديدة كان الاهتمام منصباً تحو مركبات جديدة بغية مقاومتها لأنزيم البنسليناز, لاستخدامها في الإنتانات المعندة على المعندة على البنسلي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وقد تركز البحث في </a:t>
            </a:r>
            <a:r>
              <a:rPr b="1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عدة اتجاهات</a:t>
            </a:r>
            <a:r>
              <a:rPr b="0" lang="ar-SA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71629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تجاه الأول: إدخال جذر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على الموقع 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طريق المعتمد هنا هو: أسيلة حمض </a:t>
            </a:r>
            <a:r>
              <a:rPr b="0" lang="ar-SY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0" lang="ar-SY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أمينو سيفالوسبورانيك, وقد تم الحصول على الجيل الأول من السيفالوسبورينات نصف الصنعية مثل سيفالوتي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تجاه الثاني: استبدال جذر مكان الأسيتوكسي "موقع 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3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”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حيث تم استبدال مجموعات ذات خواص قلوية ضعيفة مكان هذا الجذر, وتم الحصول على السيفالوريدين بمعالجة السيفالوتين مع البيريدي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71629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7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تجاه الثالث: إدخال جذر من نموذج               "موقع </a:t>
            </a:r>
            <a:r>
              <a:rPr b="1" lang="ar-SY" sz="37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1" lang="ar-SY" sz="37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3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وذلك بالمشابهة مع الأمبيسلين .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3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وتم الحصول على السيفالوغاميسين. إذاً إدخال هذا الجذر أضفى على السيفالوسبورينات إمكانية الاستخدام عن طريق الف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 rtl="1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7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تجاه الرابع: مقارنة ببنية البنسللينات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3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يعتمد على تحويل النواة الخماسية إلى سداسية ولكن هذا الاتجاه تعثر لصعوبة الاصطناع وقلة المردود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371600" y="609480"/>
            <a:ext cx="12384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عائلة الأولى: (الجيل الأول)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66960" y="-544680"/>
            <a:ext cx="121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66960" y="-544680"/>
            <a:ext cx="121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66960" y="-544680"/>
            <a:ext cx="121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52280" y="990720"/>
          <a:ext cx="8382240" cy="5549760"/>
        </p:xfrm>
        <a:graphic>
          <a:graphicData uri="http://schemas.openxmlformats.org/drawingml/2006/table">
            <a:tbl>
              <a:tblPr/>
              <a:tblGrid>
                <a:gridCol w="1316160"/>
                <a:gridCol w="2211480"/>
                <a:gridCol w="1877760"/>
                <a:gridCol w="884520"/>
                <a:gridCol w="1012680"/>
                <a:gridCol w="1079640"/>
              </a:tblGrid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ركب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جرع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ستعما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متصاص والإطرا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فادروكسي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H</a:t>
                      </a:r>
                      <a:r>
                        <a:rPr b="0" lang="en-US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0.2-0.6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r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كل 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ات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جميعها فعالة ضد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</a:t>
                      </a:r>
                      <a:r>
                        <a:rPr b="0" lang="en-US" sz="2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+</a:t>
                      </a: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و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</a:t>
                      </a:r>
                      <a:r>
                        <a:rPr b="0" lang="en-US" sz="2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مقاومة للبنسليناز ضد </a:t>
                      </a:r>
                      <a:r>
                        <a:rPr b="0" lang="en-US" sz="2100" spc="-1" strike="noStrike">
                          <a:solidFill>
                            <a:srgbClr val="993300"/>
                          </a:solidFill>
                          <a:latin typeface="Times New Roman"/>
                          <a:ea typeface="Traditional Arabic"/>
                        </a:rPr>
                        <a:t>E.coli</a:t>
                      </a: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المكورات العنقودية الذهبي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يعد امتصاص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00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مغ يصل للتركيز الأعظمي بعد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أدوية الجيل الثالث قادرة على دخول الدما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يمكن الإعطاء الفموي لكن الأغلب حقنا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يتم الطرح عن طريق الرشح الكبيبي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فالكسي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H</a:t>
                      </a:r>
                      <a:r>
                        <a:rPr b="0" lang="en-US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0.25-0.5gr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كل 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ات فمو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فرادي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H</a:t>
                      </a:r>
                      <a:r>
                        <a:rPr b="0" lang="en-US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0.25-0.5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ابيري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-6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Max 12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فالوتي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-4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حتى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33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ازولين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0.5-1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P.O, IM, I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133720" y="1600200"/>
          <a:ext cx="11620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162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33720" y="2514600"/>
          <a:ext cx="100944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514600"/>
                    <a:ext cx="10094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057400" y="3429000"/>
          <a:ext cx="10666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429000"/>
                    <a:ext cx="1066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981080" y="4267080"/>
          <a:ext cx="128592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4267080"/>
                    <a:ext cx="12859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057400" y="4952880"/>
          <a:ext cx="981000" cy="4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4952880"/>
                    <a:ext cx="981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109960" y="5781600"/>
          <a:ext cx="981000" cy="466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09960" y="5781600"/>
                    <a:ext cx="981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67360" y="5781600"/>
          <a:ext cx="107604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67360" y="5781600"/>
                    <a:ext cx="1076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114800" y="4876920"/>
          <a:ext cx="1047600" cy="49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4876920"/>
                    <a:ext cx="1047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114800" y="4191120"/>
          <a:ext cx="1047600" cy="495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4191120"/>
                    <a:ext cx="1047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086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يعطى السيفالوتين فموياً ووريدياً ومع المصل لكنه يحدث ألماً شديداً في الحقن العضل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كل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1mg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سيفالوتين تعادل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938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وحدة دو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يعطى السيفرادين فموياً ووريدياً وعضلي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ستخد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جرثم الدم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Bactremia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تهاب الأذن الوسطى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Otitis media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تهاب الجهاز التنفسي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espiratory tract infections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تهاب العظام والمفاص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تهاب الجلد والأنسجة الرخو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7391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يترافق استخدام السيفالوسبورينات مع تفاعلات تحسسية أرجية: طفح جل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عندما يكون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7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تساعد على انحلالية سريعة مع الحفاظ على الفعالية العلاجية, يكون المركب أقل س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سبب هذه المركبات وخاصة الأملاح الأمينية ألماً أثناء الحقن العضلي, وتكون عادة عالية السمية, وتزداد تلك السمية عند مشاركتها مع مركبات مثل الأمينو غليكوزي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سبب الأدوية التي تحوي زمرة مثل ثيوتترازول نقصاً في البروثروم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كون هذه المركبات وحسب طبيعة الملح ذات تأثير مديد أو سريعة الانطراح, وإن أكثر الأملاح المستخدمة صودية, ومتوسط عمرها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2h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عائلة الثانية: (الجيل الثاني)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590920" y="3048120"/>
          <a:ext cx="100944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048120"/>
                    <a:ext cx="10094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724280" y="4267080"/>
          <a:ext cx="108612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267080"/>
                    <a:ext cx="10861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666880" y="4191120"/>
          <a:ext cx="102888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191120"/>
                    <a:ext cx="10288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648320" y="5638680"/>
          <a:ext cx="104760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5638680"/>
                    <a:ext cx="1047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590920" y="5486400"/>
          <a:ext cx="129528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486400"/>
                    <a:ext cx="1295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866960" y="942840"/>
            <a:ext cx="14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66960" y="942840"/>
            <a:ext cx="122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66960" y="942840"/>
            <a:ext cx="14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66960" y="942840"/>
            <a:ext cx="122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66960" y="942840"/>
            <a:ext cx="14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295280"/>
          <a:ext cx="8001000" cy="5380200"/>
        </p:xfrm>
        <a:graphic>
          <a:graphicData uri="http://schemas.openxmlformats.org/drawingml/2006/table">
            <a:tbl>
              <a:tblPr/>
              <a:tblGrid>
                <a:gridCol w="1623960"/>
                <a:gridCol w="2113200"/>
                <a:gridCol w="1805040"/>
                <a:gridCol w="1095120"/>
                <a:gridCol w="1363680"/>
              </a:tblGrid>
              <a:tr h="105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ركب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ستعما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متصاص والإطرا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اكلو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efachlo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سيفاكلور هو الوحيد الذي يعطى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P.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عند حقن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غرام: يصل إلى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5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/m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و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0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/ml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للثاني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قد تصل الجرعة لـ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غرام\يوم</a:t>
                      </a: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توسط عمر هذه الأدوية يختلف حسب المركب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وغالباً بي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-8h</a:t>
                      </a: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ويصل إلى حوالي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ة في السفوروكسي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امندو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efamendo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وروكسي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eforoxi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7467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ستعم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عطى هذه المركبات للحالات التي لم تستجب للأمبيسللين والأموكسيسللين, وتستخدم بشكل فعال ضد جراثيم الأنفلونزا, إلتهاب السحايا, الجراثيم اللاهوائية, إضافة إلى تأثيرها على جراثيم الكلبسيلا وإيجابيات الغرام الـ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E.coli</a:t>
            </a:r>
            <a:r>
              <a:rPr b="0" lang="ar-SY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ملاحظة:</a:t>
            </a:r>
            <a:r>
              <a:rPr b="0" lang="ar-SY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مركبات الجيل الثاني تمتاز بطيف أوسع وخاصة على سلبيات الغرام "من الجيل الأول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63520" y="12193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زدات المقاومة الجرثومية تجاه البنسلينات مما أدى لإجراء بعض التعديلات على بنيتها مما لفت الأنظار إلى السيفالوسبورينات, التي تملك بنية مشابهة للبنسلي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هدف من التفكير في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زيادة المقاومة لأنزيم البنسلينا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زيادة زمن التأث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عائلة الثالثة</a:t>
            </a:r>
            <a:r>
              <a:rPr b="1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متاز بقدرة عالية على اجتياز الـ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B.B.B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كما تمتاز بفعالية زائدة نحو الجراثيم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ومعظمها فعال ضد الأنتروباكتريوم. الصيغة العامة لهذه المركب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ملاحظة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: وجود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OCH3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يعني أن المركب من العائلة الثالثة, ولكن ليس بالضرورة وجود هذه الزمرة في جميع مركبات الجيل الثال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514600" y="2895480"/>
            <a:ext cx="28576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2057400" y="1828800"/>
            <a:ext cx="2647800" cy="554040"/>
            <a:chOff x="2057400" y="1828800"/>
            <a:chExt cx="2647800" cy="554040"/>
          </a:xfrm>
        </p:grpSpPr>
        <p:graphicFrame>
          <p:nvGraphicFramePr>
            <p:cNvPr id="273" name=""/>
            <p:cNvGraphicFramePr/>
            <p:nvPr/>
          </p:nvGraphicFramePr>
          <p:xfrm>
            <a:off x="3657600" y="1905120"/>
            <a:ext cx="1047600" cy="47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1905120"/>
                      <a:ext cx="104760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2057400" y="1828800"/>
            <a:ext cx="885960" cy="46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7400" y="1828800"/>
                      <a:ext cx="8859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7" name=""/>
          <p:cNvGrpSpPr/>
          <p:nvPr/>
        </p:nvGrpSpPr>
        <p:grpSpPr>
          <a:xfrm>
            <a:off x="1752480" y="3124080"/>
            <a:ext cx="3124080" cy="974520"/>
            <a:chOff x="1752480" y="3124080"/>
            <a:chExt cx="3124080" cy="974520"/>
          </a:xfrm>
        </p:grpSpPr>
        <p:graphicFrame>
          <p:nvGraphicFramePr>
            <p:cNvPr id="278" name=""/>
            <p:cNvGraphicFramePr/>
            <p:nvPr/>
          </p:nvGraphicFramePr>
          <p:xfrm>
            <a:off x="3809880" y="3352680"/>
            <a:ext cx="1066680" cy="48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352680"/>
                      <a:ext cx="10666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1752480" y="3124080"/>
            <a:ext cx="1333440" cy="97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52480" y="3124080"/>
                      <a:ext cx="1333440" cy="9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2" name=""/>
          <p:cNvGrpSpPr/>
          <p:nvPr/>
        </p:nvGrpSpPr>
        <p:grpSpPr>
          <a:xfrm>
            <a:off x="1828800" y="4419720"/>
            <a:ext cx="3029040" cy="533160"/>
            <a:chOff x="1828800" y="4419720"/>
            <a:chExt cx="3029040" cy="533160"/>
          </a:xfrm>
        </p:grpSpPr>
        <p:graphicFrame>
          <p:nvGraphicFramePr>
            <p:cNvPr id="283" name=""/>
            <p:cNvGraphicFramePr/>
            <p:nvPr/>
          </p:nvGraphicFramePr>
          <p:xfrm>
            <a:off x="3809880" y="4419720"/>
            <a:ext cx="1047960" cy="47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9880" y="4419720"/>
                      <a:ext cx="10479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1828800" y="4419720"/>
            <a:ext cx="1295280" cy="53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828800" y="4419720"/>
                      <a:ext cx="12952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7" name=""/>
          <p:cNvGrpSpPr/>
          <p:nvPr/>
        </p:nvGrpSpPr>
        <p:grpSpPr>
          <a:xfrm>
            <a:off x="1909800" y="5153040"/>
            <a:ext cx="2752560" cy="725400"/>
            <a:chOff x="1909800" y="5153040"/>
            <a:chExt cx="2752560" cy="725400"/>
          </a:xfrm>
        </p:grpSpPr>
        <p:graphicFrame>
          <p:nvGraphicFramePr>
            <p:cNvPr id="288" name=""/>
            <p:cNvGraphicFramePr/>
            <p:nvPr/>
          </p:nvGraphicFramePr>
          <p:xfrm>
            <a:off x="3586320" y="5153040"/>
            <a:ext cx="1076040" cy="725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86320" y="5153040"/>
                      <a:ext cx="1076040" cy="72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1909800" y="5229360"/>
            <a:ext cx="1181160" cy="523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909800" y="5229360"/>
                      <a:ext cx="1181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2" name=""/>
          <p:cNvSpPr/>
          <p:nvPr/>
        </p:nvSpPr>
        <p:spPr>
          <a:xfrm>
            <a:off x="-457200" y="-142920"/>
            <a:ext cx="1212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457200" y="-142920"/>
            <a:ext cx="147168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457200" y="-142920"/>
            <a:ext cx="1212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457200" y="-142920"/>
            <a:ext cx="147168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457200" y="-142920"/>
            <a:ext cx="1212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457200" y="-142920"/>
            <a:ext cx="147168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457200" y="-142920"/>
            <a:ext cx="1212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4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7560" y="254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320" y="534960"/>
          <a:ext cx="7619760" cy="5408640"/>
        </p:xfrm>
        <a:graphic>
          <a:graphicData uri="http://schemas.openxmlformats.org/drawingml/2006/table">
            <a:tbl>
              <a:tblPr/>
              <a:tblGrid>
                <a:gridCol w="1371240"/>
                <a:gridCol w="1727280"/>
                <a:gridCol w="1881360"/>
                <a:gridCol w="1550880"/>
                <a:gridCol w="10890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رك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ستعما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متصاص والإطرا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وكسيتي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يدخل السفوكسيتين المراكز العصبية فيمكن استخدامه لالتهاب السحايا مع السيفوبيرازو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h</a:t>
                      </a:r>
                      <a:r>
                        <a:rPr b="0" lang="en-US" sz="1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/2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-8h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يمكن أخذه حقنة عضلية كل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4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ة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وبيرازو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h</a:t>
                      </a:r>
                      <a:r>
                        <a:rPr b="0" lang="en-US" sz="1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/2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h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تؤخذ حقنة كل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ات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وتاكسي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تطرح عن طريق البول والجهاز الهضمي..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وكسالاكتو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-674640" y="6171480"/>
            <a:ext cx="9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وتمتاز مركبات هذه العائلة بثبات عال ضد أنزيمات البنسلليناز والسفالوسبوريناز وتمتلك طيفاً واسعا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صيغة العامة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3508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مقارنة بالبنسلينات تمتاز السيفالوسبورينات ب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حول الحلقة الثيازولية الخماسية إلى حلقة ثيازين سد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يوجد جذران متغيران في بنية السيفالوسبورينات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و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7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بينما كان يوجد جذر وحيد في البنسلي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كما يتضح أن السيفالوسبورينات يمكن أن تعتبر مشتقة من حمض أمينو-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سيفالوسبورانيك, والانطلاق في اصطناعها منه بالأسي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104920" y="876240"/>
            <a:ext cx="3670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1629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ونظراً لهذه الصيغة: يمكن تغيير عدة جذور في البنية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7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كما يمكن إدخال الجذر الجديد على الموقع 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2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بدل الهيدروجين في توسيع الطيف الجرثومي, أما الجذر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فأهميته مزدوجة ف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الحرائ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وفي تقوية الرابطة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لاكتا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آلية التأثير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عمل بآلية تثبيط اصطناع الجدار الخلوي, حيث تكون آلية التأثير المشابهة للبنسلينات, عن طريق تثبيط اصطناع الـ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PBPs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(البروتينات الرابطة للبنسلين), ومن ثم تثبيط اصطناع الجدار </a:t>
            </a:r>
            <a:r>
              <a:rPr b="0" lang="ar-SA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خلو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9600" y="2886120"/>
            <a:ext cx="704556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7200" spc="-1" strike="noStrike">
                <a:solidFill>
                  <a:srgbClr val="000000"/>
                </a:solidFill>
                <a:latin typeface="Monotype Corsiva"/>
                <a:cs typeface="PT Bold Heading"/>
              </a:rPr>
              <a:t>الخواص الكيميائ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1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- خواص تعود لحلقة الـ </a:t>
            </a:r>
            <a:r>
              <a:rPr b="0" lang="en-US" sz="3600" spc="-1" strike="noStrike">
                <a:solidFill>
                  <a:srgbClr val="666729"/>
                </a:solidFill>
                <a:latin typeface="Symbol"/>
                <a:ea typeface="Symbol"/>
              </a:rPr>
              <a:t>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- لاكتام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إن حلقة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لاكتام هي المركز الأكثر أهمية وضعفاً في بنية السيفالوسبورينات فهي سهلة الفتح بالكواشف المحبة للإلكترونات والمحبة للنواة, ورغم ذلك فهي أشد مقاومة للحلمهة من حلقة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لاكتام الموجودة في البنسلينات والسبب ه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حلقة السداسية في بنية السفالوسبوري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إضافة إلى الجذر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الذي يلعب دوراً في التوزع الألكتروني وتقوية حلقة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لاكتام عدا عن دوره بالحرك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2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- خواص تعود للجذر في الموقع 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4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وهي غالباً كاربوكسيل "رغم كون الكاربوكسيل في البنية العامة الدائمة", ويعطى بواسطتها أملاح قلوية (سريعة الطرح) وأمينية وإسترات (مديد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3- 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خواص تعود لجذر أسيتوكسي متيل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قرب هذا الجذر من الرابط المضاعف الموجود في حلقة الثيازين يجعل منه إستراً ذا فعالية كيميائية نشيطة, فالسيفالوسبورين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C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يتحلمه بسهولة بتأث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أ- إنزيمات الإستراز                  الغول المرافق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ب- الحموض                   غولاً يكون إستراً داخلياً يعرف بالاكتون وذلك مع جذر الكاربوكسيل المجا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808080" y="3462480"/>
            <a:ext cx="1601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265280" y="4086360"/>
            <a:ext cx="1601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hna</cp:lastModifiedBy>
  <dcterms:modified xsi:type="dcterms:W3CDTF">2005-12-29T16:11:1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